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534520" y="6400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14C2-C9AF-42AB-97CC-BE04D9E4C1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561960" y="1600200"/>
            <a:ext cx="8001000" cy="478692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700" spc="-1" strike="noStrike">
                <a:solidFill>
                  <a:srgbClr val="000000"/>
                </a:solidFill>
                <a:latin typeface="Times New Roman"/>
              </a:rPr>
              <a:t>BUDŻET MIASTA HELU             ZA 2008 ROK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6800" y="138240"/>
            <a:ext cx="762012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tacje przekazane z budżetu mia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3600" y="847800"/>
          <a:ext cx="8953560" cy="55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0" y="847800"/>
                    <a:ext cx="895356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61960" y="1600200"/>
            <a:ext cx="8001000" cy="244044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700" spc="-1" strike="noStrike">
                <a:solidFill>
                  <a:srgbClr val="000000"/>
                </a:solidFill>
                <a:latin typeface="Times New Roman"/>
              </a:rPr>
              <a:t>DZIĘKUJĘ ZA UWAGĘ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066680" y="152280"/>
            <a:ext cx="701064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Y I REALIZACJA BUDŻ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" name=""/>
          <p:cNvGraphicFramePr/>
          <p:nvPr/>
        </p:nvGraphicFramePr>
        <p:xfrm>
          <a:off x="93600" y="846000"/>
          <a:ext cx="8953560" cy="557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0" y="846000"/>
                    <a:ext cx="8953560" cy="557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" name=""/>
          <p:cNvSpPr/>
          <p:nvPr/>
        </p:nvSpPr>
        <p:spPr>
          <a:xfrm>
            <a:off x="1828800" y="1752480"/>
            <a:ext cx="3657600" cy="1015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uchwał Rady Mia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zarządzenia burmist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52280"/>
            <a:ext cx="701064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Y I REALIZACJA BUDŻ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7760" y="858960"/>
          <a:ext cx="897264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858960"/>
                    <a:ext cx="89726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152280"/>
            <a:ext cx="701064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SADNICZE DOCHODY BUDŻET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6200" y="873000"/>
          <a:ext cx="8942400" cy="55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873000"/>
                    <a:ext cx="8942400" cy="55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752480" y="43434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5,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4800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5,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4952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4,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29280" y="5105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4,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,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,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,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54864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7,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152280"/>
            <a:ext cx="701064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SADNICZE DOCHODY BUDŻET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0360" y="87300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87300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66680" y="152280"/>
            <a:ext cx="701064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SADNICZE WYDATKI BUDŻET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31760" y="846000"/>
          <a:ext cx="8848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846000"/>
                    <a:ext cx="8848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152280"/>
            <a:ext cx="701064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SADNICZE WYDATKI BUDŻET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2160" y="860400"/>
          <a:ext cx="89438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860400"/>
                    <a:ext cx="89438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6800" y="138240"/>
            <a:ext cx="762012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port i łą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2160" y="860400"/>
          <a:ext cx="8956440" cy="55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860400"/>
                    <a:ext cx="895644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6800" y="138240"/>
            <a:ext cx="7620120" cy="52056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spodarka komunalna i ochrona środowi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3600" y="846000"/>
          <a:ext cx="895356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0" y="846000"/>
                    <a:ext cx="895356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1:40:37Z</dcterms:created>
  <dc:creator>Marcin</dc:creator>
  <dc:description/>
  <dc:language>en-US</dc:language>
  <cp:lastModifiedBy>Marcin</cp:lastModifiedBy>
  <dcterms:modified xsi:type="dcterms:W3CDTF">2009-04-17T07:03:54Z</dcterms:modified>
  <cp:revision>9</cp:revision>
  <dc:subject/>
  <dc:title>Prezentacja programu PowerPoint</dc:title>
</cp:coreProperties>
</file>