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345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801A-2D28-4711-8BAE-B57E1097D7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61960" y="1600200"/>
            <a:ext cx="8001000" cy="478692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000000"/>
                </a:solidFill>
                <a:latin typeface="Times New Roman"/>
              </a:rPr>
              <a:t>BUDŻET MIASTA HELU             ZA 2008 ROK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tacje przekazane z budżetu mi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3600" y="847800"/>
          <a:ext cx="8953560" cy="55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7800"/>
                    <a:ext cx="895356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61960" y="1600200"/>
            <a:ext cx="8001000" cy="244044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Y I REALIZACJA BUDŻ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93600" y="846000"/>
          <a:ext cx="8953560" cy="557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6000"/>
                    <a:ext cx="8953560" cy="557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1828800" y="1752480"/>
            <a:ext cx="3657600" cy="1015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uchwał Rady Mi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zarządzenia burmist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Y I REALIZACJA BUDŻ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7760" y="858960"/>
          <a:ext cx="89726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858960"/>
                    <a:ext cx="89726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DOCHODY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6200" y="873000"/>
          <a:ext cx="894240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873000"/>
                    <a:ext cx="894240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52480" y="434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5,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,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952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,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29280" y="5105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,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,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,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,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5486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,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DOCHODY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360" y="87300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87300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WYDATKI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1760" y="846000"/>
          <a:ext cx="8848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846000"/>
                    <a:ext cx="8848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WYDATKI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160" y="860400"/>
          <a:ext cx="89438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60400"/>
                    <a:ext cx="89438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 i łą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2160" y="860400"/>
          <a:ext cx="89564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60400"/>
                    <a:ext cx="89564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spodarka komunalna i ochrona środow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3600" y="846000"/>
          <a:ext cx="89535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6000"/>
                    <a:ext cx="89535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40:37Z</dcterms:created>
  <dc:creator>Marcin</dc:creator>
  <dc:description/>
  <dc:language>en-US</dc:language>
  <cp:lastModifiedBy>Marcin</cp:lastModifiedBy>
  <dcterms:modified xsi:type="dcterms:W3CDTF">2009-04-17T07:03:54Z</dcterms:modified>
  <cp:revision>9</cp:revision>
  <dc:subject/>
  <dc:title>Prezentacja programu PowerPoint</dc:title>
</cp:coreProperties>
</file>