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251C-7CE3-437A-8257-52B8D1749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9E98-8DE8-4D54-9D85-98958357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B7E0-5E60-4B01-B769-14181E959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C13F-13A3-4E5C-8E39-9231F1F5E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7501-AAD4-4BAC-9C7F-E7C35CAF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D9BB-2588-43A6-8D9E-5F931960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70D1-5F7E-4495-8C43-CBE1F93B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2B64-2B4A-4F58-85A2-2FB15FEF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789B-3932-471D-8AC3-A8436A3B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9E9A-64FF-43AB-BB5C-4870A46B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4AD8-CCD1-4A77-A2BE-CD791E7E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1FB6-8FC3-4307-AC30-2680093A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54AE-0609-44CB-9315-F133495E7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5440" y="2149560"/>
            <a:ext cx="7920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TRUKTURA MIESZKAŃCÓW HELU NA KONIEC 2010 ROK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88920" y="1144440"/>
          <a:ext cx="8953560" cy="549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144440"/>
                    <a:ext cx="8953560" cy="549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1179360" y="189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kład grupy wiekowej osób produkcyjn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95400" y="1193760"/>
          <a:ext cx="8991360" cy="552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" y="1193760"/>
                    <a:ext cx="899136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179360" y="189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kład grupy wiekowej osób poprodukcyjn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01520" y="1065240"/>
          <a:ext cx="8953560" cy="562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1065240"/>
                    <a:ext cx="8953560" cy="56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598320" y="189000"/>
            <a:ext cx="79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ameldowanie i wymeldowanie mieszkańców w 2010 ro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087640" y="1542960"/>
            <a:ext cx="4968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Dziękuję za 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uwagę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00080" y="928800"/>
          <a:ext cx="8905680" cy="56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80" y="928800"/>
                    <a:ext cx="8905680" cy="56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3851280" y="1844640"/>
            <a:ext cx="4608360" cy="8636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 ciągu 10 lat zmiana o 700 mieszkańc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26028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czba mieszkańców w latach 2000 -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39680" y="1015920"/>
          <a:ext cx="8877240" cy="56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1015920"/>
                    <a:ext cx="8877240" cy="56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3348000" y="1268280"/>
            <a:ext cx="5184720" cy="576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 ciągu 5 lat zmiana o 171 mieszkańc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26028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czba mieszkańców w latach 2006 -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1520" y="1106640"/>
          <a:ext cx="8915400" cy="55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1106640"/>
                    <a:ext cx="8915400" cy="55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dział kobiet i mężczyzn w ogólnej liczbie mieszkańc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15920" y="1166760"/>
          <a:ext cx="892476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920" y="1166760"/>
                    <a:ext cx="892476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122480" y="260280"/>
            <a:ext cx="68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miana liczby kobiet w trzech ostatnich lat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27080" y="1065240"/>
          <a:ext cx="8877240" cy="55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80" y="1065240"/>
                    <a:ext cx="8877240" cy="55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122480" y="260280"/>
            <a:ext cx="68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miana liczby mężczyzn w trzech ostatnich lat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5400" y="1027080"/>
          <a:ext cx="8953200" cy="55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" y="1027080"/>
                    <a:ext cx="8953200" cy="55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484200" y="26028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elkość procentowa grup wiekowych mieszkańc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15920" y="1130400"/>
          <a:ext cx="892476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920" y="1130400"/>
                    <a:ext cx="892476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251080" y="18900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kład grupy wiekowej dzi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03320" y="1017720"/>
          <a:ext cx="8962920" cy="56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320" y="1017720"/>
                    <a:ext cx="8962920" cy="56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2251080" y="18900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kład grupy wiekowej młodzież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9T11:06:45Z</dcterms:created>
  <dc:creator>Mirosław</dc:creator>
  <dc:description/>
  <dc:language>en-US</dc:language>
  <cp:lastModifiedBy>UM-ST14</cp:lastModifiedBy>
  <dcterms:modified xsi:type="dcterms:W3CDTF">2011-02-24T06:53:37Z</dcterms:modified>
  <cp:revision>4</cp:revision>
  <dc:subject/>
  <dc:title>Slajd 1</dc:title>
</cp:coreProperties>
</file>