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8C1-85F8-4690-80A8-4BCB8907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71F-11A8-493B-A49C-4578EC2D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75E-C902-4F12-BA45-D1E8A69C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5FE-F2D8-466A-A746-BB2E9BAB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E9C-3568-4D16-8F0D-5E25420F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709-CC66-422B-8B3E-A48CD1B7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266-D0F4-474E-9BD3-918DE5FD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760-B89F-489D-9E66-A9EE4E5C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014-F280-4AFA-B629-F03D2A10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5CE-2DA4-466E-BCA7-BF3052CF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9E3-CD6E-47D4-BFB4-A4C11FC6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0FE-9F4B-4502-BF81-45420BB9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DAA8-B69E-4B1B-9A68-8FBF2E3CA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5440" y="2149560"/>
            <a:ext cx="79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RUKTURA MIESZKAŃCÓW HELU NA KONIEC 2010 ROK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8920" y="1144440"/>
          <a:ext cx="8953560" cy="549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144440"/>
                    <a:ext cx="8953560" cy="54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179360" y="189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ład grupy wiekowej osób produkcyj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5400" y="1193760"/>
          <a:ext cx="899136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193760"/>
                    <a:ext cx="899136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179360" y="189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ład grupy wiekowej osób poprodukcyj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01520" y="1065240"/>
          <a:ext cx="8953560" cy="56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065240"/>
                    <a:ext cx="895356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98320" y="18900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meldowanie i wymeldowanie mieszkańców w 2010 r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87640" y="1542960"/>
            <a:ext cx="496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Dziękuję za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uwag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00080" y="928800"/>
          <a:ext cx="8905680" cy="56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928800"/>
                    <a:ext cx="8905680" cy="56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851280" y="1844640"/>
            <a:ext cx="4608360" cy="86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ciągu 10 lat zmiana o 700 mieszkań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a mieszkańców w latach 2000 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39680" y="1015920"/>
          <a:ext cx="8877240" cy="56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015920"/>
                    <a:ext cx="887724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348000" y="1268280"/>
            <a:ext cx="5184720" cy="576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ciągu 5 lat zmiana o 171 mieszkań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a mieszkańców w latach 2006 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1520" y="1106640"/>
          <a:ext cx="891540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106640"/>
                    <a:ext cx="891540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dział kobiet i mężczyzn w ogólnej liczbie mieszkań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920" y="1166760"/>
          <a:ext cx="892476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1166760"/>
                    <a:ext cx="892476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122480" y="26028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miana liczby kobiet w trzech ostatnich la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27080" y="1065240"/>
          <a:ext cx="8877240" cy="55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065240"/>
                    <a:ext cx="887724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122480" y="26028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miana liczby mężczyzn w trzech ostatnich la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5400" y="1027080"/>
          <a:ext cx="8953200" cy="55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27080"/>
                    <a:ext cx="895320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84200" y="260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elkość procentowa grup wiekowych mieszkań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15920" y="1130400"/>
          <a:ext cx="892476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1130400"/>
                    <a:ext cx="89247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51080" y="1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ład grupy wiekowej dz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3320" y="1017720"/>
          <a:ext cx="8962920" cy="56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20" y="1017720"/>
                    <a:ext cx="896292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51080" y="1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ład grupy wiekowej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1:06:45Z</dcterms:created>
  <dc:creator>Mirosław</dc:creator>
  <dc:description/>
  <dc:language>en-US</dc:language>
  <cp:lastModifiedBy>UM-ST14</cp:lastModifiedBy>
  <dcterms:modified xsi:type="dcterms:W3CDTF">2011-02-24T06:53:37Z</dcterms:modified>
  <cp:revision>4</cp:revision>
  <dc:subject/>
  <dc:title>Slajd 1</dc:title>
</cp:coreProperties>
</file>