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492-C78E-4282-B9CF-1401C1A10E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B8C4-3B1F-4E1F-B187-B50B7F3551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9657-C654-4CA5-A697-B84F5A300E40}" type="slidenum">
              <a:rPr b="0" lang="pl-PL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708-6B8A-4397-A994-C6C59404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F72-D96E-4FDF-A7D9-DF02E57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E3D-719F-48F0-8A2A-7A1A00C3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D8-CFC3-4747-A739-7AA95F69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3FD-0B89-4A52-8DC3-C2F3104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7DA-FFB2-45EE-8D39-C327B05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B82-8633-4BBF-8816-096159E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6F1-C824-41CA-842A-BDC1E46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40B-581B-440F-BC3B-54C01FA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EA6-10D5-4FAB-875F-F39891A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203-E3B3-4D89-862C-5F78440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97-5B5C-4273-A365-FFB6391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BAC-5613-4AC6-8CC7-FA099106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68360" y="5589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mbria"/>
              </a:rPr>
              <a:t>Gdańsk, 1 grudnia 2011 r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Spotkanie dotyczące aktualizacji „Planu Gospodarki Odpadami dla Województwa Pomorskiego”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Nowe regiony gospodarki odpadami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w województwie pomorskim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 Regionalne instalacje do przetwarzania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ambria"/>
              </a:rPr>
              <a:t>odpadów komunalnych</a:t>
            </a: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Kary-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podmioty prowadzące instalację wskazaną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mbria"/>
              </a:rPr>
              <a:t>w uchwale w sprawie wykonania WP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Odbiera od podmiotu odbierającego odpady komunalne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 właścicieli nieruchomości zmieszane odpady komunalne, odpady zielone lub pozostałości z sortowania odpadów komunalnych przeznaczonych do składowania,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oza regionu gospodarki odpadami-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za każdy Mg odebranych odp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ie zawiera umowy na zagospodarowanie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mieszanych odpadów komunalnych, odpadów zielonych lub pozostałości z sortowania odpadów komunalnych przeznaczonych do składowania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z podmiotem odbierającym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y komunalne od właścicieli nieruchomości, który wykonuje swoją działalność w ramach regionu gospodarki odpadami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- 1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Nie odbiera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mieszanych odpadów komunalnych, odpadów zielonych lub pozostałości z sortowania odpadów komunalnych przeznaczonych do składowania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od podmiotu przekazującego odpady komunalne do instalacji przewidzianej do zastępczej obsługi danego regionu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wskazanej w uchwale w sprawie wykonania WPGO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g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Gminy są obowiązane osiągnąć do dnia 31 grudnia 2020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 %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oziom recyklingu i przygotowania do ponownego użycia następujących frakcji odpadów komunalnych: papier, metal, tworzywa sztuczne, szkł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oziom recyklingu, przygotowania do ponownego użycia i odzysku odpadów budowlanych i rozbiórk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Gminy są obowiązane ograniczyć masę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Cambria"/>
              </a:rPr>
              <a:t>ulegających biodegradacji przekazywanych do składow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do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16 lipca 2013 r.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do nie więcej niż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do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16 lipca 2020 r.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do nie więcej niż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3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agowo całkowitej masy odpadów komunalnych ulegających biodegradacji przekazywanych do składowania, w stosunku do masy odpadów wytworzonych  w 199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Kary- g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mina, która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ie wykonuje obowiązku osiągnięcia określonych poziom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klingu, odzysku i przygotowania do ponownego użycia ww. frakcji odpadów o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ie wykonuje obowiązku ograniczenia masy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dpadów komunalnych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ulegającyc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biodegradacji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kazanych do składowania,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podlega karze pieniężnej obliczon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odrębnie dla wymaganego pozio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Karę pieniężną  oblicza się jako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iloczyn stawki opłaty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za zmieszane odpady komunalne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i brakującej masy odpadów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komunalnych, wyrażonej w Mg,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wymaganej do 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osiągnięcia odpowiedniego poziomu recyklingu, przygotowania do ponownego użycia i odzysku lub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ograniczenia masy odpadów komunalnych ulegających biodegradacji przekazanych do skład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Stawka opłaty za 1 Mg zmieszanych odpadów komunalnych w 2012 r.-</a:t>
            </a:r>
            <a:r>
              <a:rPr b="0" lang="en-US" sz="18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10,65 z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zykład obliczenia k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03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mina Miejska Tcz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162864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komunalnych wytworzonych w 2010 r. -         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1 030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50920" y="213372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wytworzonych w 2010 r. -  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4 393,4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4365720"/>
            <a:ext cx="8642160" cy="3988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dopuszczonych do składowania 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 2013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4 697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8360" y="2708280"/>
            <a:ext cx="3816360" cy="1106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zeskładowanych w 2010 r. -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3 302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932360" y="2708280"/>
            <a:ext cx="3600360" cy="122184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Masa odpadów biodegradowalnych zagospodarowanych w 2010 r.  innymi sposobami niż składowanie-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1 090,7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4941720"/>
            <a:ext cx="8642160" cy="67320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sa odpadów wymagająca zagospodarowania innymi sposobami niż składowanie   13 302,7- 4 697,7=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8 605 M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50920" y="5734080"/>
            <a:ext cx="8642160" cy="97812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Kara pieniężna obliczona w przypadku nie ograniczenia masy odpadów biodegradowalnych przekazywanych do składowania-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                                                  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8605 Mg x 110,65 zł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952 143 z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ek sprawozdawczy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dmiot odbierający odpady do gminy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kwartalne,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ońca miesiąca następującego po kwar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ójt, burmistrz, prezydent miasta do marszałka województwa oraz wojewódzkiego inspektora ochrony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roczne, do 31 marca następującego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rszałek województwa do ministra właściwego do spraw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roczne, do 15 lipca następującego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bowiązek sprawozdawczy będzie obejmował w szczególności osiągnię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ziomów odzysku, recyklingu i ograniczenia skład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legających biodegrad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mbria"/>
              </a:rPr>
              <a:t>Ważne term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98100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 stycz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ejście w życie usta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1 stycz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zaczyna działać rejestru działalności regulowanej -od tego dnia gmina nie wydaje zezwoleń na odbiór odpadów komunaln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kwietnia 2012 r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 Podmioty odbierające odpady komunalne składają pierwsze sprawozdanie kwart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0 czerwca 2012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- Sejmik województwa uchwala aktualizację wojewódzkiego planu gospodarki odp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stosowanie regulaminów utrzymania czystośc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 porządku w gminach do wojewódzkich planów gospodarki odp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odjęcie przez gminy uchwał (m.in. opłaty od mieszkańc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grudnia 2012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uzyskanie przez przedsiębiorców - działających na podstawie dotychczasowych zezwoleń - wpisu do rejestru działalności regulowa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1 marca 2013 r.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prawozdania gmin z realizacji zadań do marszałka woj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mbria"/>
              </a:rPr>
              <a:t>Do 30 czerwca 2013 r.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chodzą w życie uchwały Rad Gmin, gminy zaczynają pobierać opłaty i przejmują obowiązki właścicieli nieruchom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Deklaracje gmin do obszarów obsługi 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eklaracje do ZZO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Nowe 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Nowe regiony-podpisy-wariant II"/>
          <p:cNvPicPr/>
          <p:nvPr/>
        </p:nvPicPr>
        <p:blipFill>
          <a:blip r:embed="rId2"/>
          <a:stretch/>
        </p:blipFill>
        <p:spPr>
          <a:xfrm>
            <a:off x="755640" y="1052640"/>
            <a:ext cx="777708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mbria"/>
              </a:rPr>
              <a:t>Regiony gospodarki odpadami, w których funkcjonują instalacj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mbria"/>
              </a:rPr>
              <a:t>przetworzyć odpady komunalne z całego regionu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Szadół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Eko D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ółnocn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ołudni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Regiony gospodarki odpadami, w których funkcjonują instalacje NI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przetworzyć odpadów komunalnych z całego regionu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ółnoc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Południow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 Ws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y gospodarki odpadami, w których regionalne instalacje do przetwarzania odpadów, posiadają zdolności przerobowe wystarczające do przyjęcia          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Adresaci spotk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rządzający zakładami zagospodar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miny wiodące (największy udziałowiec) ZZ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ładze gmin, na terenie których zlokalizowane są 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rządzający składowiskami, które mogą pełnić rolę instalacji zastęp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ładze gmin, na których terenie zlokalizowane są składowiska mogące pełnić rolę instalacji zastęp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ojewódzki Inspektorat Ochrony Śro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Szadół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7" descr="Kopia Szadółki"/>
          <p:cNvPicPr/>
          <p:nvPr/>
        </p:nvPicPr>
        <p:blipFill>
          <a:blip r:embed="rId2"/>
          <a:stretch/>
        </p:blipFill>
        <p:spPr>
          <a:xfrm>
            <a:off x="2050920" y="1484280"/>
            <a:ext cx="4753080" cy="3311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8"/>
          <p:cNvSpPr/>
          <p:nvPr/>
        </p:nvSpPr>
        <p:spPr>
          <a:xfrm>
            <a:off x="4859280" y="3141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179280" y="515772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AutoShape 63"/>
          <p:cNvSpPr/>
          <p:nvPr/>
        </p:nvSpPr>
        <p:spPr>
          <a:xfrm flipH="1">
            <a:off x="7093080" y="2492280"/>
            <a:ext cx="1800000" cy="432000"/>
          </a:xfrm>
          <a:prstGeom prst="wedgeRectCallout">
            <a:avLst>
              <a:gd name="adj1" fmla="val 167810"/>
              <a:gd name="adj2" fmla="val 113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zadółki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Rectangle 64"/>
          <p:cNvSpPr/>
          <p:nvPr/>
        </p:nvSpPr>
        <p:spPr>
          <a:xfrm>
            <a:off x="5076720" y="3213000"/>
            <a:ext cx="144720" cy="14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AutoShape 65"/>
          <p:cNvSpPr/>
          <p:nvPr/>
        </p:nvSpPr>
        <p:spPr>
          <a:xfrm flipH="1">
            <a:off x="7093080" y="3141720"/>
            <a:ext cx="1800000" cy="431640"/>
          </a:xfrm>
          <a:prstGeom prst="wedgeRectCallout">
            <a:avLst>
              <a:gd name="adj1" fmla="val 155462"/>
              <a:gd name="adj2" fmla="val -1654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talacja TP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468360" y="5157720"/>
            <a:ext cx="85676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Rectangle 67"/>
          <p:cNvSpPr/>
          <p:nvPr/>
        </p:nvSpPr>
        <p:spPr>
          <a:xfrm>
            <a:off x="179280" y="5950080"/>
            <a:ext cx="144720" cy="14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Text Box 68"/>
          <p:cNvSpPr/>
          <p:nvPr/>
        </p:nvSpPr>
        <p:spPr>
          <a:xfrm>
            <a:off x="468360" y="5877000"/>
            <a:ext cx="85676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Planowana instalacja Termicznego Przekształcania Odpadów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Text Box 69"/>
          <p:cNvSpPr/>
          <p:nvPr/>
        </p:nvSpPr>
        <p:spPr>
          <a:xfrm>
            <a:off x="395280" y="134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Text Box 70"/>
          <p:cNvSpPr/>
          <p:nvPr/>
        </p:nvSpPr>
        <p:spPr>
          <a:xfrm>
            <a:off x="250920" y="119700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597 49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5280" y="189000"/>
            <a:ext cx="50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Eko D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ko Dolina"/>
          <p:cNvPicPr/>
          <p:nvPr/>
        </p:nvPicPr>
        <p:blipFill>
          <a:blip r:embed="rId2"/>
          <a:stretch/>
        </p:blipFill>
        <p:spPr>
          <a:xfrm>
            <a:off x="2050920" y="126828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859280" y="350028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95280" y="551664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AutoShape 11"/>
          <p:cNvSpPr/>
          <p:nvPr/>
        </p:nvSpPr>
        <p:spPr>
          <a:xfrm flipH="1">
            <a:off x="7163640" y="2565360"/>
            <a:ext cx="1800360" cy="432000"/>
          </a:xfrm>
          <a:prstGeom prst="wedgeRectCallout">
            <a:avLst>
              <a:gd name="adj1" fmla="val 170810"/>
              <a:gd name="adj2" fmla="val 179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Eko Dolin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84360" y="5516640"/>
            <a:ext cx="799128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0920" y="112536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460 52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Północno-Za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68360" y="544500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79280" y="551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68360" y="638172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kładowisko spełniające wymogi ochrony środowiska, nie przewidziane do zastępczej obsługi regionu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68360" y="595008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179280" y="595008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7" name="Picture 29" descr="Nowy-Północno-zachodni"/>
          <p:cNvPicPr/>
          <p:nvPr/>
        </p:nvPicPr>
        <p:blipFill>
          <a:blip r:embed="rId2"/>
          <a:stretch/>
        </p:blipFill>
        <p:spPr>
          <a:xfrm>
            <a:off x="1692360" y="1052640"/>
            <a:ext cx="4967280" cy="432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0"/>
          <p:cNvSpPr/>
          <p:nvPr/>
        </p:nvSpPr>
        <p:spPr>
          <a:xfrm>
            <a:off x="2771640" y="234936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3132000" y="2421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AutoShape 34"/>
          <p:cNvSpPr/>
          <p:nvPr/>
        </p:nvSpPr>
        <p:spPr>
          <a:xfrm>
            <a:off x="108000" y="2133720"/>
            <a:ext cx="2017800" cy="360360"/>
          </a:xfrm>
          <a:prstGeom prst="wedgeRectCallout">
            <a:avLst>
              <a:gd name="adj1" fmla="val 84384"/>
              <a:gd name="adj2" fmla="val 30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Bierko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5292720" y="2060640"/>
            <a:ext cx="2017800" cy="360360"/>
          </a:xfrm>
          <a:prstGeom prst="wedgeRectCallout">
            <a:avLst>
              <a:gd name="adj1" fmla="val -151967"/>
              <a:gd name="adj2" fmla="val 702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odociągi Słups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4356000" y="407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AutoShape 37"/>
          <p:cNvSpPr/>
          <p:nvPr/>
        </p:nvSpPr>
        <p:spPr>
          <a:xfrm>
            <a:off x="6084720" y="4076640"/>
            <a:ext cx="2017800" cy="360360"/>
          </a:xfrm>
          <a:prstGeom prst="wedgeRectCallout">
            <a:avLst>
              <a:gd name="adj1" fmla="val -130407"/>
              <a:gd name="adj2" fmla="val -39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ierzn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179280" y="2924280"/>
            <a:ext cx="2017800" cy="360360"/>
          </a:xfrm>
          <a:prstGeom prst="wedgeRectCallout">
            <a:avLst>
              <a:gd name="adj1" fmla="val 76199"/>
              <a:gd name="adj2" fmla="val 8744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błęż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AutoShape 41"/>
          <p:cNvSpPr/>
          <p:nvPr/>
        </p:nvSpPr>
        <p:spPr>
          <a:xfrm>
            <a:off x="108000" y="4005360"/>
            <a:ext cx="2017800" cy="360360"/>
          </a:xfrm>
          <a:prstGeom prst="wedgeRectCallout">
            <a:avLst>
              <a:gd name="adj1" fmla="val 76277"/>
              <a:gd name="adj2" fmla="val 43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Gatk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270036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2627280" y="4221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179280" y="638172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179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64 49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Połud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południowy"/>
          <p:cNvPicPr/>
          <p:nvPr/>
        </p:nvPicPr>
        <p:blipFill>
          <a:blip r:embed="rId2"/>
          <a:stretch/>
        </p:blipFill>
        <p:spPr>
          <a:xfrm>
            <a:off x="2484360" y="1052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5219640" y="321300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08000" y="537372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6732720" y="1916280"/>
            <a:ext cx="1942920" cy="360360"/>
          </a:xfrm>
          <a:prstGeom prst="wedgeRectCallout">
            <a:avLst>
              <a:gd name="adj1" fmla="val -127125"/>
              <a:gd name="adj2" fmla="val 30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6804000" y="4221000"/>
            <a:ext cx="1871640" cy="360360"/>
          </a:xfrm>
          <a:prstGeom prst="wedgeRectCallout">
            <a:avLst>
              <a:gd name="adj1" fmla="val -91134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6732720" y="3500280"/>
            <a:ext cx="1942920" cy="360360"/>
          </a:xfrm>
          <a:prstGeom prst="wedgeRectCallout">
            <a:avLst>
              <a:gd name="adj1" fmla="val -137416"/>
              <a:gd name="adj2" fmla="val 4515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AutoShape 29"/>
          <p:cNvSpPr/>
          <p:nvPr/>
        </p:nvSpPr>
        <p:spPr>
          <a:xfrm flipH="1">
            <a:off x="323280" y="4149720"/>
            <a:ext cx="1944360" cy="431640"/>
          </a:xfrm>
          <a:prstGeom prst="wedgeRectCallout">
            <a:avLst>
              <a:gd name="adj1" fmla="val -127717"/>
              <a:gd name="adj2" fmla="val -1470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sówe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AutoShape 30"/>
          <p:cNvSpPr/>
          <p:nvPr/>
        </p:nvSpPr>
        <p:spPr>
          <a:xfrm>
            <a:off x="6804000" y="4797360"/>
            <a:ext cx="1871640" cy="432000"/>
          </a:xfrm>
          <a:prstGeom prst="wedgeRectCallout">
            <a:avLst>
              <a:gd name="adj1" fmla="val -138717"/>
              <a:gd name="adj2" fmla="val -6875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AutoShape 31"/>
          <p:cNvSpPr/>
          <p:nvPr/>
        </p:nvSpPr>
        <p:spPr>
          <a:xfrm flipH="1">
            <a:off x="323280" y="1989000"/>
            <a:ext cx="1871640" cy="432000"/>
          </a:xfrm>
          <a:prstGeom prst="wedgeRectCallout">
            <a:avLst>
              <a:gd name="adj1" fmla="val -95208"/>
              <a:gd name="adj2" fmla="val -8823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948360" y="191628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karszew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7093080" y="350028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ieto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AutoShape 35"/>
          <p:cNvSpPr/>
          <p:nvPr/>
        </p:nvSpPr>
        <p:spPr>
          <a:xfrm flipH="1">
            <a:off x="323280" y="2708280"/>
            <a:ext cx="1944360" cy="431640"/>
          </a:xfrm>
          <a:prstGeom prst="wedgeRectCallout">
            <a:avLst>
              <a:gd name="adj1" fmla="val -179879"/>
              <a:gd name="adj2" fmla="val 3271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AutoShape 36"/>
          <p:cNvSpPr/>
          <p:nvPr/>
        </p:nvSpPr>
        <p:spPr>
          <a:xfrm>
            <a:off x="6732720" y="1197000"/>
            <a:ext cx="1942920" cy="360360"/>
          </a:xfrm>
          <a:prstGeom prst="wedgeRectCallout">
            <a:avLst>
              <a:gd name="adj1" fmla="val -170259"/>
              <a:gd name="adj2" fmla="val 24735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6804000" y="11970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Liniewskie Góry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709308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obrow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6948360" y="479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siek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Text Box 41"/>
          <p:cNvSpPr/>
          <p:nvPr/>
        </p:nvSpPr>
        <p:spPr>
          <a:xfrm>
            <a:off x="611280" y="1989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ostomi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Text Box 42"/>
          <p:cNvSpPr/>
          <p:nvPr/>
        </p:nvSpPr>
        <p:spPr>
          <a:xfrm>
            <a:off x="826920" y="270828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bl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AutoShape 43"/>
          <p:cNvSpPr/>
          <p:nvPr/>
        </p:nvSpPr>
        <p:spPr>
          <a:xfrm>
            <a:off x="6804000" y="2924280"/>
            <a:ext cx="1871640" cy="433440"/>
          </a:xfrm>
          <a:prstGeom prst="wedgeRectCallout">
            <a:avLst>
              <a:gd name="adj1" fmla="val -129050"/>
              <a:gd name="adj2" fmla="val 28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6948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Stary La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AutoShape 45"/>
          <p:cNvSpPr/>
          <p:nvPr/>
        </p:nvSpPr>
        <p:spPr>
          <a:xfrm flipH="1">
            <a:off x="323280" y="3357720"/>
            <a:ext cx="1944360" cy="431640"/>
          </a:xfrm>
          <a:prstGeom prst="wedgeRectCallout">
            <a:avLst>
              <a:gd name="adj1" fmla="val -142490"/>
              <a:gd name="adj2" fmla="val -4926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trych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468360" y="595008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468360" y="530064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6732720" y="2421000"/>
            <a:ext cx="1942920" cy="360360"/>
          </a:xfrm>
          <a:prstGeom prst="wedgeRectCallout">
            <a:avLst>
              <a:gd name="adj1" fmla="val -112337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7020000" y="2421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Linow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Rectangle 66"/>
          <p:cNvSpPr/>
          <p:nvPr/>
        </p:nvSpPr>
        <p:spPr>
          <a:xfrm>
            <a:off x="108000" y="595008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Rectangle 67"/>
          <p:cNvSpPr/>
          <p:nvPr/>
        </p:nvSpPr>
        <p:spPr>
          <a:xfrm>
            <a:off x="2987640" y="177336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Text Box 69"/>
          <p:cNvSpPr/>
          <p:nvPr/>
        </p:nvSpPr>
        <p:spPr>
          <a:xfrm>
            <a:off x="468360" y="6453360"/>
            <a:ext cx="842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Składowisko spełniające wymogi ochrony środowiska, nie przewidziane do zastępczej obsługi regionu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Text Box 70"/>
          <p:cNvSpPr/>
          <p:nvPr/>
        </p:nvSpPr>
        <p:spPr>
          <a:xfrm>
            <a:off x="395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190 94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AutoShape 71"/>
          <p:cNvSpPr/>
          <p:nvPr/>
        </p:nvSpPr>
        <p:spPr>
          <a:xfrm>
            <a:off x="108000" y="645336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AutoShape 72"/>
          <p:cNvSpPr/>
          <p:nvPr/>
        </p:nvSpPr>
        <p:spPr>
          <a:xfrm>
            <a:off x="3780000" y="4149720"/>
            <a:ext cx="215640" cy="216000"/>
          </a:xfrm>
          <a:custGeom>
            <a:avLst/>
            <a:gdLst>
              <a:gd name="textAreaLeft" fmla="*/ 66600 w 215640"/>
              <a:gd name="textAreaRight" fmla="*/ 149040 w 215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AutoShape 73"/>
          <p:cNvSpPr/>
          <p:nvPr/>
        </p:nvSpPr>
        <p:spPr>
          <a:xfrm>
            <a:off x="399564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AutoShape 74"/>
          <p:cNvSpPr/>
          <p:nvPr/>
        </p:nvSpPr>
        <p:spPr>
          <a:xfrm>
            <a:off x="4716360" y="292428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AutoShape 75"/>
          <p:cNvSpPr/>
          <p:nvPr/>
        </p:nvSpPr>
        <p:spPr>
          <a:xfrm>
            <a:off x="5003640" y="213372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AutoShape 76"/>
          <p:cNvSpPr/>
          <p:nvPr/>
        </p:nvSpPr>
        <p:spPr>
          <a:xfrm>
            <a:off x="4859280" y="371628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AutoShape 77"/>
          <p:cNvSpPr/>
          <p:nvPr/>
        </p:nvSpPr>
        <p:spPr>
          <a:xfrm>
            <a:off x="5867280" y="4437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AutoShape 78"/>
          <p:cNvSpPr/>
          <p:nvPr/>
        </p:nvSpPr>
        <p:spPr>
          <a:xfrm>
            <a:off x="5003640" y="458136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AutoShape 79"/>
          <p:cNvSpPr/>
          <p:nvPr/>
        </p:nvSpPr>
        <p:spPr>
          <a:xfrm>
            <a:off x="4284720" y="213372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AutoShape 80"/>
          <p:cNvSpPr/>
          <p:nvPr/>
        </p:nvSpPr>
        <p:spPr>
          <a:xfrm>
            <a:off x="5364000" y="263700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Rekultywacja składowisk odpadów gmin będących udziałowc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ZUOK „Stary Las”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Zble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-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kórcz-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Bieto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trych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Karsin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Liniewskie Góry-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2013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karszewy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Bobrowiec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Linowiec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Osiek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Osówek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y gospodarki odpadami, w których regionalne instalacje do przetwarzania odpadów NIE posiadają zdolności przerobowej wystarczającej do przyjęcia          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Północn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ółnocny"/>
          <p:cNvPicPr/>
          <p:nvPr/>
        </p:nvPicPr>
        <p:blipFill>
          <a:blip r:embed="rId2"/>
          <a:stretch/>
        </p:blipFill>
        <p:spPr>
          <a:xfrm>
            <a:off x="1908000" y="1268280"/>
            <a:ext cx="5372280" cy="3562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3635280" y="249228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95280" y="508464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AutoShape 17"/>
          <p:cNvSpPr/>
          <p:nvPr/>
        </p:nvSpPr>
        <p:spPr>
          <a:xfrm flipH="1">
            <a:off x="108000" y="2637000"/>
            <a:ext cx="1727280" cy="431640"/>
          </a:xfrm>
          <a:prstGeom prst="wedgeRectCallout">
            <a:avLst>
              <a:gd name="adj1" fmla="val -157629"/>
              <a:gd name="adj2" fmla="val -5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ZZO Czarnówko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AutoShape 18"/>
          <p:cNvSpPr/>
          <p:nvPr/>
        </p:nvSpPr>
        <p:spPr>
          <a:xfrm flipH="1">
            <a:off x="107280" y="3645000"/>
            <a:ext cx="1692360" cy="431640"/>
          </a:xfrm>
          <a:prstGeom prst="wedgeRectCallout">
            <a:avLst>
              <a:gd name="adj1" fmla="val -118106"/>
              <a:gd name="adj2" fmla="val -16029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hlewnic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AutoShape 19"/>
          <p:cNvSpPr/>
          <p:nvPr/>
        </p:nvSpPr>
        <p:spPr>
          <a:xfrm flipH="1">
            <a:off x="178560" y="1773360"/>
            <a:ext cx="1692360" cy="431640"/>
          </a:xfrm>
          <a:prstGeom prst="wedgeRectCallout">
            <a:avLst>
              <a:gd name="adj1" fmla="val -206944"/>
              <a:gd name="adj2" fmla="val -514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niewin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AutoShape 20"/>
          <p:cNvSpPr/>
          <p:nvPr/>
        </p:nvSpPr>
        <p:spPr>
          <a:xfrm flipH="1">
            <a:off x="7379640" y="2565360"/>
            <a:ext cx="1655640" cy="432000"/>
          </a:xfrm>
          <a:prstGeom prst="wedgeRectCallout">
            <a:avLst>
              <a:gd name="adj1" fmla="val 211263"/>
              <a:gd name="adj2" fmla="val -1334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ybska Karczma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AutoShape 21"/>
          <p:cNvSpPr/>
          <p:nvPr/>
        </p:nvSpPr>
        <p:spPr>
          <a:xfrm flipH="1">
            <a:off x="7379640" y="1125360"/>
            <a:ext cx="1584360" cy="432000"/>
          </a:xfrm>
          <a:prstGeom prst="wedgeRectCallout">
            <a:avLst>
              <a:gd name="adj1" fmla="val 155407"/>
              <a:gd name="adj2" fmla="val 41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Łebcz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AutoShape 22"/>
          <p:cNvSpPr/>
          <p:nvPr/>
        </p:nvSpPr>
        <p:spPr>
          <a:xfrm flipH="1">
            <a:off x="7379640" y="1700280"/>
            <a:ext cx="1584360" cy="431640"/>
          </a:xfrm>
          <a:prstGeom prst="wedgeRectCallout">
            <a:avLst>
              <a:gd name="adj1" fmla="val 158814"/>
              <a:gd name="adj2" fmla="val -3272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warz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Oval 25"/>
          <p:cNvSpPr/>
          <p:nvPr/>
        </p:nvSpPr>
        <p:spPr>
          <a:xfrm>
            <a:off x="4500720" y="1916280"/>
            <a:ext cx="1425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755640" y="5013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Oval 28"/>
          <p:cNvSpPr/>
          <p:nvPr/>
        </p:nvSpPr>
        <p:spPr>
          <a:xfrm>
            <a:off x="395280" y="566100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4643280" y="213372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Oval 30"/>
          <p:cNvSpPr/>
          <p:nvPr/>
        </p:nvSpPr>
        <p:spPr>
          <a:xfrm>
            <a:off x="5580000" y="148428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Oval 31"/>
          <p:cNvSpPr/>
          <p:nvPr/>
        </p:nvSpPr>
        <p:spPr>
          <a:xfrm>
            <a:off x="2916360" y="306864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755640" y="558972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Oval 33"/>
          <p:cNvSpPr/>
          <p:nvPr/>
        </p:nvSpPr>
        <p:spPr>
          <a:xfrm>
            <a:off x="395280" y="609300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755640" y="6021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 balastu + MP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5580000" y="1700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395280" y="652464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755640" y="6453360"/>
            <a:ext cx="792000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108000" y="1125360"/>
            <a:ext cx="180000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11 23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Południowo-Zachodni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611280" y="522936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8" name="Picture 34" descr="Południowo-zachodni"/>
          <p:cNvPicPr/>
          <p:nvPr/>
        </p:nvPicPr>
        <p:blipFill>
          <a:blip r:embed="rId2"/>
          <a:stretch/>
        </p:blipFill>
        <p:spPr>
          <a:xfrm>
            <a:off x="1979640" y="1052640"/>
            <a:ext cx="4968720" cy="3960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6"/>
          <p:cNvSpPr/>
          <p:nvPr/>
        </p:nvSpPr>
        <p:spPr>
          <a:xfrm>
            <a:off x="4643280" y="3860640"/>
            <a:ext cx="144720" cy="1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AutoShape 37"/>
          <p:cNvSpPr/>
          <p:nvPr/>
        </p:nvSpPr>
        <p:spPr>
          <a:xfrm flipH="1">
            <a:off x="6084720" y="4076640"/>
            <a:ext cx="1944720" cy="432000"/>
          </a:xfrm>
          <a:prstGeom prst="wedgeRectCallout">
            <a:avLst>
              <a:gd name="adj1" fmla="val 117833"/>
              <a:gd name="adj2" fmla="val -797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Nowy Dwó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900000" y="558972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AutoShape 40"/>
          <p:cNvSpPr/>
          <p:nvPr/>
        </p:nvSpPr>
        <p:spPr>
          <a:xfrm flipH="1">
            <a:off x="6084720" y="3429000"/>
            <a:ext cx="1944720" cy="576360"/>
          </a:xfrm>
          <a:prstGeom prst="wedgeRectCallout">
            <a:avLst>
              <a:gd name="adj1" fmla="val 117425"/>
              <a:gd name="adj2" fmla="val 123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w Nowym Dworze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4643280" y="3645000"/>
            <a:ext cx="144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611280" y="558972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Oval 43"/>
          <p:cNvSpPr/>
          <p:nvPr/>
        </p:nvSpPr>
        <p:spPr>
          <a:xfrm>
            <a:off x="2916360" y="436572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Oval 44"/>
          <p:cNvSpPr/>
          <p:nvPr/>
        </p:nvSpPr>
        <p:spPr>
          <a:xfrm>
            <a:off x="2556000" y="3429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Oval 45"/>
          <p:cNvSpPr/>
          <p:nvPr/>
        </p:nvSpPr>
        <p:spPr>
          <a:xfrm>
            <a:off x="611280" y="6093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Oval 47"/>
          <p:cNvSpPr/>
          <p:nvPr/>
        </p:nvSpPr>
        <p:spPr>
          <a:xfrm>
            <a:off x="3635280" y="342900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Oval 48"/>
          <p:cNvSpPr/>
          <p:nvPr/>
        </p:nvSpPr>
        <p:spPr>
          <a:xfrm>
            <a:off x="3419640" y="270828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Oval 49"/>
          <p:cNvSpPr/>
          <p:nvPr/>
        </p:nvSpPr>
        <p:spPr>
          <a:xfrm>
            <a:off x="5651640" y="285264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Oval 50"/>
          <p:cNvSpPr/>
          <p:nvPr/>
        </p:nvSpPr>
        <p:spPr>
          <a:xfrm>
            <a:off x="3924360" y="234936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AutoShape 51"/>
          <p:cNvSpPr/>
          <p:nvPr/>
        </p:nvSpPr>
        <p:spPr>
          <a:xfrm flipH="1">
            <a:off x="7020000" y="1844640"/>
            <a:ext cx="1944720" cy="432000"/>
          </a:xfrm>
          <a:prstGeom prst="wedgeRectCallout">
            <a:avLst>
              <a:gd name="adj1" fmla="val 113101"/>
              <a:gd name="adj2" fmla="val 19631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AutoShape 52"/>
          <p:cNvSpPr/>
          <p:nvPr/>
        </p:nvSpPr>
        <p:spPr>
          <a:xfrm flipH="1">
            <a:off x="178560" y="1700280"/>
            <a:ext cx="1798920" cy="431640"/>
          </a:xfrm>
          <a:prstGeom prst="wedgeRectCallout">
            <a:avLst>
              <a:gd name="adj1" fmla="val -159268"/>
              <a:gd name="adj2" fmla="val 116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AutoShape 53"/>
          <p:cNvSpPr/>
          <p:nvPr/>
        </p:nvSpPr>
        <p:spPr>
          <a:xfrm flipH="1">
            <a:off x="178560" y="2421000"/>
            <a:ext cx="1800360" cy="431640"/>
          </a:xfrm>
          <a:prstGeom prst="wedgeRectCallout">
            <a:avLst>
              <a:gd name="adj1" fmla="val -131574"/>
              <a:gd name="adj2" fmla="val 24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AutoShape 54"/>
          <p:cNvSpPr/>
          <p:nvPr/>
        </p:nvSpPr>
        <p:spPr>
          <a:xfrm flipH="1">
            <a:off x="108000" y="4076640"/>
            <a:ext cx="1800000" cy="432000"/>
          </a:xfrm>
          <a:prstGeom prst="wedgeRectCallout">
            <a:avLst>
              <a:gd name="adj1" fmla="val -88449"/>
              <a:gd name="adj2" fmla="val -19081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AutoShape 55"/>
          <p:cNvSpPr/>
          <p:nvPr/>
        </p:nvSpPr>
        <p:spPr>
          <a:xfrm flipH="1">
            <a:off x="108000" y="4581360"/>
            <a:ext cx="1800000" cy="432000"/>
          </a:xfrm>
          <a:prstGeom prst="wedgeRectCallout">
            <a:avLst>
              <a:gd name="adj1" fmla="val -107500"/>
              <a:gd name="adj2" fmla="val -8198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AutoShape 56"/>
          <p:cNvSpPr/>
          <p:nvPr/>
        </p:nvSpPr>
        <p:spPr>
          <a:xfrm flipH="1">
            <a:off x="178560" y="2997360"/>
            <a:ext cx="1800360" cy="431640"/>
          </a:xfrm>
          <a:prstGeom prst="wedgeRectCallout">
            <a:avLst>
              <a:gd name="adj1" fmla="val -142949"/>
              <a:gd name="adj2" fmla="val 61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Text Box 57"/>
          <p:cNvSpPr/>
          <p:nvPr/>
        </p:nvSpPr>
        <p:spPr>
          <a:xfrm>
            <a:off x="900000" y="602136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, do czasu uruchomienia instalacji regionalnej (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900000" y="515772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regionalna w trakcie budowy (MBP, zagospodarowanie odpadów zielonych, składowanie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Text Box 59"/>
          <p:cNvSpPr/>
          <p:nvPr/>
        </p:nvSpPr>
        <p:spPr>
          <a:xfrm>
            <a:off x="179280" y="105264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150 54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Oval 60"/>
          <p:cNvSpPr/>
          <p:nvPr/>
        </p:nvSpPr>
        <p:spPr>
          <a:xfrm>
            <a:off x="611280" y="6524640"/>
            <a:ext cx="14436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Text Box 61"/>
          <p:cNvSpPr/>
          <p:nvPr/>
        </p:nvSpPr>
        <p:spPr>
          <a:xfrm>
            <a:off x="900000" y="6453360"/>
            <a:ext cx="806472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 (składowanie, zagospodarowanie odpadów zielonych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Rekultywacja 15 składowisk odpadów komunalnych zlokalizowa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mbria"/>
              </a:rPr>
              <a:t>na obszarze działania ZZO w Nowym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skł. w m. Nowy Dw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hojnicz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iecho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Gock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Kosob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Cze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Dęb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mbria"/>
              </a:rPr>
              <a:t>Przechlewo</a:t>
            </a: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-2 sz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ąp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Region Wschodn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Wschodni"/>
          <p:cNvPicPr/>
          <p:nvPr/>
        </p:nvPicPr>
        <p:blipFill>
          <a:blip r:embed="rId2"/>
          <a:stretch/>
        </p:blipFill>
        <p:spPr>
          <a:xfrm>
            <a:off x="2556000" y="1052640"/>
            <a:ext cx="4032000" cy="4176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4716360" y="443700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635280" y="2852640"/>
            <a:ext cx="14472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780000" y="263700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8000" y="522936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3"/>
          <p:cNvSpPr/>
          <p:nvPr/>
        </p:nvSpPr>
        <p:spPr>
          <a:xfrm flipH="1">
            <a:off x="179280" y="4437000"/>
            <a:ext cx="1944720" cy="432000"/>
          </a:xfrm>
          <a:prstGeom prst="wedgeRectCallout">
            <a:avLst>
              <a:gd name="adj1" fmla="val -139310"/>
              <a:gd name="adj2" fmla="val -7206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icponi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AutoShape 14"/>
          <p:cNvSpPr/>
          <p:nvPr/>
        </p:nvSpPr>
        <p:spPr>
          <a:xfrm flipH="1">
            <a:off x="179280" y="3213000"/>
            <a:ext cx="1944720" cy="505080"/>
          </a:xfrm>
          <a:prstGeom prst="wedgeRectCallout">
            <a:avLst>
              <a:gd name="adj1" fmla="val -128208"/>
              <a:gd name="adj2" fmla="val -10283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w Rokitkach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AutoShape 15"/>
          <p:cNvSpPr/>
          <p:nvPr/>
        </p:nvSpPr>
        <p:spPr>
          <a:xfrm flipH="1">
            <a:off x="179280" y="2637000"/>
            <a:ext cx="1944720" cy="431640"/>
          </a:xfrm>
          <a:prstGeom prst="wedgeRectCallout">
            <a:avLst>
              <a:gd name="adj1" fmla="val -138981"/>
              <a:gd name="adj2" fmla="val -3125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Kommunalservic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AutoShape 21"/>
          <p:cNvSpPr/>
          <p:nvPr/>
        </p:nvSpPr>
        <p:spPr>
          <a:xfrm flipH="1">
            <a:off x="179280" y="3860640"/>
            <a:ext cx="1944720" cy="432000"/>
          </a:xfrm>
          <a:prstGeom prst="wedgeRectCallout">
            <a:avLst>
              <a:gd name="adj1" fmla="val -126898"/>
              <a:gd name="adj2" fmla="val -119120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opuch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AutoShape 22"/>
          <p:cNvSpPr/>
          <p:nvPr/>
        </p:nvSpPr>
        <p:spPr>
          <a:xfrm flipH="1">
            <a:off x="179280" y="1989000"/>
            <a:ext cx="1944720" cy="432000"/>
          </a:xfrm>
          <a:prstGeom prst="wedgeRectCallout">
            <a:avLst>
              <a:gd name="adj1" fmla="val -104939"/>
              <a:gd name="adj2" fmla="val 3087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Gołębiewo Wielki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AutoShape 23"/>
          <p:cNvSpPr/>
          <p:nvPr/>
        </p:nvSpPr>
        <p:spPr>
          <a:xfrm flipH="1">
            <a:off x="6948360" y="4581360"/>
            <a:ext cx="1944720" cy="432000"/>
          </a:xfrm>
          <a:prstGeom prst="wedgeRectCallout">
            <a:avLst>
              <a:gd name="adj1" fmla="val 158893"/>
              <a:gd name="adj2" fmla="val -67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ZZO Gilwa Mał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AutoShape 24"/>
          <p:cNvSpPr/>
          <p:nvPr/>
        </p:nvSpPr>
        <p:spPr>
          <a:xfrm flipH="1">
            <a:off x="6876360" y="3429000"/>
            <a:ext cx="2087640" cy="431640"/>
          </a:xfrm>
          <a:prstGeom prst="wedgeRectCallout">
            <a:avLst>
              <a:gd name="adj1" fmla="val 119504"/>
              <a:gd name="adj2" fmla="val 1543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inięta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AutoShape 25"/>
          <p:cNvSpPr/>
          <p:nvPr/>
        </p:nvSpPr>
        <p:spPr>
          <a:xfrm flipH="1">
            <a:off x="7020000" y="2060640"/>
            <a:ext cx="1944720" cy="431640"/>
          </a:xfrm>
          <a:prstGeom prst="wedgeRectCallout">
            <a:avLst>
              <a:gd name="adj1" fmla="val 141916"/>
              <a:gd name="adj2" fmla="val 16727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zaleniec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AutoShape 26"/>
          <p:cNvSpPr/>
          <p:nvPr/>
        </p:nvSpPr>
        <p:spPr>
          <a:xfrm flipH="1">
            <a:off x="6803280" y="2852640"/>
            <a:ext cx="2233800" cy="432000"/>
          </a:xfrm>
          <a:prstGeom prst="wedgeRectCallout">
            <a:avLst>
              <a:gd name="adj1" fmla="val 143884"/>
              <a:gd name="adj2" fmla="val 12977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Nowa Wieś Sztumska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3780000" y="2852640"/>
            <a:ext cx="144360" cy="1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108000" y="558972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395280" y="558972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regionalna w trakcie budowy (MBP, zagospodarowanie odpadów zielonych, 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395280" y="52293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MBP, zagospodarowanie odpadów zielonych, 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Oval 36"/>
          <p:cNvSpPr/>
          <p:nvPr/>
        </p:nvSpPr>
        <p:spPr>
          <a:xfrm>
            <a:off x="5076720" y="292428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Oval 37"/>
          <p:cNvSpPr/>
          <p:nvPr/>
        </p:nvSpPr>
        <p:spPr>
          <a:xfrm>
            <a:off x="108000" y="623736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Oval 39"/>
          <p:cNvSpPr/>
          <p:nvPr/>
        </p:nvSpPr>
        <p:spPr>
          <a:xfrm>
            <a:off x="4572000" y="357336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Oval 40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AutoShape 41"/>
          <p:cNvSpPr/>
          <p:nvPr/>
        </p:nvSpPr>
        <p:spPr>
          <a:xfrm flipH="1">
            <a:off x="6804000" y="1268280"/>
            <a:ext cx="1944720" cy="432000"/>
          </a:xfrm>
          <a:prstGeom prst="wedgeRectCallout">
            <a:avLst>
              <a:gd name="adj1" fmla="val 198814"/>
              <a:gd name="adj2" fmla="val 3286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ZO Rokitki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Oval 42"/>
          <p:cNvSpPr/>
          <p:nvPr/>
        </p:nvSpPr>
        <p:spPr>
          <a:xfrm>
            <a:off x="3851280" y="4292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Oval 43"/>
          <p:cNvSpPr/>
          <p:nvPr/>
        </p:nvSpPr>
        <p:spPr>
          <a:xfrm>
            <a:off x="3564000" y="3500280"/>
            <a:ext cx="144360" cy="1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Oval 44"/>
          <p:cNvSpPr/>
          <p:nvPr/>
        </p:nvSpPr>
        <p:spPr>
          <a:xfrm>
            <a:off x="3203640" y="2276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Rectangle 45"/>
          <p:cNvSpPr/>
          <p:nvPr/>
        </p:nvSpPr>
        <p:spPr>
          <a:xfrm>
            <a:off x="108000" y="595008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395280" y="587700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regionalna (składowanie balastu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395280" y="62373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Instalacja przewidziana do zastępczej obsługi regionu, do czasu uruchomienia  instalacji regionalnej (składowanie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108000" y="659772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395280" y="6573960"/>
            <a:ext cx="8353440" cy="246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Regionalna instalacja do przetwarzania odpadów komunalnych (zagospodarowanie odpadów zielonych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179280" y="1197000"/>
            <a:ext cx="180036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365 07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lany gospodarki odpadami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od 1 stycznia 201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opracowywane będą na poziomie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krajowym  i wojewó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ak potrzeby wykonania planów gospodarki odpadami  na szczeb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owiatowym i gm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podlegać będą aktualizacji nie rzadziej niż    co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mbria"/>
              </a:rPr>
              <a:t>Termin uchwalenia WPGO do 30 czerwca 2012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Rekultywacja składowisk w ramach projektu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„Regionalny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Gospodarki Odpadami Tcze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Miło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Gołębiewo Wiel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Minię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albork- 2 skła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Lisewo Malbo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ątowy Ma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Świer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Szalen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urzedowy_w2_slajd_wewnetrzny150"/>
          <p:cNvPicPr/>
          <p:nvPr/>
        </p:nvPicPr>
        <p:blipFill>
          <a:blip r:embed="rId2"/>
          <a:stretch/>
        </p:blipFill>
        <p:spPr>
          <a:xfrm>
            <a:off x="79200" y="57240"/>
            <a:ext cx="9064800" cy="6800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250920" y="1484280"/>
            <a:ext cx="86104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godnie z zapisami rozporządzenia Ministra Gospodarki i Pracy z dnia 7 września 2005 r. w sprawie kryteriów i procedur dopuszczenia odpadów do składowania na składowiskach danego typu (Dz. U. Nr 186, poz. 1553 z późn. zm.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3300"/>
                </a:solidFill>
                <a:uFillTx/>
                <a:latin typeface="Cambria"/>
              </a:rPr>
              <a:t>od 01. 01. 2013 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ie będzie można składować odpadów komunalnych, których wartości graniczne przekraczają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gólny węgiel organiczny TOC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5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trata przy prażeniu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8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iepło spal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&gt;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6 MJ/kg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987640" y="18900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Wymagania dotyczące składowania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dpadów komunalnych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411280" y="2492280"/>
            <a:ext cx="4608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Cambria"/>
              </a:rPr>
              <a:t>Dziękuję za uwagę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Anna Grapatyn-Korzeniowsk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Katarzyna Wiśniewsk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mbria"/>
              </a:rPr>
              <a:t>Tadeusz Sty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anga nowych Planów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Wojewódzki plan gospodarki odpadami, w części realizacyjnej, a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rawa miejsc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raz z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uchwaleniem wojewódzkiego planu gospodarki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ami sej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ojewództwa podejmuje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uchwałę w sprawie jego wykonani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Uchwała jest aktem prawa miejsc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Uchwał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w sprawie wykonania wojewódzkiego planu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ami określać będz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podział n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gospodarki odpadami wraz ze wskazaniem gmin wchodzących w skład regio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alne instalacj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do przetwarzania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instalacje do  zastępczej obsługi regionów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( instalacje regionalne lub składowiska spełniające wymagania ochrony środowiska, w tym posiadające wymagane decyz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 gospodarki odpadam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Cambria"/>
              </a:rPr>
              <a:t>Region gospodarki odpadami komunalny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Obszar liczący co najmniej 150 000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Obszar gminy liczącej powyżej 500 000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W ramach Regionu wyznaczonego w WPGO, zapewnienie budowy, utrzymania i eksploatacji własnych lub wspólnych z innymi gminami instalacji regionalnych </a:t>
            </a:r>
            <a:r>
              <a:rPr b="1" lang="pl-PL" sz="2400" spc="-1" strike="noStrike">
                <a:solidFill>
                  <a:srgbClr val="000000"/>
                </a:solidFill>
                <a:latin typeface="Cambria"/>
              </a:rPr>
              <a:t>stanowi obowiązkowe zadanie własne gminy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(art. 3 ust.1 i 2 pkt 2 uoucz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Regionalna instalacja do przetwarzania odpad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a instalacja do przetwarzania odpadów komunal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kład zagospodarowania odpadów o mocy przerobowej wystarczając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yjmowania i przetwarzania opadów z obszaru zamieszkanego przez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jmniej 120 tys. mieszkańców zapewniający termiczne przekształc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ów 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chaniczno-biologiczne przetwarzanie zmieszanych odpadów komunal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twarzanie zebranych selektywnie odpadów zielonych i innych bioodpa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kładowanie odpadów powstających w procesie mechaniczno-biologicznego przetwarzania odpadów oraz pozostałości z sortowania przez okres nie krótszy niż 15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-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odbierające odpady komun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zekazywanie odebranych od właścicieli nieruchomości zmieszanych odpadów komunalnych, odpadów zielonych oraz pozostałości z sortowania odpadów komunalnych przeznaczonych do składowania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do regionalnej instalacji do przetwarzania odpadów komunalnych lub do czasu jej wybudowania do instalacji zastępczej w regi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zekazywanie odebranych od właścicieli nieruchomości selektywnie zebranych odpadów komunalnych do instalacji odzysku i unieszkodliwiania odpadów, zgodnie z hierarchią postępowania z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8000" y="1413000"/>
            <a:ext cx="8640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Prowadzący regionalną instalację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przetwarzania odpadów komunalnych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jest obowiązany zawrzeć umowę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 zagospodarowanie zmieszanych odpadów komunalnych, odpadów zielonych lub pozostałości z sortowania odpadów komunalnych przeznaczonych do składowania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ze wszystkimi podmiotam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dbierającymi odpady komunalne od właścicieli nieruchomości, </a:t>
            </a:r>
            <a:r>
              <a:rPr b="1" lang="en-US" sz="2400" spc="-1" strike="noStrike">
                <a:solidFill>
                  <a:srgbClr val="cc0000"/>
                </a:solidFill>
                <a:latin typeface="Cambria"/>
              </a:rPr>
              <a:t>którzy wykonują swoją działalność w ramach regionu gospodarki odpadami komunalny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Obowiązki –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prowadzące regionalną instalacj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Kary-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mbria"/>
              </a:rPr>
              <a:t>podmioty odbierające odpady komun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ak wpisu do rejestru działalności regulowanej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pierwszy miesiąc,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każdy kolejny miesią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ieszanie selektywnie zebranych odpadów komunalnych z odpadami zmieszanym- 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 000 zł - 50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ie przekazanie odebranych od właścicieli nieruchomości zmieszanych odpadów komunalnych, odpadów zielonych oraz pozostałości z sortowania odpadów komunalnych przeznaczonych do składowania do regionalnej instalacji do przetwarzania odpadów komunalnych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- 2 0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za pierwszy ujawniony przypa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ierzetelne sprawozdanie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500 zł - 5 000 z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rawozdanie po terminie- 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100 zł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/dzień opóź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52:50Z</dcterms:created>
  <dc:creator>Stawiński Arkadiusz</dc:creator>
  <dc:description/>
  <dc:language>en-US</dc:language>
  <cp:lastModifiedBy>kawisniewska</cp:lastModifiedBy>
  <dcterms:modified xsi:type="dcterms:W3CDTF">2011-12-01T08:05:28Z</dcterms:modified>
  <cp:revision>126</cp:revision>
  <dc:subject/>
  <dc:title>72 dpi</dc:title>
</cp:coreProperties>
</file>