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D25F-0797-4F05-B689-2B24E3C9FF1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E73F-6CB8-4F25-8F39-1682FC056EA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ABA7-015D-4F46-8797-0FDEE6F6EB9E}" type="slidenum">
              <a:rPr b="0" lang="pl-PL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9CA3-1081-4FAF-9BFC-13BB3161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256D-A153-4D22-A66A-EAB2E323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EAF9-8BFB-4D5A-AC3D-7C1D7EFB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12AA-21CF-4FD5-B142-3E95C6BEE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29EE-1D5D-4570-A05D-EFB3BBC1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754B-2D84-4F75-A0C3-AD296FDD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245E-D04B-4C44-8B52-7727AE09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A580-801B-4897-AF70-7B08CA39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F7AF-9DA3-424B-B1A5-2191BFF3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AE32-7767-4B71-8B1F-FAE82F88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3A1D-D560-485D-9A57-3BFECF35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0B8D-DFD4-45A9-88CD-653C5BBF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83F1-98BE-4757-BC3B-EC0B683B8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2268360" y="558972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ambria"/>
              </a:rPr>
              <a:t>Gdańsk, 1 grudnia 2011 r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2130120"/>
            <a:ext cx="8569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Spotkanie dotyczące aktualizacji „Planu Gospodarki Odpadami dla Województwa Pomorskiego”</a:t>
            </a:r>
            <a:br>
              <a:rPr sz="24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Cambria"/>
              </a:rPr>
              <a:t>Nowe regiony gospodarki odpadami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Cambria"/>
              </a:rPr>
              <a:t>w województwie pomorskim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Cambria"/>
              </a:rPr>
              <a:t> Regionalne instalacje do przetwarzania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Cambria"/>
              </a:rPr>
              <a:t>odpadów komunalnych</a:t>
            </a: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3588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mbria"/>
              </a:rPr>
              <a:t>Kary-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Cambria"/>
              </a:rPr>
              <a:t>podmioty prowadzące instalację wskazaną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Cambria"/>
              </a:rPr>
              <a:t>w uchwale w sprawie wykonania WP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5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Odbiera od podmiotu odbierającego odpady komunalne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d właścicieli nieruchomości zmieszane odpady komunalne, odpady zielone lub pozostałości z sortowania odpadów komunalnych przeznaczonych do składowania, 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spoza regionu gospodarki odpadami-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Cambria"/>
              </a:rPr>
              <a:t>500 zł za każdy Mg odebranych odpad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Nie zawiera umowy na zagospodarowanie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zmieszanych odpadów komunalnych, odpadów zielonych lub pozostałości z sortowania odpadów komunalnych przeznaczonych do składowania 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z podmiotem odbierającym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dpady komunalne od właścicieli nieruchomości, który wykonuje swoją działalność w ramach regionu gospodarki odpadami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mbria"/>
              </a:rPr>
              <a:t>       </a:t>
            </a:r>
            <a:r>
              <a:rPr b="0" lang="en-US" sz="2000" spc="-1" strike="noStrike">
                <a:solidFill>
                  <a:srgbClr val="cc0000"/>
                </a:solidFill>
                <a:latin typeface="Cambria"/>
              </a:rPr>
              <a:t>- 10 000 z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Nie odbiera</a:t>
            </a:r>
            <a:r>
              <a:rPr b="0" lang="en-US" sz="2000" spc="-1" strike="noStrike">
                <a:solidFill>
                  <a:srgbClr val="cc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zmieszanych odpadów komunalnych, odpadów zielonych lub pozostałości z sortowania odpadów komunalnych przeznaczonych do składowania 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od podmiotu przekazującego odpady komunalne do instalacji przewidzianej do zastępczej obsługi danego regionu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, wskazanej w uchwale w sprawie wykonania WPGO- </a:t>
            </a:r>
            <a:r>
              <a:rPr b="0" lang="en-US" sz="2000" spc="-1" strike="noStrike">
                <a:solidFill>
                  <a:srgbClr val="cc0000"/>
                </a:solidFill>
                <a:latin typeface="Cambria"/>
              </a:rPr>
              <a:t>10 000 z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Obowiązki g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Cambria"/>
              </a:rPr>
              <a:t>Gminy są obowiązane osiągnąć do dnia 31 grudnia 2020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mbria"/>
              </a:rPr>
              <a:t>50 %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poziom recyklingu i przygotowania do ponownego użycia następujących frakcji odpadów komunalnych: papier, metal, tworzywa sztuczne, szkł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mbria"/>
              </a:rPr>
              <a:t>70%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poziom recyklingu, przygotowania do ponownego użycia i odzysku odpadów budowlanych i rozbiórkow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Cambria"/>
              </a:rPr>
              <a:t>Gminy są obowiązane ograniczyć masę odpadów komunalny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Cambria"/>
              </a:rPr>
              <a:t>ulegających biodegradacji przekazywanych do składowan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do </a:t>
            </a:r>
            <a:r>
              <a:rPr b="1" lang="en-US" sz="2000" spc="-1" strike="noStrike">
                <a:solidFill>
                  <a:srgbClr val="cc0000"/>
                </a:solidFill>
                <a:latin typeface="Cambria"/>
              </a:rPr>
              <a:t>16 lipca 2013 r.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 do nie więcej niż </a:t>
            </a:r>
            <a:r>
              <a:rPr b="1" lang="en-US" sz="2000" spc="-1" strike="noStrike">
                <a:solidFill>
                  <a:srgbClr val="cc0000"/>
                </a:solidFill>
                <a:latin typeface="Cambria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do </a:t>
            </a:r>
            <a:r>
              <a:rPr b="1" lang="en-US" sz="2000" spc="-1" strike="noStrike">
                <a:solidFill>
                  <a:srgbClr val="cc0000"/>
                </a:solidFill>
                <a:latin typeface="Cambria"/>
              </a:rPr>
              <a:t>16 lipca 2020 r.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 do nie więcej niż </a:t>
            </a:r>
            <a:r>
              <a:rPr b="1" lang="en-US" sz="2000" spc="-1" strike="noStrike">
                <a:solidFill>
                  <a:srgbClr val="cc0000"/>
                </a:solidFill>
                <a:latin typeface="Cambria"/>
              </a:rPr>
              <a:t>35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wagowo całkowitej masy odpadów komunalnych ulegających biodegradacji przekazywanych do składowania, w stosunku do masy odpadów wytworzonych  w 1995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Kary- gm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Gmina, która 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nie wykonuje obowiązku osiągnięcia określonych poziom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recyklingu, odzysku i przygotowania do ponownego użycia ww. frakcji odpadów ora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nie wykonuje obowiązku ograniczenia masy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odpadów komunalnych 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ulegających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biodegradacji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przekazanych do składowania, </a:t>
            </a:r>
            <a:r>
              <a:rPr b="0" lang="en-US" sz="1800" spc="-1" strike="noStrike">
                <a:solidFill>
                  <a:srgbClr val="cc0000"/>
                </a:solidFill>
                <a:latin typeface="Cambria"/>
              </a:rPr>
              <a:t>podlega karze pieniężnej obliczonej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Cambria"/>
              </a:rPr>
              <a:t>odrębnie dla wymaganego poziom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Karę pieniężną  oblicza się jako </a:t>
            </a:r>
            <a:r>
              <a:rPr b="1" lang="en-US" sz="1800" spc="-1" strike="noStrike">
                <a:solidFill>
                  <a:srgbClr val="cc0000"/>
                </a:solidFill>
                <a:latin typeface="Cambria"/>
              </a:rPr>
              <a:t>iloczyn stawki opłaty </a:t>
            </a:r>
            <a:r>
              <a:rPr b="0" lang="en-US" sz="1800" spc="-1" strike="noStrike">
                <a:solidFill>
                  <a:srgbClr val="cc0000"/>
                </a:solidFill>
                <a:latin typeface="Cambria"/>
              </a:rPr>
              <a:t>za zmieszane odpady komunalne </a:t>
            </a:r>
            <a:r>
              <a:rPr b="1" lang="en-US" sz="1800" spc="-1" strike="noStrike">
                <a:solidFill>
                  <a:srgbClr val="cc0000"/>
                </a:solidFill>
                <a:latin typeface="Cambria"/>
              </a:rPr>
              <a:t>i brakującej masy odpadów </a:t>
            </a:r>
            <a:r>
              <a:rPr b="0" lang="en-US" sz="1800" spc="-1" strike="noStrike">
                <a:solidFill>
                  <a:srgbClr val="cc0000"/>
                </a:solidFill>
                <a:latin typeface="Cambria"/>
              </a:rPr>
              <a:t>komunalnych, wyrażonej w Mg, </a:t>
            </a:r>
            <a:r>
              <a:rPr b="1" lang="en-US" sz="1800" spc="-1" strike="noStrike">
                <a:solidFill>
                  <a:srgbClr val="cc0000"/>
                </a:solidFill>
                <a:latin typeface="Cambria"/>
              </a:rPr>
              <a:t>wymaganej do </a:t>
            </a:r>
            <a:r>
              <a:rPr b="0" lang="en-US" sz="1800" spc="-1" strike="noStrike">
                <a:solidFill>
                  <a:srgbClr val="cc0000"/>
                </a:solidFill>
                <a:latin typeface="Cambria"/>
              </a:rPr>
              <a:t>osiągnięcia odpowiedniego poziomu recyklingu, przygotowania do ponownego użycia i odzysku lub </a:t>
            </a:r>
            <a:r>
              <a:rPr b="1" lang="en-US" sz="1800" spc="-1" strike="noStrike">
                <a:solidFill>
                  <a:srgbClr val="cc0000"/>
                </a:solidFill>
                <a:latin typeface="Cambria"/>
              </a:rPr>
              <a:t>ograniczenia masy odpadów komunalnych ulegających biodegradacji przekazanych do składowa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Stawka opłaty za 1 Mg zmieszanych odpadów komunalnych w 2012 r.-</a:t>
            </a:r>
            <a:r>
              <a:rPr b="0" lang="en-US" sz="1800" spc="-1" strike="noStrike">
                <a:solidFill>
                  <a:srgbClr val="cc0000"/>
                </a:solidFill>
                <a:latin typeface="Cambria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Cambria"/>
              </a:rPr>
              <a:t>110,65 z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Przykład obliczenia k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503280"/>
          </a:xfrm>
          <a:prstGeom prst="rect">
            <a:avLst/>
          </a:prstGeom>
          <a:solidFill>
            <a:srgbClr val="c9ecfb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Gmina Miejska Tcze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50920" y="1628640"/>
            <a:ext cx="8642160" cy="398880"/>
          </a:xfrm>
          <a:prstGeom prst="rect">
            <a:avLst/>
          </a:prstGeom>
          <a:solidFill>
            <a:srgbClr val="c9ecfb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Masa odpadów komunalnych wytworzonych w 2010 r. -           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21 030 Mg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50920" y="2133720"/>
            <a:ext cx="8642160" cy="398880"/>
          </a:xfrm>
          <a:prstGeom prst="rect">
            <a:avLst/>
          </a:prstGeom>
          <a:solidFill>
            <a:srgbClr val="c9ecfb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Masa odpadów biodegradowalnych wytworzonych w 2010 r. -   </a:t>
            </a: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14 393,4 Mg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50920" y="4365720"/>
            <a:ext cx="8642160" cy="398880"/>
          </a:xfrm>
          <a:prstGeom prst="rect">
            <a:avLst/>
          </a:prstGeom>
          <a:solidFill>
            <a:srgbClr val="ff99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Masa odpadów dopuszczonych do składowania  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w 2013 r.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4 697,7 Mg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468360" y="2708280"/>
            <a:ext cx="3816360" cy="1106280"/>
          </a:xfrm>
          <a:prstGeom prst="rect">
            <a:avLst/>
          </a:prstGeom>
          <a:solidFill>
            <a:srgbClr val="c9ecfb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Masa odpadów biodegradowalnych zeskładowanych w 2010 r. -  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13 302,7 Mg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4932360" y="2708280"/>
            <a:ext cx="3600360" cy="1221840"/>
          </a:xfrm>
          <a:prstGeom prst="rect">
            <a:avLst/>
          </a:prstGeom>
          <a:solidFill>
            <a:srgbClr val="c9ecfb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Masa odpadów biodegradowalnych zagospodarowanych w 2010 r.  innymi sposobami niż składowanie- </a:t>
            </a: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1 090,7 Mg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250920" y="4941720"/>
            <a:ext cx="8642160" cy="673200"/>
          </a:xfrm>
          <a:prstGeom prst="rect">
            <a:avLst/>
          </a:prstGeom>
          <a:solidFill>
            <a:srgbClr val="c9ecfb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Masa odpadów wymagająca zagospodarowania innymi sposobami niż składowanie   13 302,7- 4 697,7= 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8 605 Mg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250920" y="5734080"/>
            <a:ext cx="8642160" cy="978120"/>
          </a:xfrm>
          <a:prstGeom prst="rect">
            <a:avLst/>
          </a:prstGeom>
          <a:solidFill>
            <a:srgbClr val="ff99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mbria"/>
              </a:rPr>
              <a:t>Kara pieniężna obliczona w przypadku nie ograniczenia masy odpadów biodegradowalnych przekazywanych do składowania-</a:t>
            </a: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                                                    </a:t>
            </a: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 8605 Mg x 110,65 zł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=</a:t>
            </a: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pl-PL" sz="2000" spc="-1" strike="noStrike" u="sng">
                <a:solidFill>
                  <a:srgbClr val="000000"/>
                </a:solidFill>
                <a:uFillTx/>
                <a:latin typeface="Cambria"/>
              </a:rPr>
              <a:t>952 143 zł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Obowiązek sprawozdawczy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12500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odmiot odbierający odpady do gminy – </a:t>
            </a:r>
            <a:r>
              <a:rPr b="1" lang="en-US" sz="2000" spc="-1" strike="noStrike">
                <a:solidFill>
                  <a:srgbClr val="cc0000"/>
                </a:solidFill>
                <a:latin typeface="Cambria"/>
              </a:rPr>
              <a:t>kwartalne,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o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końca miesiąca następującego po kwar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Wójt, burmistrz, prezydent miasta do marszałka województwa oraz wojewódzkiego inspektora ochrony środowiska – </a:t>
            </a:r>
            <a:r>
              <a:rPr b="1" lang="en-US" sz="2000" spc="-1" strike="noStrike">
                <a:solidFill>
                  <a:srgbClr val="cc0000"/>
                </a:solidFill>
                <a:latin typeface="Cambria"/>
              </a:rPr>
              <a:t>roczne, do 31 marca następującego ro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Marszałek województwa do ministra właściwego do spraw środowiska – </a:t>
            </a:r>
            <a:r>
              <a:rPr b="1" lang="en-US" sz="2000" spc="-1" strike="noStrike">
                <a:solidFill>
                  <a:srgbClr val="cc0000"/>
                </a:solidFill>
                <a:latin typeface="Cambria"/>
              </a:rPr>
              <a:t>roczne, do 15 lipca następującego ro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bowiązek sprawozdawczy będzie obejmował w szczególności osiągnięc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oziomów odzysku, recyklingu i ograniczenia składowania odpadó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ulegających biodegradac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mbria"/>
              </a:rPr>
              <a:t>Ważne term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0560" y="981000"/>
            <a:ext cx="8893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ambria"/>
              </a:rPr>
              <a:t>1 stycznia 2012 r.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ejście w życie usta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ambria"/>
              </a:rPr>
              <a:t>1 stycznia 2012 r.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zaczyna działać rejestru działalności regulowanej -od tego dnia gmina nie wydaje zezwoleń na odbiór odpadów komunalny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ambria"/>
              </a:rPr>
              <a:t>Do 31 kwietnia 2012 r.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- Podmioty odbierające odpady komunalne składają pierwsze sprawozdanie kwartal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ambria"/>
              </a:rPr>
              <a:t>Do 30 czerwca 2012 r.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- Sejmik województwa uchwala aktualizację wojewódzkiego planu gospodarki odpad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ambria"/>
              </a:rPr>
              <a:t>Do 31 grudnia 2012 r. 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dostosowanie regulaminów utrzymania czystości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i porządku w gminach do wojewódzkich planów gospodarki odpad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ambria"/>
              </a:rPr>
              <a:t>Do 31 grudnia 2012 r.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podjęcie przez gminy uchwał (m.in. opłaty od mieszkańcó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ambria"/>
              </a:rPr>
              <a:t>Do 31 grudnia 2012 r. 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uzyskanie przez przedsiębiorców - działających na podstawie dotychczasowych zezwoleń - wpisu do rejestru działalności regulowa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ambria"/>
              </a:rPr>
              <a:t>Do 31 marca 2013 r.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prawozdania gmin z realizacji zadań do marszałka woj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ambria"/>
              </a:rPr>
              <a:t>Do 30 czerwca 2013 r. 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chodzą w życie uchwały Rad Gmin, gminy zaczynają pobierać opłaty i przejmują obowiązki właścicieli nieruchomoś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Deklaracje gmin do obszarów obsługi 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Deklaracje do ZZO"/>
          <p:cNvPicPr/>
          <p:nvPr/>
        </p:nvPicPr>
        <p:blipFill>
          <a:blip r:embed="rId2"/>
          <a:stretch/>
        </p:blipFill>
        <p:spPr>
          <a:xfrm>
            <a:off x="900000" y="1052640"/>
            <a:ext cx="7488360" cy="55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Nowe regiony gospodarki odpad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Nowe regiony-podpisy-wariant II"/>
          <p:cNvPicPr/>
          <p:nvPr/>
        </p:nvPicPr>
        <p:blipFill>
          <a:blip r:embed="rId2"/>
          <a:stretch/>
        </p:blipFill>
        <p:spPr>
          <a:xfrm>
            <a:off x="755640" y="1052640"/>
            <a:ext cx="7777080" cy="58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78920" y="1125360"/>
            <a:ext cx="8642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mbria"/>
              </a:rPr>
              <a:t>Regiony gospodarki odpadami, w których funkcjonują instalacje mogą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mbria"/>
              </a:rPr>
              <a:t>przetworzyć odpady komunalne z całego regionu: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gion Szadół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gion Eko Do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gion Północno-Zachod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gion Południo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mbria"/>
              </a:rPr>
              <a:t>Regiony gospodarki odpadami, w których funkcjonują instalacje NIE mogą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mbria"/>
              </a:rPr>
              <a:t>przetworzyć odpadów komunalnych z całego regionu: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gion Północ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gion Południowo-Zachod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gion Wschod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Regiony gospodarki odpadami, w których regionalne instalacje do przetwarzania odpadów, posiadają zdolności przerobowe wystarczające do przyjęcia           i przetworzenia odpadów komunalnych z całego regionu gospodarki odpad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Adresaci spotk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Zarządzający zakładami zagospodarowania odpadó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Gminy wiodące (największy udziałowiec) ZZ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Władze gmin, na terenie których zlokalizowane są Z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Zarządzający składowiskami, które mogą pełnić rolę instalacji zastępcz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Władze gmin, na których terenie zlokalizowane są składowiska mogące pełnić rolę instalacji zastępcz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Wojewódzki Inspektorat Ochrony Środowi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Region Szadół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7" descr="Kopia Szadółki"/>
          <p:cNvPicPr/>
          <p:nvPr/>
        </p:nvPicPr>
        <p:blipFill>
          <a:blip r:embed="rId2"/>
          <a:stretch/>
        </p:blipFill>
        <p:spPr>
          <a:xfrm>
            <a:off x="2050920" y="1484280"/>
            <a:ext cx="4753080" cy="33116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8"/>
          <p:cNvSpPr/>
          <p:nvPr/>
        </p:nvSpPr>
        <p:spPr>
          <a:xfrm>
            <a:off x="4859280" y="3141720"/>
            <a:ext cx="14436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Rectangle 61"/>
          <p:cNvSpPr/>
          <p:nvPr/>
        </p:nvSpPr>
        <p:spPr>
          <a:xfrm>
            <a:off x="179280" y="5157720"/>
            <a:ext cx="14472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AutoShape 63"/>
          <p:cNvSpPr/>
          <p:nvPr/>
        </p:nvSpPr>
        <p:spPr>
          <a:xfrm flipH="1">
            <a:off x="7093080" y="2492280"/>
            <a:ext cx="1800000" cy="432000"/>
          </a:xfrm>
          <a:prstGeom prst="wedgeRectCallout">
            <a:avLst>
              <a:gd name="adj1" fmla="val 167810"/>
              <a:gd name="adj2" fmla="val 1139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ZZO Szadółki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Rectangle 64"/>
          <p:cNvSpPr/>
          <p:nvPr/>
        </p:nvSpPr>
        <p:spPr>
          <a:xfrm>
            <a:off x="5076720" y="3213000"/>
            <a:ext cx="144720" cy="144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AutoShape 65"/>
          <p:cNvSpPr/>
          <p:nvPr/>
        </p:nvSpPr>
        <p:spPr>
          <a:xfrm flipH="1">
            <a:off x="7093080" y="3141720"/>
            <a:ext cx="1800000" cy="431640"/>
          </a:xfrm>
          <a:prstGeom prst="wedgeRectCallout">
            <a:avLst>
              <a:gd name="adj1" fmla="val 155462"/>
              <a:gd name="adj2" fmla="val -16546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Instalacja TPO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Text Box 66"/>
          <p:cNvSpPr/>
          <p:nvPr/>
        </p:nvSpPr>
        <p:spPr>
          <a:xfrm>
            <a:off x="468360" y="5157720"/>
            <a:ext cx="8567640" cy="276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Regionalna instalacja do przetwarzania odpadów komunalnych (MBP, zagospodarowanie odpadów zielonych, składowanie)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Rectangle 67"/>
          <p:cNvSpPr/>
          <p:nvPr/>
        </p:nvSpPr>
        <p:spPr>
          <a:xfrm>
            <a:off x="179280" y="5950080"/>
            <a:ext cx="144720" cy="144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Text Box 68"/>
          <p:cNvSpPr/>
          <p:nvPr/>
        </p:nvSpPr>
        <p:spPr>
          <a:xfrm>
            <a:off x="468360" y="5877000"/>
            <a:ext cx="8567640" cy="276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Planowana instalacja Termicznego Przekształcania Odpadów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Text Box 69"/>
          <p:cNvSpPr/>
          <p:nvPr/>
        </p:nvSpPr>
        <p:spPr>
          <a:xfrm>
            <a:off x="395280" y="134136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Text Box 70"/>
          <p:cNvSpPr/>
          <p:nvPr/>
        </p:nvSpPr>
        <p:spPr>
          <a:xfrm>
            <a:off x="250920" y="1197000"/>
            <a:ext cx="1800000" cy="3988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597 490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635280" y="189000"/>
            <a:ext cx="5067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Region Eko Do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Eko Dolina"/>
          <p:cNvPicPr/>
          <p:nvPr/>
        </p:nvPicPr>
        <p:blipFill>
          <a:blip r:embed="rId2"/>
          <a:stretch/>
        </p:blipFill>
        <p:spPr>
          <a:xfrm>
            <a:off x="2050920" y="1268280"/>
            <a:ext cx="4969080" cy="38894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8"/>
          <p:cNvSpPr/>
          <p:nvPr/>
        </p:nvSpPr>
        <p:spPr>
          <a:xfrm>
            <a:off x="4859280" y="3500280"/>
            <a:ext cx="14436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395280" y="5516640"/>
            <a:ext cx="14436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AutoShape 11"/>
          <p:cNvSpPr/>
          <p:nvPr/>
        </p:nvSpPr>
        <p:spPr>
          <a:xfrm flipH="1">
            <a:off x="7163640" y="2565360"/>
            <a:ext cx="1800360" cy="432000"/>
          </a:xfrm>
          <a:prstGeom prst="wedgeRectCallout">
            <a:avLst>
              <a:gd name="adj1" fmla="val 170810"/>
              <a:gd name="adj2" fmla="val 1794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ZZO Eko Dolina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684360" y="5516640"/>
            <a:ext cx="7991280" cy="276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Regionalna instalacja do przetwarzania odpadów komunalnych (MBP, zagospodarowanie odpadów zielonych, składowanie)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250920" y="1125360"/>
            <a:ext cx="1800000" cy="3988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460 527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Region Północno-Zachod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468360" y="5445000"/>
            <a:ext cx="8424720" cy="276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Regionalna instalacja do przetwarzania odpadów komunalnych (MBP, zagospodarowanie odpadów zielonych, składowanie)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179280" y="5516640"/>
            <a:ext cx="14472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468360" y="6381720"/>
            <a:ext cx="8424720" cy="276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Składowisko spełniające wymogi ochrony środowiska, nie przewidziane do zastępczej obsługi regionu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Text Box 22"/>
          <p:cNvSpPr/>
          <p:nvPr/>
        </p:nvSpPr>
        <p:spPr>
          <a:xfrm>
            <a:off x="468360" y="5950080"/>
            <a:ext cx="8424720" cy="276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Regionalna instalacja do przetwarzania odpadów komunalnych (zagospodarowanie odpadów zielonych)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179280" y="5950080"/>
            <a:ext cx="144720" cy="144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17" name="Picture 29" descr="Nowy-Północno-zachodni"/>
          <p:cNvPicPr/>
          <p:nvPr/>
        </p:nvPicPr>
        <p:blipFill>
          <a:blip r:embed="rId2"/>
          <a:stretch/>
        </p:blipFill>
        <p:spPr>
          <a:xfrm>
            <a:off x="1692360" y="1052640"/>
            <a:ext cx="4967280" cy="43210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0"/>
          <p:cNvSpPr/>
          <p:nvPr/>
        </p:nvSpPr>
        <p:spPr>
          <a:xfrm>
            <a:off x="2771640" y="2349360"/>
            <a:ext cx="14472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Rectangle 31"/>
          <p:cNvSpPr/>
          <p:nvPr/>
        </p:nvSpPr>
        <p:spPr>
          <a:xfrm>
            <a:off x="3132000" y="2421000"/>
            <a:ext cx="144720" cy="144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AutoShape 34"/>
          <p:cNvSpPr/>
          <p:nvPr/>
        </p:nvSpPr>
        <p:spPr>
          <a:xfrm>
            <a:off x="108000" y="2133720"/>
            <a:ext cx="2017800" cy="360360"/>
          </a:xfrm>
          <a:prstGeom prst="wedgeRectCallout">
            <a:avLst>
              <a:gd name="adj1" fmla="val 84384"/>
              <a:gd name="adj2" fmla="val 306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ZZO Bierkowo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AutoShape 35"/>
          <p:cNvSpPr/>
          <p:nvPr/>
        </p:nvSpPr>
        <p:spPr>
          <a:xfrm>
            <a:off x="5292720" y="2060640"/>
            <a:ext cx="2017800" cy="360360"/>
          </a:xfrm>
          <a:prstGeom prst="wedgeRectCallout">
            <a:avLst>
              <a:gd name="adj1" fmla="val -151967"/>
              <a:gd name="adj2" fmla="val 7026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odociągi Słupsk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Rectangle 36"/>
          <p:cNvSpPr/>
          <p:nvPr/>
        </p:nvSpPr>
        <p:spPr>
          <a:xfrm>
            <a:off x="4356000" y="4076640"/>
            <a:ext cx="14472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AutoShape 37"/>
          <p:cNvSpPr/>
          <p:nvPr/>
        </p:nvSpPr>
        <p:spPr>
          <a:xfrm>
            <a:off x="6084720" y="4076640"/>
            <a:ext cx="2017800" cy="360360"/>
          </a:xfrm>
          <a:prstGeom prst="wedgeRectCallout">
            <a:avLst>
              <a:gd name="adj1" fmla="val -130407"/>
              <a:gd name="adj2" fmla="val -3986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ZZO Sierzno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AutoShape 40"/>
          <p:cNvSpPr/>
          <p:nvPr/>
        </p:nvSpPr>
        <p:spPr>
          <a:xfrm>
            <a:off x="179280" y="2924280"/>
            <a:ext cx="2017800" cy="360360"/>
          </a:xfrm>
          <a:prstGeom prst="wedgeRectCallout">
            <a:avLst>
              <a:gd name="adj1" fmla="val 76199"/>
              <a:gd name="adj2" fmla="val 87444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Obłęże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AutoShape 41"/>
          <p:cNvSpPr/>
          <p:nvPr/>
        </p:nvSpPr>
        <p:spPr>
          <a:xfrm>
            <a:off x="108000" y="4005360"/>
            <a:ext cx="2017800" cy="360360"/>
          </a:xfrm>
          <a:prstGeom prst="wedgeRectCallout">
            <a:avLst>
              <a:gd name="adj1" fmla="val 76277"/>
              <a:gd name="adj2" fmla="val 43393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Gatka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AutoShape 44"/>
          <p:cNvSpPr/>
          <p:nvPr/>
        </p:nvSpPr>
        <p:spPr>
          <a:xfrm>
            <a:off x="2700360" y="3284640"/>
            <a:ext cx="216000" cy="215640"/>
          </a:xfrm>
          <a:custGeom>
            <a:avLst/>
            <a:gdLst>
              <a:gd name="textAreaLeft" fmla="*/ 66600 w 216000"/>
              <a:gd name="textAreaRight" fmla="*/ 149400 w 216000"/>
              <a:gd name="textAreaTop" fmla="*/ 82440 h 215640"/>
              <a:gd name="textAreaBottom" fmla="*/ 164880 h 215640"/>
            </a:gdLst>
            <a:ahLst/>
            <a:rect l="textAreaLeft" t="textAreaTop" r="textAreaRight" b="textAreaBottom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3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7" y="133433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AutoShape 45"/>
          <p:cNvSpPr/>
          <p:nvPr/>
        </p:nvSpPr>
        <p:spPr>
          <a:xfrm>
            <a:off x="2627280" y="4221000"/>
            <a:ext cx="216000" cy="216000"/>
          </a:xfrm>
          <a:custGeom>
            <a:avLst/>
            <a:gdLst>
              <a:gd name="textAreaLeft" fmla="*/ 66600 w 216000"/>
              <a:gd name="textAreaRight" fmla="*/ 149400 w 21600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3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7" y="133433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AutoShape 46"/>
          <p:cNvSpPr/>
          <p:nvPr/>
        </p:nvSpPr>
        <p:spPr>
          <a:xfrm>
            <a:off x="179280" y="6381720"/>
            <a:ext cx="216000" cy="216000"/>
          </a:xfrm>
          <a:custGeom>
            <a:avLst/>
            <a:gdLst>
              <a:gd name="textAreaLeft" fmla="*/ 66600 w 216000"/>
              <a:gd name="textAreaRight" fmla="*/ 149400 w 21600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3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7" y="133433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Text Box 47"/>
          <p:cNvSpPr/>
          <p:nvPr/>
        </p:nvSpPr>
        <p:spPr>
          <a:xfrm>
            <a:off x="179280" y="1197000"/>
            <a:ext cx="1800360" cy="3988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264 498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Region Południow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południowy"/>
          <p:cNvPicPr/>
          <p:nvPr/>
        </p:nvPicPr>
        <p:blipFill>
          <a:blip r:embed="rId2"/>
          <a:stretch/>
        </p:blipFill>
        <p:spPr>
          <a:xfrm>
            <a:off x="2484360" y="1052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5219640" y="3213000"/>
            <a:ext cx="14436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108000" y="5373720"/>
            <a:ext cx="14436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AutoShape 25"/>
          <p:cNvSpPr/>
          <p:nvPr/>
        </p:nvSpPr>
        <p:spPr>
          <a:xfrm>
            <a:off x="6732720" y="1916280"/>
            <a:ext cx="1942920" cy="360360"/>
          </a:xfrm>
          <a:prstGeom prst="wedgeRectCallout">
            <a:avLst>
              <a:gd name="adj1" fmla="val -127125"/>
              <a:gd name="adj2" fmla="val 30175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AutoShape 27"/>
          <p:cNvSpPr/>
          <p:nvPr/>
        </p:nvSpPr>
        <p:spPr>
          <a:xfrm>
            <a:off x="6804000" y="4221000"/>
            <a:ext cx="1871640" cy="360360"/>
          </a:xfrm>
          <a:prstGeom prst="wedgeRectCallout">
            <a:avLst>
              <a:gd name="adj1" fmla="val -91134"/>
              <a:gd name="adj2" fmla="val 42509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AutoShape 28"/>
          <p:cNvSpPr/>
          <p:nvPr/>
        </p:nvSpPr>
        <p:spPr>
          <a:xfrm>
            <a:off x="6732720" y="3500280"/>
            <a:ext cx="1942920" cy="360360"/>
          </a:xfrm>
          <a:prstGeom prst="wedgeRectCallout">
            <a:avLst>
              <a:gd name="adj1" fmla="val -137416"/>
              <a:gd name="adj2" fmla="val 45152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AutoShape 29"/>
          <p:cNvSpPr/>
          <p:nvPr/>
        </p:nvSpPr>
        <p:spPr>
          <a:xfrm flipH="1">
            <a:off x="323280" y="4149720"/>
            <a:ext cx="1944360" cy="431640"/>
          </a:xfrm>
          <a:prstGeom prst="wedgeRectCallout">
            <a:avLst>
              <a:gd name="adj1" fmla="val -127717"/>
              <a:gd name="adj2" fmla="val -14708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Osówek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AutoShape 30"/>
          <p:cNvSpPr/>
          <p:nvPr/>
        </p:nvSpPr>
        <p:spPr>
          <a:xfrm>
            <a:off x="6804000" y="4797360"/>
            <a:ext cx="1871640" cy="432000"/>
          </a:xfrm>
          <a:prstGeom prst="wedgeRectCallout">
            <a:avLst>
              <a:gd name="adj1" fmla="val -138717"/>
              <a:gd name="adj2" fmla="val -68750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AutoShape 31"/>
          <p:cNvSpPr/>
          <p:nvPr/>
        </p:nvSpPr>
        <p:spPr>
          <a:xfrm flipH="1">
            <a:off x="323280" y="1989000"/>
            <a:ext cx="1871640" cy="432000"/>
          </a:xfrm>
          <a:prstGeom prst="wedgeRectCallout">
            <a:avLst>
              <a:gd name="adj1" fmla="val -95208"/>
              <a:gd name="adj2" fmla="val -88236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Text Box 32"/>
          <p:cNvSpPr/>
          <p:nvPr/>
        </p:nvSpPr>
        <p:spPr>
          <a:xfrm>
            <a:off x="6948360" y="1916280"/>
            <a:ext cx="12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karszewy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Text Box 34"/>
          <p:cNvSpPr/>
          <p:nvPr/>
        </p:nvSpPr>
        <p:spPr>
          <a:xfrm>
            <a:off x="7093080" y="3500280"/>
            <a:ext cx="12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Bietowo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AutoShape 35"/>
          <p:cNvSpPr/>
          <p:nvPr/>
        </p:nvSpPr>
        <p:spPr>
          <a:xfrm flipH="1">
            <a:off x="323280" y="2708280"/>
            <a:ext cx="1944360" cy="431640"/>
          </a:xfrm>
          <a:prstGeom prst="wedgeRectCallout">
            <a:avLst>
              <a:gd name="adj1" fmla="val -179879"/>
              <a:gd name="adj2" fmla="val 32717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AutoShape 36"/>
          <p:cNvSpPr/>
          <p:nvPr/>
        </p:nvSpPr>
        <p:spPr>
          <a:xfrm>
            <a:off x="6732720" y="1197000"/>
            <a:ext cx="1942920" cy="360360"/>
          </a:xfrm>
          <a:prstGeom prst="wedgeRectCallout">
            <a:avLst>
              <a:gd name="adj1" fmla="val -170259"/>
              <a:gd name="adj2" fmla="val 247356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Text Box 38"/>
          <p:cNvSpPr/>
          <p:nvPr/>
        </p:nvSpPr>
        <p:spPr>
          <a:xfrm>
            <a:off x="6804000" y="11970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Liniewskie Góry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Text Box 39"/>
          <p:cNvSpPr/>
          <p:nvPr/>
        </p:nvSpPr>
        <p:spPr>
          <a:xfrm>
            <a:off x="7093080" y="422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Bobrowiec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" name="Text Box 40"/>
          <p:cNvSpPr/>
          <p:nvPr/>
        </p:nvSpPr>
        <p:spPr>
          <a:xfrm>
            <a:off x="6948360" y="4797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Osiek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Text Box 41"/>
          <p:cNvSpPr/>
          <p:nvPr/>
        </p:nvSpPr>
        <p:spPr>
          <a:xfrm>
            <a:off x="611280" y="1989000"/>
            <a:ext cx="12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Gostomie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Text Box 42"/>
          <p:cNvSpPr/>
          <p:nvPr/>
        </p:nvSpPr>
        <p:spPr>
          <a:xfrm>
            <a:off x="826920" y="2708280"/>
            <a:ext cx="12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Zblewo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AutoShape 43"/>
          <p:cNvSpPr/>
          <p:nvPr/>
        </p:nvSpPr>
        <p:spPr>
          <a:xfrm>
            <a:off x="6804000" y="2924280"/>
            <a:ext cx="1871640" cy="433440"/>
          </a:xfrm>
          <a:prstGeom prst="wedgeRectCallout">
            <a:avLst>
              <a:gd name="adj1" fmla="val -129050"/>
              <a:gd name="adj2" fmla="val 2838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Text Box 44"/>
          <p:cNvSpPr/>
          <p:nvPr/>
        </p:nvSpPr>
        <p:spPr>
          <a:xfrm>
            <a:off x="6948360" y="2924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ZZO Stary Las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AutoShape 45"/>
          <p:cNvSpPr/>
          <p:nvPr/>
        </p:nvSpPr>
        <p:spPr>
          <a:xfrm flipH="1">
            <a:off x="323280" y="3357720"/>
            <a:ext cx="1944360" cy="431640"/>
          </a:xfrm>
          <a:prstGeom prst="wedgeRectCallout">
            <a:avLst>
              <a:gd name="adj1" fmla="val -142490"/>
              <a:gd name="adj2" fmla="val -49268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trych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Text Box 47"/>
          <p:cNvSpPr/>
          <p:nvPr/>
        </p:nvSpPr>
        <p:spPr>
          <a:xfrm>
            <a:off x="468360" y="5950080"/>
            <a:ext cx="8424720" cy="276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Instalacja regionalna (składowanie balastu)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Text Box 48"/>
          <p:cNvSpPr/>
          <p:nvPr/>
        </p:nvSpPr>
        <p:spPr>
          <a:xfrm>
            <a:off x="468360" y="5300640"/>
            <a:ext cx="8424720" cy="276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Regionalna instalacja do przetwarzania odpadów komunalnych (MBP, zagospodarowanie odpadów zielonych, składowanie balastu)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AutoShape 60"/>
          <p:cNvSpPr/>
          <p:nvPr/>
        </p:nvSpPr>
        <p:spPr>
          <a:xfrm>
            <a:off x="6732720" y="2421000"/>
            <a:ext cx="1942920" cy="360360"/>
          </a:xfrm>
          <a:prstGeom prst="wedgeRectCallout">
            <a:avLst>
              <a:gd name="adj1" fmla="val -112337"/>
              <a:gd name="adj2" fmla="val 42509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7020000" y="2421000"/>
            <a:ext cx="12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Linowiec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Rectangle 66"/>
          <p:cNvSpPr/>
          <p:nvPr/>
        </p:nvSpPr>
        <p:spPr>
          <a:xfrm>
            <a:off x="108000" y="5950080"/>
            <a:ext cx="14436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Rectangle 67"/>
          <p:cNvSpPr/>
          <p:nvPr/>
        </p:nvSpPr>
        <p:spPr>
          <a:xfrm>
            <a:off x="2987640" y="1773360"/>
            <a:ext cx="14436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Text Box 69"/>
          <p:cNvSpPr/>
          <p:nvPr/>
        </p:nvSpPr>
        <p:spPr>
          <a:xfrm>
            <a:off x="468360" y="6453360"/>
            <a:ext cx="8424720" cy="276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Składowisko spełniające wymogi ochrony środowiska, nie przewidziane do zastępczej obsługi regionu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Text Box 70"/>
          <p:cNvSpPr/>
          <p:nvPr/>
        </p:nvSpPr>
        <p:spPr>
          <a:xfrm>
            <a:off x="395280" y="1197000"/>
            <a:ext cx="1800360" cy="3988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190 944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AutoShape 71"/>
          <p:cNvSpPr/>
          <p:nvPr/>
        </p:nvSpPr>
        <p:spPr>
          <a:xfrm>
            <a:off x="108000" y="6453360"/>
            <a:ext cx="216000" cy="215640"/>
          </a:xfrm>
          <a:custGeom>
            <a:avLst/>
            <a:gdLst>
              <a:gd name="textAreaLeft" fmla="*/ 66600 w 216000"/>
              <a:gd name="textAreaRight" fmla="*/ 149400 w 216000"/>
              <a:gd name="textAreaTop" fmla="*/ 82440 h 215640"/>
              <a:gd name="textAreaBottom" fmla="*/ 164880 h 215640"/>
            </a:gdLst>
            <a:ahLst/>
            <a:rect l="textAreaLeft" t="textAreaTop" r="textAreaRight" b="textAreaBottom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3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7" y="133433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AutoShape 72"/>
          <p:cNvSpPr/>
          <p:nvPr/>
        </p:nvSpPr>
        <p:spPr>
          <a:xfrm>
            <a:off x="3780000" y="4149720"/>
            <a:ext cx="215640" cy="216000"/>
          </a:xfrm>
          <a:custGeom>
            <a:avLst/>
            <a:gdLst>
              <a:gd name="textAreaLeft" fmla="*/ 66600 w 215640"/>
              <a:gd name="textAreaRight" fmla="*/ 149040 w 21564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3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7" y="133433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AutoShape 73"/>
          <p:cNvSpPr/>
          <p:nvPr/>
        </p:nvSpPr>
        <p:spPr>
          <a:xfrm>
            <a:off x="3995640" y="3284640"/>
            <a:ext cx="216000" cy="215640"/>
          </a:xfrm>
          <a:custGeom>
            <a:avLst/>
            <a:gdLst>
              <a:gd name="textAreaLeft" fmla="*/ 66600 w 216000"/>
              <a:gd name="textAreaRight" fmla="*/ 149400 w 216000"/>
              <a:gd name="textAreaTop" fmla="*/ 82440 h 215640"/>
              <a:gd name="textAreaBottom" fmla="*/ 164880 h 215640"/>
            </a:gdLst>
            <a:ahLst/>
            <a:rect l="textAreaLeft" t="textAreaTop" r="textAreaRight" b="textAreaBottom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3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7" y="133433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AutoShape 74"/>
          <p:cNvSpPr/>
          <p:nvPr/>
        </p:nvSpPr>
        <p:spPr>
          <a:xfrm>
            <a:off x="4716360" y="2924280"/>
            <a:ext cx="216000" cy="215640"/>
          </a:xfrm>
          <a:custGeom>
            <a:avLst/>
            <a:gdLst>
              <a:gd name="textAreaLeft" fmla="*/ 66600 w 216000"/>
              <a:gd name="textAreaRight" fmla="*/ 149400 w 216000"/>
              <a:gd name="textAreaTop" fmla="*/ 82440 h 215640"/>
              <a:gd name="textAreaBottom" fmla="*/ 164880 h 215640"/>
            </a:gdLst>
            <a:ahLst/>
            <a:rect l="textAreaLeft" t="textAreaTop" r="textAreaRight" b="textAreaBottom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3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7" y="133433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AutoShape 75"/>
          <p:cNvSpPr/>
          <p:nvPr/>
        </p:nvSpPr>
        <p:spPr>
          <a:xfrm>
            <a:off x="5003640" y="2133720"/>
            <a:ext cx="216000" cy="215640"/>
          </a:xfrm>
          <a:custGeom>
            <a:avLst/>
            <a:gdLst>
              <a:gd name="textAreaLeft" fmla="*/ 66600 w 216000"/>
              <a:gd name="textAreaRight" fmla="*/ 149400 w 216000"/>
              <a:gd name="textAreaTop" fmla="*/ 82440 h 215640"/>
              <a:gd name="textAreaBottom" fmla="*/ 164880 h 215640"/>
            </a:gdLst>
            <a:ahLst/>
            <a:rect l="textAreaLeft" t="textAreaTop" r="textAreaRight" b="textAreaBottom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3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7" y="133433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AutoShape 76"/>
          <p:cNvSpPr/>
          <p:nvPr/>
        </p:nvSpPr>
        <p:spPr>
          <a:xfrm>
            <a:off x="4859280" y="3716280"/>
            <a:ext cx="216000" cy="216000"/>
          </a:xfrm>
          <a:custGeom>
            <a:avLst/>
            <a:gdLst>
              <a:gd name="textAreaLeft" fmla="*/ 66600 w 216000"/>
              <a:gd name="textAreaRight" fmla="*/ 149400 w 21600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3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7" y="133433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AutoShape 77"/>
          <p:cNvSpPr/>
          <p:nvPr/>
        </p:nvSpPr>
        <p:spPr>
          <a:xfrm>
            <a:off x="5867280" y="4437000"/>
            <a:ext cx="216000" cy="216000"/>
          </a:xfrm>
          <a:custGeom>
            <a:avLst/>
            <a:gdLst>
              <a:gd name="textAreaLeft" fmla="*/ 66600 w 216000"/>
              <a:gd name="textAreaRight" fmla="*/ 149400 w 21600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3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7" y="133433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AutoShape 78"/>
          <p:cNvSpPr/>
          <p:nvPr/>
        </p:nvSpPr>
        <p:spPr>
          <a:xfrm>
            <a:off x="5003640" y="4581360"/>
            <a:ext cx="216000" cy="216000"/>
          </a:xfrm>
          <a:custGeom>
            <a:avLst/>
            <a:gdLst>
              <a:gd name="textAreaLeft" fmla="*/ 66600 w 216000"/>
              <a:gd name="textAreaRight" fmla="*/ 149400 w 21600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3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7" y="133433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AutoShape 79"/>
          <p:cNvSpPr/>
          <p:nvPr/>
        </p:nvSpPr>
        <p:spPr>
          <a:xfrm>
            <a:off x="4284720" y="2133720"/>
            <a:ext cx="216000" cy="215640"/>
          </a:xfrm>
          <a:custGeom>
            <a:avLst/>
            <a:gdLst>
              <a:gd name="textAreaLeft" fmla="*/ 66600 w 216000"/>
              <a:gd name="textAreaRight" fmla="*/ 149400 w 216000"/>
              <a:gd name="textAreaTop" fmla="*/ 82440 h 215640"/>
              <a:gd name="textAreaBottom" fmla="*/ 164880 h 215640"/>
            </a:gdLst>
            <a:ahLst/>
            <a:rect l="textAreaLeft" t="textAreaTop" r="textAreaRight" b="textAreaBottom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3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7" y="133433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AutoShape 80"/>
          <p:cNvSpPr/>
          <p:nvPr/>
        </p:nvSpPr>
        <p:spPr>
          <a:xfrm>
            <a:off x="5364000" y="2637000"/>
            <a:ext cx="216000" cy="215640"/>
          </a:xfrm>
          <a:custGeom>
            <a:avLst/>
            <a:gdLst>
              <a:gd name="textAreaLeft" fmla="*/ 66600 w 216000"/>
              <a:gd name="textAreaRight" fmla="*/ 149400 w 216000"/>
              <a:gd name="textAreaTop" fmla="*/ 82440 h 215640"/>
              <a:gd name="textAreaBottom" fmla="*/ 164880 h 215640"/>
            </a:gdLst>
            <a:ahLst/>
            <a:rect l="textAreaLeft" t="textAreaTop" r="textAreaRight" b="textAreaBottom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3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7" y="133433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Projekt rekultywacji składow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Projekt: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Cambria"/>
              </a:rPr>
              <a:t>Rekultywacja składowisk odpadów gmin będących udziałowcam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mbria"/>
              </a:rPr>
              <a:t>ZUOK „Stary Las”</a:t>
            </a: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 – </a:t>
            </a:r>
            <a:r>
              <a:rPr b="1" lang="pl-PL" sz="1800" spc="-1" strike="noStrike">
                <a:solidFill>
                  <a:srgbClr val="000000"/>
                </a:solidFill>
                <a:latin typeface="Cambria"/>
              </a:rPr>
              <a:t>dofinansowany z EF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mbria"/>
              </a:rPr>
              <a:t>Zblewo</a:t>
            </a: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 -2012-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Skórcz- 2012-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mbria"/>
              </a:rPr>
              <a:t>Bietowo</a:t>
            </a: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- 2012-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mbria"/>
              </a:rPr>
              <a:t>Strych</a:t>
            </a: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-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Karsin-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mbria"/>
              </a:rPr>
              <a:t>Liniewskie Góry-</a:t>
            </a: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 2013-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mbria"/>
              </a:rPr>
              <a:t>Skarszewy</a:t>
            </a: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-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mbria"/>
              </a:rPr>
              <a:t>Bobrowiec</a:t>
            </a: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-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mbria"/>
              </a:rPr>
              <a:t>Linowiec</a:t>
            </a: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-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mbria"/>
              </a:rPr>
              <a:t>Osiek</a:t>
            </a: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-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mbria"/>
              </a:rPr>
              <a:t>Osówek</a:t>
            </a: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-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mbria"/>
              </a:rPr>
              <a:t>Regiony gospodarki odpadami, w których regionalne instalacje do przetwarzania odpadów NIE posiadają zdolności przerobowej wystarczającej do przyjęcia           i przetworzenia odpadów komunalnych z całego regionu gospodarki odpad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mbria"/>
              </a:rPr>
              <a:t>Region Północn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Północny"/>
          <p:cNvPicPr/>
          <p:nvPr/>
        </p:nvPicPr>
        <p:blipFill>
          <a:blip r:embed="rId2"/>
          <a:stretch/>
        </p:blipFill>
        <p:spPr>
          <a:xfrm>
            <a:off x="1908000" y="1268280"/>
            <a:ext cx="5372280" cy="35625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7"/>
          <p:cNvSpPr/>
          <p:nvPr/>
        </p:nvSpPr>
        <p:spPr>
          <a:xfrm>
            <a:off x="3635280" y="2492280"/>
            <a:ext cx="14472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395280" y="5084640"/>
            <a:ext cx="14436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AutoShape 17"/>
          <p:cNvSpPr/>
          <p:nvPr/>
        </p:nvSpPr>
        <p:spPr>
          <a:xfrm flipH="1">
            <a:off x="108000" y="2637000"/>
            <a:ext cx="1727280" cy="431640"/>
          </a:xfrm>
          <a:prstGeom prst="wedgeRectCallout">
            <a:avLst>
              <a:gd name="adj1" fmla="val -157629"/>
              <a:gd name="adj2" fmla="val -599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ZZO Czarnówko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AutoShape 18"/>
          <p:cNvSpPr/>
          <p:nvPr/>
        </p:nvSpPr>
        <p:spPr>
          <a:xfrm flipH="1">
            <a:off x="107280" y="3645000"/>
            <a:ext cx="1692360" cy="431640"/>
          </a:xfrm>
          <a:prstGeom prst="wedgeRectCallout">
            <a:avLst>
              <a:gd name="adj1" fmla="val -118106"/>
              <a:gd name="adj2" fmla="val -160296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Chlewnica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AutoShape 19"/>
          <p:cNvSpPr/>
          <p:nvPr/>
        </p:nvSpPr>
        <p:spPr>
          <a:xfrm flipH="1">
            <a:off x="178560" y="1773360"/>
            <a:ext cx="1692360" cy="431640"/>
          </a:xfrm>
          <a:prstGeom prst="wedgeRectCallout">
            <a:avLst>
              <a:gd name="adj1" fmla="val -206944"/>
              <a:gd name="adj2" fmla="val -5148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Gniewino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AutoShape 20"/>
          <p:cNvSpPr/>
          <p:nvPr/>
        </p:nvSpPr>
        <p:spPr>
          <a:xfrm flipH="1">
            <a:off x="7379640" y="2565360"/>
            <a:ext cx="1655640" cy="432000"/>
          </a:xfrm>
          <a:prstGeom prst="wedgeRectCallout">
            <a:avLst>
              <a:gd name="adj1" fmla="val 211263"/>
              <a:gd name="adj2" fmla="val -133458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Rybska Karczma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AutoShape 21"/>
          <p:cNvSpPr/>
          <p:nvPr/>
        </p:nvSpPr>
        <p:spPr>
          <a:xfrm flipH="1">
            <a:off x="7379640" y="1125360"/>
            <a:ext cx="1584360" cy="432000"/>
          </a:xfrm>
          <a:prstGeom prst="wedgeRectCallout">
            <a:avLst>
              <a:gd name="adj1" fmla="val 155407"/>
              <a:gd name="adj2" fmla="val 41907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Łebcz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AutoShape 22"/>
          <p:cNvSpPr/>
          <p:nvPr/>
        </p:nvSpPr>
        <p:spPr>
          <a:xfrm flipH="1">
            <a:off x="7379640" y="1700280"/>
            <a:ext cx="1584360" cy="431640"/>
          </a:xfrm>
          <a:prstGeom prst="wedgeRectCallout">
            <a:avLst>
              <a:gd name="adj1" fmla="val 158814"/>
              <a:gd name="adj2" fmla="val -3272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warzewo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Oval 25"/>
          <p:cNvSpPr/>
          <p:nvPr/>
        </p:nvSpPr>
        <p:spPr>
          <a:xfrm>
            <a:off x="4500720" y="1916280"/>
            <a:ext cx="142560" cy="144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Text Box 26"/>
          <p:cNvSpPr/>
          <p:nvPr/>
        </p:nvSpPr>
        <p:spPr>
          <a:xfrm>
            <a:off x="755640" y="5013360"/>
            <a:ext cx="7920000" cy="276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Regionalna instalacja do przetwarzania odpadów komunalnych (MBP, zagospodarowanie odpadów zielonych, składowanie)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Oval 28"/>
          <p:cNvSpPr/>
          <p:nvPr/>
        </p:nvSpPr>
        <p:spPr>
          <a:xfrm>
            <a:off x="395280" y="5661000"/>
            <a:ext cx="142920" cy="144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Oval 29"/>
          <p:cNvSpPr/>
          <p:nvPr/>
        </p:nvSpPr>
        <p:spPr>
          <a:xfrm>
            <a:off x="4643280" y="2133720"/>
            <a:ext cx="142920" cy="144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Oval 30"/>
          <p:cNvSpPr/>
          <p:nvPr/>
        </p:nvSpPr>
        <p:spPr>
          <a:xfrm>
            <a:off x="5580000" y="1484280"/>
            <a:ext cx="142920" cy="144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8" name="Oval 31"/>
          <p:cNvSpPr/>
          <p:nvPr/>
        </p:nvSpPr>
        <p:spPr>
          <a:xfrm>
            <a:off x="2916360" y="3068640"/>
            <a:ext cx="142920" cy="144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Text Box 32"/>
          <p:cNvSpPr/>
          <p:nvPr/>
        </p:nvSpPr>
        <p:spPr>
          <a:xfrm>
            <a:off x="755640" y="5589720"/>
            <a:ext cx="7920000" cy="276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Instalacja przewidziana do zastępczej obsługi regionu (składowanie)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Oval 33"/>
          <p:cNvSpPr/>
          <p:nvPr/>
        </p:nvSpPr>
        <p:spPr>
          <a:xfrm>
            <a:off x="395280" y="6093000"/>
            <a:ext cx="142920" cy="144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Text Box 34"/>
          <p:cNvSpPr/>
          <p:nvPr/>
        </p:nvSpPr>
        <p:spPr>
          <a:xfrm>
            <a:off x="755640" y="6021360"/>
            <a:ext cx="7920000" cy="276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Instalacja przewidziana do zastępczej obsługi regionu (składowanie balastu + MP)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2" name="Oval 35"/>
          <p:cNvSpPr/>
          <p:nvPr/>
        </p:nvSpPr>
        <p:spPr>
          <a:xfrm>
            <a:off x="5580000" y="170028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Oval 36"/>
          <p:cNvSpPr/>
          <p:nvPr/>
        </p:nvSpPr>
        <p:spPr>
          <a:xfrm>
            <a:off x="395280" y="652464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Text Box 37"/>
          <p:cNvSpPr/>
          <p:nvPr/>
        </p:nvSpPr>
        <p:spPr>
          <a:xfrm>
            <a:off x="755640" y="6453360"/>
            <a:ext cx="7920000" cy="276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Instalacja przewidziana do zastępczej obsługi regionu (zagospodarowanie odpadów zielonych)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Text Box 38"/>
          <p:cNvSpPr/>
          <p:nvPr/>
        </p:nvSpPr>
        <p:spPr>
          <a:xfrm>
            <a:off x="108000" y="1125360"/>
            <a:ext cx="1800000" cy="3988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211 234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mbria"/>
              </a:rPr>
              <a:t>Region Południowo-Zachodni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0"/>
          <p:cNvSpPr/>
          <p:nvPr/>
        </p:nvSpPr>
        <p:spPr>
          <a:xfrm>
            <a:off x="611280" y="5229360"/>
            <a:ext cx="144360" cy="144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98" name="Picture 34" descr="Południowo-zachodni"/>
          <p:cNvPicPr/>
          <p:nvPr/>
        </p:nvPicPr>
        <p:blipFill>
          <a:blip r:embed="rId2"/>
          <a:stretch/>
        </p:blipFill>
        <p:spPr>
          <a:xfrm>
            <a:off x="1979640" y="1052640"/>
            <a:ext cx="4968720" cy="39607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6"/>
          <p:cNvSpPr/>
          <p:nvPr/>
        </p:nvSpPr>
        <p:spPr>
          <a:xfrm>
            <a:off x="4643280" y="3860640"/>
            <a:ext cx="144720" cy="144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0" name="AutoShape 37"/>
          <p:cNvSpPr/>
          <p:nvPr/>
        </p:nvSpPr>
        <p:spPr>
          <a:xfrm flipH="1">
            <a:off x="6084720" y="4076640"/>
            <a:ext cx="1944720" cy="432000"/>
          </a:xfrm>
          <a:prstGeom prst="wedgeRectCallout">
            <a:avLst>
              <a:gd name="adj1" fmla="val 117833"/>
              <a:gd name="adj2" fmla="val -7978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ZZO Nowy Dwór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1" name="Text Box 38"/>
          <p:cNvSpPr/>
          <p:nvPr/>
        </p:nvSpPr>
        <p:spPr>
          <a:xfrm>
            <a:off x="900000" y="5589720"/>
            <a:ext cx="8064720" cy="276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Instalacja regionalna (składowanie balastu)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AutoShape 40"/>
          <p:cNvSpPr/>
          <p:nvPr/>
        </p:nvSpPr>
        <p:spPr>
          <a:xfrm flipH="1">
            <a:off x="6084720" y="3429000"/>
            <a:ext cx="1944720" cy="576360"/>
          </a:xfrm>
          <a:prstGeom prst="wedgeRectCallout">
            <a:avLst>
              <a:gd name="adj1" fmla="val 117425"/>
              <a:gd name="adj2" fmla="val 1236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Składowisko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w Nowym Dworze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Rectangle 41"/>
          <p:cNvSpPr/>
          <p:nvPr/>
        </p:nvSpPr>
        <p:spPr>
          <a:xfrm>
            <a:off x="4643280" y="3645000"/>
            <a:ext cx="14472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Rectangle 42"/>
          <p:cNvSpPr/>
          <p:nvPr/>
        </p:nvSpPr>
        <p:spPr>
          <a:xfrm>
            <a:off x="611280" y="5589720"/>
            <a:ext cx="14436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" name="Oval 43"/>
          <p:cNvSpPr/>
          <p:nvPr/>
        </p:nvSpPr>
        <p:spPr>
          <a:xfrm>
            <a:off x="2916360" y="4365720"/>
            <a:ext cx="144360" cy="144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Oval 44"/>
          <p:cNvSpPr/>
          <p:nvPr/>
        </p:nvSpPr>
        <p:spPr>
          <a:xfrm>
            <a:off x="2556000" y="3429000"/>
            <a:ext cx="144360" cy="144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Oval 45"/>
          <p:cNvSpPr/>
          <p:nvPr/>
        </p:nvSpPr>
        <p:spPr>
          <a:xfrm>
            <a:off x="611280" y="6093000"/>
            <a:ext cx="144360" cy="144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Oval 47"/>
          <p:cNvSpPr/>
          <p:nvPr/>
        </p:nvSpPr>
        <p:spPr>
          <a:xfrm>
            <a:off x="3635280" y="3429000"/>
            <a:ext cx="144720" cy="144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Oval 48"/>
          <p:cNvSpPr/>
          <p:nvPr/>
        </p:nvSpPr>
        <p:spPr>
          <a:xfrm>
            <a:off x="3419640" y="2708280"/>
            <a:ext cx="14436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Oval 49"/>
          <p:cNvSpPr/>
          <p:nvPr/>
        </p:nvSpPr>
        <p:spPr>
          <a:xfrm>
            <a:off x="5651640" y="2852640"/>
            <a:ext cx="144360" cy="1447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Oval 50"/>
          <p:cNvSpPr/>
          <p:nvPr/>
        </p:nvSpPr>
        <p:spPr>
          <a:xfrm>
            <a:off x="3924360" y="2349360"/>
            <a:ext cx="144360" cy="1447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AutoShape 51"/>
          <p:cNvSpPr/>
          <p:nvPr/>
        </p:nvSpPr>
        <p:spPr>
          <a:xfrm flipH="1">
            <a:off x="7020000" y="1844640"/>
            <a:ext cx="1944720" cy="432000"/>
          </a:xfrm>
          <a:prstGeom prst="wedgeRectCallout">
            <a:avLst>
              <a:gd name="adj1" fmla="val 113101"/>
              <a:gd name="adj2" fmla="val 196319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Nieżurawa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" name="AutoShape 52"/>
          <p:cNvSpPr/>
          <p:nvPr/>
        </p:nvSpPr>
        <p:spPr>
          <a:xfrm flipH="1">
            <a:off x="178560" y="1700280"/>
            <a:ext cx="1798920" cy="431640"/>
          </a:xfrm>
          <a:prstGeom prst="wedgeRectCallout">
            <a:avLst>
              <a:gd name="adj1" fmla="val -159268"/>
              <a:gd name="adj2" fmla="val 116175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Zielona Huta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AutoShape 53"/>
          <p:cNvSpPr/>
          <p:nvPr/>
        </p:nvSpPr>
        <p:spPr>
          <a:xfrm flipH="1">
            <a:off x="178560" y="2421000"/>
            <a:ext cx="1800360" cy="431640"/>
          </a:xfrm>
          <a:prstGeom prst="wedgeRectCallout">
            <a:avLst>
              <a:gd name="adj1" fmla="val -131574"/>
              <a:gd name="adj2" fmla="val 2499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Przechlewo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AutoShape 54"/>
          <p:cNvSpPr/>
          <p:nvPr/>
        </p:nvSpPr>
        <p:spPr>
          <a:xfrm flipH="1">
            <a:off x="108000" y="4076640"/>
            <a:ext cx="1800000" cy="432000"/>
          </a:xfrm>
          <a:prstGeom prst="wedgeRectCallout">
            <a:avLst>
              <a:gd name="adj1" fmla="val -88449"/>
              <a:gd name="adj2" fmla="val -190810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Nadziejewo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AutoShape 55"/>
          <p:cNvSpPr/>
          <p:nvPr/>
        </p:nvSpPr>
        <p:spPr>
          <a:xfrm flipH="1">
            <a:off x="108000" y="4581360"/>
            <a:ext cx="1800000" cy="432000"/>
          </a:xfrm>
          <a:prstGeom prst="wedgeRectCallout">
            <a:avLst>
              <a:gd name="adj1" fmla="val -107500"/>
              <a:gd name="adj2" fmla="val -81986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Grzymisław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AutoShape 56"/>
          <p:cNvSpPr/>
          <p:nvPr/>
        </p:nvSpPr>
        <p:spPr>
          <a:xfrm flipH="1">
            <a:off x="178560" y="2997360"/>
            <a:ext cx="1800360" cy="431640"/>
          </a:xfrm>
          <a:prstGeom prst="wedgeRectCallout">
            <a:avLst>
              <a:gd name="adj1" fmla="val -142949"/>
              <a:gd name="adj2" fmla="val 61393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Kiełpin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Text Box 57"/>
          <p:cNvSpPr/>
          <p:nvPr/>
        </p:nvSpPr>
        <p:spPr>
          <a:xfrm>
            <a:off x="900000" y="6021360"/>
            <a:ext cx="8064720" cy="276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Instalacja przewidziana do zastępczej obsługi regionu, do czasu uruchomienia instalacji regionalnej (składowanie)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Text Box 58"/>
          <p:cNvSpPr/>
          <p:nvPr/>
        </p:nvSpPr>
        <p:spPr>
          <a:xfrm>
            <a:off x="900000" y="5157720"/>
            <a:ext cx="8064720" cy="276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Instalacja regionalna w trakcie budowy (MBP, zagospodarowanie odpadów zielonych, składowanie)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Text Box 59"/>
          <p:cNvSpPr/>
          <p:nvPr/>
        </p:nvSpPr>
        <p:spPr>
          <a:xfrm>
            <a:off x="179280" y="1052640"/>
            <a:ext cx="1800360" cy="3988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150 547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Oval 60"/>
          <p:cNvSpPr/>
          <p:nvPr/>
        </p:nvSpPr>
        <p:spPr>
          <a:xfrm>
            <a:off x="611280" y="6524640"/>
            <a:ext cx="14436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Text Box 61"/>
          <p:cNvSpPr/>
          <p:nvPr/>
        </p:nvSpPr>
        <p:spPr>
          <a:xfrm>
            <a:off x="900000" y="6453360"/>
            <a:ext cx="8064720" cy="276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Instalacja przewidziana do zastępczej obsługi regionu (składowanie, zagospodarowanie odpadów zielonych)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Projekt rekultywacji składow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713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Projekt: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Cambria"/>
              </a:rPr>
              <a:t>Rekultywacja 15 składowisk odpadów komunalnych zlokalizowan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mbria"/>
              </a:rPr>
              <a:t>na obszarze działania ZZO w Nowym</a:t>
            </a: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– </a:t>
            </a:r>
            <a:r>
              <a:rPr b="1" lang="pl-PL" sz="1800" spc="-1" strike="noStrike">
                <a:solidFill>
                  <a:srgbClr val="000000"/>
                </a:solidFill>
                <a:latin typeface="Cambria"/>
              </a:rPr>
              <a:t>dofinansowany z EF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mbria"/>
              </a:rPr>
              <a:t>skł. w m. Nowy Dwó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Chojnicz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Ciechoc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Gockow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Kosob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Czer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mbria"/>
              </a:rPr>
              <a:t>Nieżura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mbria"/>
              </a:rPr>
              <a:t>Zielona H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mbria"/>
              </a:rPr>
              <a:t>Grzymisł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mbria"/>
              </a:rPr>
              <a:t>Kieł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Dęb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mbria"/>
              </a:rPr>
              <a:t>Nadzieje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mbria"/>
              </a:rPr>
              <a:t>Przechlewo</a:t>
            </a: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-2 sz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Sąpol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mbria"/>
              </a:rPr>
              <a:t>Region Wschodn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6" descr="Wschodni"/>
          <p:cNvPicPr/>
          <p:nvPr/>
        </p:nvPicPr>
        <p:blipFill>
          <a:blip r:embed="rId2"/>
          <a:stretch/>
        </p:blipFill>
        <p:spPr>
          <a:xfrm>
            <a:off x="2556000" y="1052640"/>
            <a:ext cx="4032000" cy="417672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7"/>
          <p:cNvSpPr/>
          <p:nvPr/>
        </p:nvSpPr>
        <p:spPr>
          <a:xfrm>
            <a:off x="4716360" y="4437000"/>
            <a:ext cx="14472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3635280" y="2852640"/>
            <a:ext cx="144720" cy="14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3780000" y="2637000"/>
            <a:ext cx="144360" cy="144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108000" y="5229360"/>
            <a:ext cx="14436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AutoShape 13"/>
          <p:cNvSpPr/>
          <p:nvPr/>
        </p:nvSpPr>
        <p:spPr>
          <a:xfrm flipH="1">
            <a:off x="179280" y="4437000"/>
            <a:ext cx="1944720" cy="432000"/>
          </a:xfrm>
          <a:prstGeom prst="wedgeRectCallout">
            <a:avLst>
              <a:gd name="adj1" fmla="val -139310"/>
              <a:gd name="adj2" fmla="val -72060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Nicponia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AutoShape 14"/>
          <p:cNvSpPr/>
          <p:nvPr/>
        </p:nvSpPr>
        <p:spPr>
          <a:xfrm flipH="1">
            <a:off x="179280" y="3213000"/>
            <a:ext cx="1944720" cy="505080"/>
          </a:xfrm>
          <a:prstGeom prst="wedgeRectCallout">
            <a:avLst>
              <a:gd name="adj1" fmla="val -128208"/>
              <a:gd name="adj2" fmla="val -102833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Składowisko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w Rokitkach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AutoShape 15"/>
          <p:cNvSpPr/>
          <p:nvPr/>
        </p:nvSpPr>
        <p:spPr>
          <a:xfrm flipH="1">
            <a:off x="179280" y="2637000"/>
            <a:ext cx="1944720" cy="431640"/>
          </a:xfrm>
          <a:prstGeom prst="wedgeRectCallout">
            <a:avLst>
              <a:gd name="adj1" fmla="val -138981"/>
              <a:gd name="adj2" fmla="val -3125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mbria"/>
              </a:rPr>
              <a:t>Kommunalservice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4" name="AutoShape 21"/>
          <p:cNvSpPr/>
          <p:nvPr/>
        </p:nvSpPr>
        <p:spPr>
          <a:xfrm flipH="1">
            <a:off x="179280" y="3860640"/>
            <a:ext cx="1944720" cy="432000"/>
          </a:xfrm>
          <a:prstGeom prst="wedgeRectCallout">
            <a:avLst>
              <a:gd name="adj1" fmla="val -126898"/>
              <a:gd name="adj2" fmla="val -119120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Ropuchy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AutoShape 22"/>
          <p:cNvSpPr/>
          <p:nvPr/>
        </p:nvSpPr>
        <p:spPr>
          <a:xfrm flipH="1">
            <a:off x="179280" y="1989000"/>
            <a:ext cx="1944720" cy="432000"/>
          </a:xfrm>
          <a:prstGeom prst="wedgeRectCallout">
            <a:avLst>
              <a:gd name="adj1" fmla="val -104939"/>
              <a:gd name="adj2" fmla="val 30879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Gołębiewo Wielkie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AutoShape 23"/>
          <p:cNvSpPr/>
          <p:nvPr/>
        </p:nvSpPr>
        <p:spPr>
          <a:xfrm flipH="1">
            <a:off x="6948360" y="4581360"/>
            <a:ext cx="1944720" cy="432000"/>
          </a:xfrm>
          <a:prstGeom prst="wedgeRectCallout">
            <a:avLst>
              <a:gd name="adj1" fmla="val 158893"/>
              <a:gd name="adj2" fmla="val -67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ZZO Gilwa Mała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AutoShape 24"/>
          <p:cNvSpPr/>
          <p:nvPr/>
        </p:nvSpPr>
        <p:spPr>
          <a:xfrm flipH="1">
            <a:off x="6876360" y="3429000"/>
            <a:ext cx="2087640" cy="431640"/>
          </a:xfrm>
          <a:prstGeom prst="wedgeRectCallout">
            <a:avLst>
              <a:gd name="adj1" fmla="val 119504"/>
              <a:gd name="adj2" fmla="val 15439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Minięta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8" name="AutoShape 25"/>
          <p:cNvSpPr/>
          <p:nvPr/>
        </p:nvSpPr>
        <p:spPr>
          <a:xfrm flipH="1">
            <a:off x="7020000" y="2060640"/>
            <a:ext cx="1944720" cy="431640"/>
          </a:xfrm>
          <a:prstGeom prst="wedgeRectCallout">
            <a:avLst>
              <a:gd name="adj1" fmla="val 141916"/>
              <a:gd name="adj2" fmla="val 167277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zaleniec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AutoShape 26"/>
          <p:cNvSpPr/>
          <p:nvPr/>
        </p:nvSpPr>
        <p:spPr>
          <a:xfrm flipH="1">
            <a:off x="6803280" y="2852640"/>
            <a:ext cx="2233800" cy="432000"/>
          </a:xfrm>
          <a:prstGeom prst="wedgeRectCallout">
            <a:avLst>
              <a:gd name="adj1" fmla="val 143884"/>
              <a:gd name="adj2" fmla="val 129777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Nowa Wieś Sztumska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0" name="Rectangle 29"/>
          <p:cNvSpPr/>
          <p:nvPr/>
        </p:nvSpPr>
        <p:spPr>
          <a:xfrm>
            <a:off x="3780000" y="2852640"/>
            <a:ext cx="144360" cy="144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Rectangle 30"/>
          <p:cNvSpPr/>
          <p:nvPr/>
        </p:nvSpPr>
        <p:spPr>
          <a:xfrm>
            <a:off x="108000" y="5589720"/>
            <a:ext cx="144360" cy="144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2" name="Text Box 34"/>
          <p:cNvSpPr/>
          <p:nvPr/>
        </p:nvSpPr>
        <p:spPr>
          <a:xfrm>
            <a:off x="395280" y="5589720"/>
            <a:ext cx="8353440" cy="2462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Instalacja regionalna w trakcie budowy (MBP, zagospodarowanie odpadów zielonych, składowanie)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3" name="Text Box 35"/>
          <p:cNvSpPr/>
          <p:nvPr/>
        </p:nvSpPr>
        <p:spPr>
          <a:xfrm>
            <a:off x="395280" y="5229360"/>
            <a:ext cx="8353440" cy="2462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Regionalna instalacja do przetwarzania odpadów komunalnych (MBP, zagospodarowanie odpadów zielonych, składowanie)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Oval 36"/>
          <p:cNvSpPr/>
          <p:nvPr/>
        </p:nvSpPr>
        <p:spPr>
          <a:xfrm>
            <a:off x="5076720" y="2924280"/>
            <a:ext cx="144720" cy="144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Oval 37"/>
          <p:cNvSpPr/>
          <p:nvPr/>
        </p:nvSpPr>
        <p:spPr>
          <a:xfrm>
            <a:off x="108000" y="6237360"/>
            <a:ext cx="144360" cy="144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Oval 39"/>
          <p:cNvSpPr/>
          <p:nvPr/>
        </p:nvSpPr>
        <p:spPr>
          <a:xfrm>
            <a:off x="4572000" y="3573360"/>
            <a:ext cx="144360" cy="1447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Oval 40"/>
          <p:cNvSpPr/>
          <p:nvPr/>
        </p:nvSpPr>
        <p:spPr>
          <a:xfrm>
            <a:off x="5364000" y="3645000"/>
            <a:ext cx="144720" cy="144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AutoShape 41"/>
          <p:cNvSpPr/>
          <p:nvPr/>
        </p:nvSpPr>
        <p:spPr>
          <a:xfrm flipH="1">
            <a:off x="6804000" y="1268280"/>
            <a:ext cx="1944720" cy="432000"/>
          </a:xfrm>
          <a:prstGeom prst="wedgeRectCallout">
            <a:avLst>
              <a:gd name="adj1" fmla="val 198814"/>
              <a:gd name="adj2" fmla="val 3286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ZZO Rokitki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Oval 42"/>
          <p:cNvSpPr/>
          <p:nvPr/>
        </p:nvSpPr>
        <p:spPr>
          <a:xfrm>
            <a:off x="3851280" y="4292640"/>
            <a:ext cx="144360" cy="144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Oval 43"/>
          <p:cNvSpPr/>
          <p:nvPr/>
        </p:nvSpPr>
        <p:spPr>
          <a:xfrm>
            <a:off x="3564000" y="3500280"/>
            <a:ext cx="144360" cy="1447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Oval 44"/>
          <p:cNvSpPr/>
          <p:nvPr/>
        </p:nvSpPr>
        <p:spPr>
          <a:xfrm>
            <a:off x="3203640" y="2276640"/>
            <a:ext cx="144360" cy="144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Rectangle 45"/>
          <p:cNvSpPr/>
          <p:nvPr/>
        </p:nvSpPr>
        <p:spPr>
          <a:xfrm>
            <a:off x="108000" y="5950080"/>
            <a:ext cx="14436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Text Box 46"/>
          <p:cNvSpPr/>
          <p:nvPr/>
        </p:nvSpPr>
        <p:spPr>
          <a:xfrm>
            <a:off x="395280" y="5877000"/>
            <a:ext cx="8353440" cy="2462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Instalacja regionalna (składowanie balastu)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Text Box 47"/>
          <p:cNvSpPr/>
          <p:nvPr/>
        </p:nvSpPr>
        <p:spPr>
          <a:xfrm>
            <a:off x="395280" y="6237360"/>
            <a:ext cx="8353440" cy="2462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Instalacja przewidziana do zastępczej obsługi regionu, do czasu uruchomienia  instalacji regionalnej (składowanie)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Rectangle 48"/>
          <p:cNvSpPr/>
          <p:nvPr/>
        </p:nvSpPr>
        <p:spPr>
          <a:xfrm>
            <a:off x="108000" y="6597720"/>
            <a:ext cx="144360" cy="144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Text Box 49"/>
          <p:cNvSpPr/>
          <p:nvPr/>
        </p:nvSpPr>
        <p:spPr>
          <a:xfrm>
            <a:off x="395280" y="6573960"/>
            <a:ext cx="8353440" cy="2462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Regionalna instalacja do przetwarzania odpadów komunalnych (zagospodarowanie odpadów zielonych)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Text Box 50"/>
          <p:cNvSpPr/>
          <p:nvPr/>
        </p:nvSpPr>
        <p:spPr>
          <a:xfrm>
            <a:off x="179280" y="1197000"/>
            <a:ext cx="1800360" cy="3988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365 079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68000" y="0"/>
            <a:ext cx="66596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Plany gospodarki odpadami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 od 1 stycznia 2012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lany gospodarki odpadami opracowywane będą na poziomie</a:t>
            </a:r>
            <a:r>
              <a:rPr b="0" lang="en-US" sz="2000" spc="-1" strike="noStrike">
                <a:solidFill>
                  <a:srgbClr val="cc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mbria"/>
              </a:rPr>
              <a:t>      </a:t>
            </a:r>
            <a:r>
              <a:rPr b="1" lang="en-US" sz="2000" spc="-1" strike="noStrike">
                <a:solidFill>
                  <a:srgbClr val="cc0000"/>
                </a:solidFill>
                <a:latin typeface="Cambria"/>
              </a:rPr>
              <a:t>krajowym  i wojewódzk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rak potrzeby wykonania planów gospodarki odpadami  na szczebl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mbria"/>
              </a:rPr>
              <a:t>       </a:t>
            </a:r>
            <a:r>
              <a:rPr b="1" lang="en-US" sz="2000" spc="-1" strike="noStrike">
                <a:solidFill>
                  <a:srgbClr val="cc0000"/>
                </a:solidFill>
                <a:latin typeface="Cambria"/>
              </a:rPr>
              <a:t>powiatowym i gminn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lany gospodarki odpadami podlegać będą aktualizacji nie rzadziej niż    co</a:t>
            </a:r>
            <a:r>
              <a:rPr b="0" lang="en-US" sz="2000" spc="-1" strike="noStrike">
                <a:solidFill>
                  <a:srgbClr val="cc0000"/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ambria"/>
              </a:rPr>
              <a:t>6 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ambria"/>
              </a:rPr>
              <a:t>Termin uchwalenia WPGO do 30 czerwca 2012 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Projekt rekultywacji składow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Rekultywacja składowisk w ramach projektu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Cambria"/>
              </a:rPr>
              <a:t>„Regionalny Sy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Cambria"/>
              </a:rPr>
              <a:t>Gospodarki Odpadami Tczew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Cambria"/>
              </a:rPr>
              <a:t>Miłoc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Gołębiewo Wielk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Minię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Malbork- 2 składowi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Lisewo Malborsk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Mątowy Mał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Świer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Szaleni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urzedowy_w2_slajd_wewnetrzny150"/>
          <p:cNvPicPr/>
          <p:nvPr/>
        </p:nvPicPr>
        <p:blipFill>
          <a:blip r:embed="rId2"/>
          <a:stretch/>
        </p:blipFill>
        <p:spPr>
          <a:xfrm>
            <a:off x="79200" y="57240"/>
            <a:ext cx="9064800" cy="680076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"/>
          <p:cNvSpPr/>
          <p:nvPr/>
        </p:nvSpPr>
        <p:spPr>
          <a:xfrm>
            <a:off x="250920" y="1484280"/>
            <a:ext cx="8610480" cy="41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Zgodnie z zapisami rozporządzenia Ministra Gospodarki i Pracy z dnia 7 września 2005 r. w sprawie kryteriów i procedur dopuszczenia odpadów do składowania na składowiskach danego typu (Dz. U. Nr 186, poz. 1553 z późn. zm.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cc3300"/>
                </a:solidFill>
                <a:uFillTx/>
                <a:latin typeface="Cambria"/>
              </a:rPr>
              <a:t>od 01. 01. 2013 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nie będzie można składować odpadów komunalnych, których wartości graniczne przekraczają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Ogólny węgiel organiczny TOC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&gt;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5%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Strata przy prażeniu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&gt;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8%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Ciepło spalania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&gt;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6 MJ/kg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2987640" y="189000"/>
            <a:ext cx="59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Wymagania dotyczące składowania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odpadów komunalnych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4"/>
          <p:cNvSpPr/>
          <p:nvPr/>
        </p:nvSpPr>
        <p:spPr>
          <a:xfrm>
            <a:off x="2411280" y="2492280"/>
            <a:ext cx="4608720" cy="23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Cambria"/>
              </a:rPr>
              <a:t>Dziękuję za uwagę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Cambria"/>
              </a:rPr>
              <a:t>Anna Grapatyn-Korzeniowska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Cambria"/>
              </a:rPr>
              <a:t>Katarzyna Wiśniewska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Cambria"/>
              </a:rPr>
              <a:t>Tadeusz Styn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Ranga nowych Planów Gospodarki Odpad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ambria"/>
              </a:rPr>
              <a:t>Wojewódzki plan gospodarki odpadami, w części realizacyjnej, ak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ambria"/>
              </a:rPr>
              <a:t>prawa miejscow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Wraz z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uchwaleniem wojewódzkiego planu gospodarki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dpadami sejmi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województwa podejmuje </a:t>
            </a:r>
            <a:r>
              <a:rPr b="1" lang="en-US" sz="2000" spc="-1" strike="noStrike" u="sng">
                <a:solidFill>
                  <a:srgbClr val="c00000"/>
                </a:solidFill>
                <a:uFillTx/>
                <a:latin typeface="Cambria"/>
              </a:rPr>
              <a:t>uchwałę w sprawie jego wykonania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Uchwała jest aktem prawa miejscow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mbria"/>
              </a:rPr>
              <a:t>Uchwała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w sprawie wykonania wojewódzkiego planu gospodark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dpadami określać będz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podział na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regiony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gospodarki odpadami wraz ze wskazaniem gmin wchodzących w skład region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regionalne instalacje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do przetwarzania odpadów komunalny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instalacje do  zastępczej obsługi regionów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( instalacje regionalne lub składowiska spełniające wymagania ochrony środowiska, w tym posiadające wymagane decyz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50752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Region gospodarki odpadami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00000"/>
                </a:solidFill>
                <a:latin typeface="Cambria"/>
              </a:rPr>
              <a:t>Region gospodarki odpadami komunalnym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mbria"/>
              </a:rPr>
              <a:t>Obszar liczący co najmniej 150 000 mieszkańc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mbria"/>
              </a:rPr>
              <a:t>Obszar gminy liczącej powyżej 500 000 mieszkańc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Cambria"/>
              </a:rPr>
              <a:t>W ramach Regionu wyznaczonego w WPGO, zapewnienie budowy, utrzymania i eksploatacji własnych lub wspólnych z innymi gminami instalacji regionalnych </a:t>
            </a:r>
            <a:r>
              <a:rPr b="1" lang="pl-PL" sz="2400" spc="-1" strike="noStrike">
                <a:solidFill>
                  <a:srgbClr val="000000"/>
                </a:solidFill>
                <a:latin typeface="Cambria"/>
              </a:rPr>
              <a:t>stanowi obowiązkowe zadanie własne gminy</a:t>
            </a:r>
            <a:r>
              <a:rPr b="0" lang="pl-PL" sz="2400" spc="-1" strike="noStrike">
                <a:solidFill>
                  <a:srgbClr val="000000"/>
                </a:solidFill>
                <a:latin typeface="Cambria"/>
              </a:rPr>
              <a:t> (art. 3 ust.1 i 2 pkt 2 uoucz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50752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Regionalna instalacja do przetwarzania odpad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mbria"/>
              </a:rPr>
              <a:t>Regionalna instalacja do przetwarzania odpadów komunalny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Zakład zagospodarowania odpadów o mocy przerobowej wystarczającej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o przyjmowania i przetwarzania opadów z obszaru zamieszkanego przez 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najmniej 120 tys. mieszkańców zapewniający termiczne przekształcen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dpadów lu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mechaniczno-biologiczne przetwarzanie zmieszanych odpadów komunalny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przetwarzanie zebranych selektywnie odpadów zielonych i innych bioodpad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kładowanie odpadów powstających w procesie mechaniczno-biologicznego przetwarzania odpadów oraz pozostałości z sortowania przez okres nie krótszy niż 15 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507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Obowiązki -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podmioty odbierające odpady komunal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zekazywanie odebranych od właścicieli nieruchomości zmieszanych odpadów komunalnych, odpadów zielonych oraz pozostałości z sortowania odpadów komunalnych przeznaczonych do składowania </a:t>
            </a:r>
            <a:r>
              <a:rPr b="1" lang="en-US" sz="2400" spc="-1" strike="noStrike">
                <a:solidFill>
                  <a:srgbClr val="cc0000"/>
                </a:solidFill>
                <a:latin typeface="Cambria"/>
              </a:rPr>
              <a:t>do regionalnej instalacji do przetwarzania odpadów komunalnych lub do czasu jej wybudowania do instalacji zastępczej w regio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zekazywanie odebranych od właścicieli nieruchomości selektywnie zebranych odpadów komunalnych do instalacji odzysku i unieszkodliwiania odpadów, zgodnie z hierarchią postępowania z odpad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08000" y="1413000"/>
            <a:ext cx="8640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mbria"/>
              </a:rPr>
              <a:t>Prowadzący regionalną instalację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o przetwarzania odpadów komunalnych </a:t>
            </a:r>
            <a:r>
              <a:rPr b="1" lang="en-US" sz="2400" spc="-1" strike="noStrike">
                <a:solidFill>
                  <a:srgbClr val="cc0000"/>
                </a:solidFill>
                <a:latin typeface="Cambria"/>
              </a:rPr>
              <a:t>jest obowiązany zawrzeć umowę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a zagospodarowanie zmieszanych odpadów komunalnych, odpadów zielonych lub pozostałości z sortowania odpadów komunalnych przeznaczonych do składowania </a:t>
            </a:r>
            <a:r>
              <a:rPr b="1" lang="en-US" sz="2400" spc="-1" strike="noStrike">
                <a:solidFill>
                  <a:srgbClr val="cc0000"/>
                </a:solidFill>
                <a:latin typeface="Cambria"/>
              </a:rPr>
              <a:t>ze wszystkimi podmiotami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odbierającymi odpady komunalne od właścicieli nieruchomości, </a:t>
            </a:r>
            <a:r>
              <a:rPr b="1" lang="en-US" sz="2400" spc="-1" strike="noStrike">
                <a:solidFill>
                  <a:srgbClr val="cc0000"/>
                </a:solidFill>
                <a:latin typeface="Cambria"/>
              </a:rPr>
              <a:t>którzy wykonują swoją działalność w ramach regionu gospodarki odpadami komunalny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Obowiązki –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podmioty prowadzące regionalną instalacj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507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Kary-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podmioty odbierające odpady komunal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rak wpisu do rejestru działalności regulowanej- </a:t>
            </a:r>
            <a:r>
              <a:rPr b="0" lang="en-US" sz="2000" spc="-1" strike="noStrike">
                <a:solidFill>
                  <a:srgbClr val="cc0000"/>
                </a:solidFill>
                <a:latin typeface="Cambria"/>
              </a:rPr>
              <a:t>5 000 zł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za pierwszy miesiąc, </a:t>
            </a:r>
            <a:r>
              <a:rPr b="0" lang="en-US" sz="2000" spc="-1" strike="noStrike">
                <a:solidFill>
                  <a:srgbClr val="cc0000"/>
                </a:solidFill>
                <a:latin typeface="Cambria"/>
              </a:rPr>
              <a:t>10 000 zł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za każdy kolejny miesią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Mieszanie selektywnie zebranych odpadów komunalnych z odpadami zmieszanym- - </a:t>
            </a:r>
            <a:r>
              <a:rPr b="0" lang="en-US" sz="2000" spc="-1" strike="noStrike">
                <a:solidFill>
                  <a:srgbClr val="cc0000"/>
                </a:solidFill>
                <a:latin typeface="Cambria"/>
              </a:rPr>
              <a:t>10 000 zł - 50 000 z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Nie przekazanie odebranych od właścicieli nieruchomości zmieszanych odpadów komunalnych, odpadów zielonych oraz pozostałości z sortowania odpadów komunalnych przeznaczonych do składowania do regionalnej instalacji do przetwarzania odpadów komunalnych- </a:t>
            </a:r>
            <a:r>
              <a:rPr b="0" lang="en-US" sz="2000" spc="-1" strike="noStrike">
                <a:solidFill>
                  <a:srgbClr val="cc0000"/>
                </a:solidFill>
                <a:latin typeface="Cambria"/>
              </a:rPr>
              <a:t>500 zł - 2 000 zł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za pierwszy ujawniony przypad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Nierzetelne sprawozdanie- </a:t>
            </a:r>
            <a:r>
              <a:rPr b="0" lang="en-US" sz="2000" spc="-1" strike="noStrike">
                <a:solidFill>
                  <a:srgbClr val="cc0000"/>
                </a:solidFill>
                <a:latin typeface="Cambria"/>
              </a:rPr>
              <a:t>500 zł - 5 000 z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prawozdanie po terminie- </a:t>
            </a:r>
            <a:r>
              <a:rPr b="0" lang="en-US" sz="2000" spc="-1" strike="noStrike">
                <a:solidFill>
                  <a:srgbClr val="cc0000"/>
                </a:solidFill>
                <a:latin typeface="Cambria"/>
              </a:rPr>
              <a:t>100 zł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/dzień opóźni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07:52:50Z</dcterms:created>
  <dc:creator>Stawiński Arkadiusz</dc:creator>
  <dc:description/>
  <dc:language>en-US</dc:language>
  <cp:lastModifiedBy>kawisniewska</cp:lastModifiedBy>
  <dcterms:modified xsi:type="dcterms:W3CDTF">2011-12-01T08:05:28Z</dcterms:modified>
  <cp:revision>126</cp:revision>
  <dc:subject/>
  <dc:title>72 dpi</dc:title>
</cp:coreProperties>
</file>