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B96A0-FD9C-422C-9ACE-C43606E293D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6DC69-148A-4FF9-9770-2AB7DD7C603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20F3-D8AC-4E0B-A520-AC8B3D0C0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1DB3-B1F7-497E-85CF-905EC1709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9793-6097-4D1E-891C-F4FC20F46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A58D-B863-45A9-A524-3EB9434C7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E884-9FE8-4FF2-9822-4DF8A6EA7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77B0-CF37-4416-B5F4-F239B1352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32D4-0BCA-4FE0-9B7D-90182FD6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C646-A048-419A-A1E3-4CCC9556C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7C24-06CE-4DF5-BDC7-4128ED3F8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85B3-5DE6-42DC-BCFD-12F92304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8253-245C-45BB-9D7B-0F2BD253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61CC-F7B8-4EEF-B490-0B4DE699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E8D61-8F9B-4205-A444-8433D2410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3.jpeg"/><Relationship Id="rId23" Type="http://schemas.openxmlformats.org/officeDocument/2006/relationships/image" Target="../media/image3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image" Target="../media/image3.jpeg"/><Relationship Id="rId27" Type="http://schemas.openxmlformats.org/officeDocument/2006/relationships/image" Target="../media/image3.jpeg"/><Relationship Id="rId28" Type="http://schemas.openxmlformats.org/officeDocument/2006/relationships/image" Target="../media/image3.jpeg"/><Relationship Id="rId29" Type="http://schemas.openxmlformats.org/officeDocument/2006/relationships/image" Target="../media/image3.jpeg"/><Relationship Id="rId30" Type="http://schemas.openxmlformats.org/officeDocument/2006/relationships/image" Target="../media/image3.jpeg"/><Relationship Id="rId31" Type="http://schemas.openxmlformats.org/officeDocument/2006/relationships/image" Target="../media/image3.jpeg"/><Relationship Id="rId32" Type="http://schemas.openxmlformats.org/officeDocument/2006/relationships/image" Target="../media/image3.jpeg"/><Relationship Id="rId33" Type="http://schemas.openxmlformats.org/officeDocument/2006/relationships/image" Target="../media/image3.jpeg"/><Relationship Id="rId3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2268360" y="5589720"/>
            <a:ext cx="49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alibri"/>
              </a:rPr>
              <a:t>Gdańsk, 11 maja 2012 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1773000"/>
            <a:ext cx="8569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1800"/>
            </a:b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539640" y="1989000"/>
            <a:ext cx="8209080" cy="29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Zmiana systemu gospodarowania odpadami wynikająca z projektu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Planu Gospodarki Odpadami dla Województwa Pomorskiego 201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4247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libri"/>
              </a:rPr>
              <a:t>Regiony gospodarki odpad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24000" y="1197000"/>
          <a:ext cx="8496000" cy="5346720"/>
        </p:xfrm>
        <a:graphic>
          <a:graphicData uri="http://schemas.openxmlformats.org/drawingml/2006/table">
            <a:tbl>
              <a:tblPr/>
              <a:tblGrid>
                <a:gridCol w="853920"/>
                <a:gridCol w="2833560"/>
                <a:gridCol w="2406960"/>
                <a:gridCol w="2401560"/>
              </a:tblGrid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azwa region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IP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iczba mieszkańc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zadółk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IPOK Szadółk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7 4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ko Doli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IPOK Eko Doli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0 5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59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ółnocn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IPOK Czarnówk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 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ółnocno-Zachod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IPOK Bierkow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IPOK Sierzn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4 4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</a:tr>
              <a:tr h="59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ołudniowo-Zachodn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IPOK Nowy Dwó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 547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ołudniow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IPOK Stary La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0 9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</a:tr>
              <a:tr h="65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Wschodn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IPOK Tczew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IPOK Gilwa Mał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5 0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libri"/>
              </a:rPr>
              <a:t>Deklaracje gmin do obszarów obsługi Z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Deklaracje do ZZO"/>
          <p:cNvPicPr/>
          <p:nvPr/>
        </p:nvPicPr>
        <p:blipFill>
          <a:blip r:embed="rId2"/>
          <a:stretch/>
        </p:blipFill>
        <p:spPr>
          <a:xfrm>
            <a:off x="900000" y="1052640"/>
            <a:ext cx="7488360" cy="55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075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libri"/>
              </a:rPr>
              <a:t>Nowe regiony gospodarki odpad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8" descr="Nowe regiony-podpisy-wariant II"/>
          <p:cNvPicPr/>
          <p:nvPr/>
        </p:nvPicPr>
        <p:blipFill>
          <a:blip r:embed="rId2"/>
          <a:stretch/>
        </p:blipFill>
        <p:spPr>
          <a:xfrm>
            <a:off x="755640" y="1052640"/>
            <a:ext cx="7777080" cy="58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23640" y="105228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99"/>
                </a:solidFill>
                <a:latin typeface="Calibri"/>
              </a:rPr>
              <a:t>Regiony gospodarki odpadami, w których funkcjonują instalacje mogą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99"/>
                </a:solidFill>
                <a:latin typeface="Calibri"/>
              </a:rPr>
              <a:t>przetworzyć odpady komunalne z całego regionu: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egion Szadół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egion Eko Do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egion Północno-Zachod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egion Południow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cc0000"/>
                </a:solidFill>
                <a:latin typeface="Calibri"/>
              </a:rPr>
              <a:t>Regiony gospodarki odpadami, w których funkcjonują instalacje NIE mogą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cc0000"/>
                </a:solidFill>
                <a:latin typeface="Calibri"/>
              </a:rPr>
              <a:t>przetworzyć odpadów komunalnych z całego regionu: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egion Północ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egion Południowo-Zachod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egion Wschod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68360" y="2060640"/>
            <a:ext cx="79912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libri"/>
              </a:rPr>
              <a:t>Regiony gospodarki odpadami, w których regionalne instalacje do przetwarzania odpadów, posiadają zdolności przerobowe wystarczające do przyjęcia i przetworzenia odpadów komunalnych z całego regionu gospodarki odpada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07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99"/>
                </a:solidFill>
                <a:latin typeface="Calibri"/>
              </a:rPr>
              <a:t>Region Szadół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1"/>
          <p:cNvSpPr/>
          <p:nvPr/>
        </p:nvSpPr>
        <p:spPr>
          <a:xfrm>
            <a:off x="179280" y="5229360"/>
            <a:ext cx="144720" cy="144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 Box 66"/>
          <p:cNvSpPr/>
          <p:nvPr/>
        </p:nvSpPr>
        <p:spPr>
          <a:xfrm>
            <a:off x="468360" y="5157720"/>
            <a:ext cx="8567640" cy="4899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gionalna instalacja do przetwarzania odpadów komunalnych (MBP, zagospodarowanie odpadów zielonych, składowanie balastu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68"/>
          <p:cNvSpPr/>
          <p:nvPr/>
        </p:nvSpPr>
        <p:spPr>
          <a:xfrm>
            <a:off x="468360" y="5877000"/>
            <a:ext cx="8567640" cy="2919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Planowana instalacja termicznego przekształcania energetycznej frakcji odpadów z terenu województwa pomorskiego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69"/>
          <p:cNvSpPr/>
          <p:nvPr/>
        </p:nvSpPr>
        <p:spPr>
          <a:xfrm>
            <a:off x="395280" y="1341360"/>
            <a:ext cx="18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70"/>
          <p:cNvSpPr/>
          <p:nvPr/>
        </p:nvSpPr>
        <p:spPr>
          <a:xfrm>
            <a:off x="250920" y="1052640"/>
            <a:ext cx="1800000" cy="7038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597 490 mieszkańcó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13" descr="Szadółki-symbole"/>
          <p:cNvPicPr/>
          <p:nvPr/>
        </p:nvPicPr>
        <p:blipFill>
          <a:blip r:embed="rId2"/>
          <a:stretch/>
        </p:blipFill>
        <p:spPr>
          <a:xfrm>
            <a:off x="1619280" y="1773360"/>
            <a:ext cx="5689440" cy="302400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11"/>
          <p:cNvSpPr/>
          <p:nvPr/>
        </p:nvSpPr>
        <p:spPr>
          <a:xfrm flipH="1">
            <a:off x="7163640" y="2637000"/>
            <a:ext cx="1800360" cy="431640"/>
          </a:xfrm>
          <a:prstGeom prst="wedgeRectCallout">
            <a:avLst>
              <a:gd name="adj1" fmla="val 161111"/>
              <a:gd name="adj2" fmla="val 8786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IPOK Szadółk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AutoShape 11"/>
          <p:cNvSpPr/>
          <p:nvPr/>
        </p:nvSpPr>
        <p:spPr>
          <a:xfrm flipH="1">
            <a:off x="7020000" y="4221000"/>
            <a:ext cx="1800000" cy="432000"/>
          </a:xfrm>
          <a:prstGeom prst="wedgeRectCallout">
            <a:avLst>
              <a:gd name="adj1" fmla="val 130333"/>
              <a:gd name="adj2" fmla="val -23897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talacja TP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AutoShape 16"/>
          <p:cNvSpPr/>
          <p:nvPr/>
        </p:nvSpPr>
        <p:spPr>
          <a:xfrm>
            <a:off x="108000" y="5877000"/>
            <a:ext cx="217440" cy="21600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3635280" y="189000"/>
            <a:ext cx="5067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libri"/>
              </a:rPr>
              <a:t>Region Eko Dol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Eko Dolina"/>
          <p:cNvPicPr/>
          <p:nvPr/>
        </p:nvPicPr>
        <p:blipFill>
          <a:blip r:embed="rId2"/>
          <a:stretch/>
        </p:blipFill>
        <p:spPr>
          <a:xfrm>
            <a:off x="2050920" y="1268280"/>
            <a:ext cx="4969080" cy="388944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8"/>
          <p:cNvSpPr/>
          <p:nvPr/>
        </p:nvSpPr>
        <p:spPr>
          <a:xfrm>
            <a:off x="4859280" y="3500280"/>
            <a:ext cx="144360" cy="14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324000" y="5661000"/>
            <a:ext cx="144360" cy="144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AutoShape 11"/>
          <p:cNvSpPr/>
          <p:nvPr/>
        </p:nvSpPr>
        <p:spPr>
          <a:xfrm flipH="1">
            <a:off x="7163640" y="2565360"/>
            <a:ext cx="1800360" cy="432000"/>
          </a:xfrm>
          <a:prstGeom prst="wedgeRectCallout">
            <a:avLst>
              <a:gd name="adj1" fmla="val 170810"/>
              <a:gd name="adj2" fmla="val 1794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IPOK Eko Doli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684360" y="5516640"/>
            <a:ext cx="7991280" cy="4899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gionalna instalacja do przetwarzania odpadów komunalnych (MBP, zagospodarowanie odpadów zielonych, składowanie balastu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 Box 13"/>
          <p:cNvSpPr/>
          <p:nvPr/>
        </p:nvSpPr>
        <p:spPr>
          <a:xfrm>
            <a:off x="250920" y="1125360"/>
            <a:ext cx="1800000" cy="7038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460 527 mieszkańcó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07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libri"/>
              </a:rPr>
              <a:t>Region Północno-Zachod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468360" y="5445000"/>
            <a:ext cx="8424720" cy="4899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gionalna instalacja do przetwarzania odpadów komunalnych (MBP, zagospodarowanie odpadów zielonych, składowanie balastu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179280" y="5589720"/>
            <a:ext cx="144720" cy="144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16"/>
          <p:cNvSpPr/>
          <p:nvPr/>
        </p:nvSpPr>
        <p:spPr>
          <a:xfrm>
            <a:off x="468360" y="6381720"/>
            <a:ext cx="8424720" cy="2919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kładowisko spełniające wymogi ochrony środowiska, nie przewidziane do zastępczej obsługi regionu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22"/>
          <p:cNvSpPr/>
          <p:nvPr/>
        </p:nvSpPr>
        <p:spPr>
          <a:xfrm>
            <a:off x="468360" y="6021360"/>
            <a:ext cx="8424720" cy="2919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gionalna instalacja do przetwarzania odpadów komunalnych (zagospodarowanie odpadów zielonych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24"/>
          <p:cNvSpPr/>
          <p:nvPr/>
        </p:nvSpPr>
        <p:spPr>
          <a:xfrm>
            <a:off x="179280" y="6093000"/>
            <a:ext cx="144720" cy="144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9" descr="Nowy-Północno-zachodni"/>
          <p:cNvPicPr/>
          <p:nvPr/>
        </p:nvPicPr>
        <p:blipFill>
          <a:blip r:embed="rId2"/>
          <a:stretch/>
        </p:blipFill>
        <p:spPr>
          <a:xfrm>
            <a:off x="1692360" y="1052640"/>
            <a:ext cx="4967280" cy="42480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0"/>
          <p:cNvSpPr/>
          <p:nvPr/>
        </p:nvSpPr>
        <p:spPr>
          <a:xfrm>
            <a:off x="2771640" y="2349360"/>
            <a:ext cx="144720" cy="14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31"/>
          <p:cNvSpPr/>
          <p:nvPr/>
        </p:nvSpPr>
        <p:spPr>
          <a:xfrm>
            <a:off x="3132000" y="2421000"/>
            <a:ext cx="144720" cy="144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AutoShape 34"/>
          <p:cNvSpPr/>
          <p:nvPr/>
        </p:nvSpPr>
        <p:spPr>
          <a:xfrm>
            <a:off x="108000" y="2133720"/>
            <a:ext cx="2017800" cy="360360"/>
          </a:xfrm>
          <a:prstGeom prst="wedgeRectCallout">
            <a:avLst>
              <a:gd name="adj1" fmla="val 84384"/>
              <a:gd name="adj2" fmla="val 3061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IPOK Bierkow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AutoShape 35"/>
          <p:cNvSpPr/>
          <p:nvPr/>
        </p:nvSpPr>
        <p:spPr>
          <a:xfrm>
            <a:off x="5292720" y="2060640"/>
            <a:ext cx="2017800" cy="360360"/>
          </a:xfrm>
          <a:prstGeom prst="wedgeRectCallout">
            <a:avLst>
              <a:gd name="adj1" fmla="val -151967"/>
              <a:gd name="adj2" fmla="val 7026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dociągi Słups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36"/>
          <p:cNvSpPr/>
          <p:nvPr/>
        </p:nvSpPr>
        <p:spPr>
          <a:xfrm>
            <a:off x="4356000" y="4076640"/>
            <a:ext cx="144720" cy="144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AutoShape 37"/>
          <p:cNvSpPr/>
          <p:nvPr/>
        </p:nvSpPr>
        <p:spPr>
          <a:xfrm>
            <a:off x="6084720" y="4076640"/>
            <a:ext cx="2017800" cy="360360"/>
          </a:xfrm>
          <a:prstGeom prst="wedgeRectCallout">
            <a:avLst>
              <a:gd name="adj1" fmla="val -130407"/>
              <a:gd name="adj2" fmla="val -3986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IPOK Sierz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AutoShape 40"/>
          <p:cNvSpPr/>
          <p:nvPr/>
        </p:nvSpPr>
        <p:spPr>
          <a:xfrm>
            <a:off x="179280" y="2924280"/>
            <a:ext cx="2017800" cy="360360"/>
          </a:xfrm>
          <a:prstGeom prst="wedgeRectCallout">
            <a:avLst>
              <a:gd name="adj1" fmla="val 76199"/>
              <a:gd name="adj2" fmla="val 87444"/>
            </a:avLst>
          </a:prstGeom>
          <a:solidFill>
            <a:srgbClr val="dcd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Obłęż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AutoShape 41"/>
          <p:cNvSpPr/>
          <p:nvPr/>
        </p:nvSpPr>
        <p:spPr>
          <a:xfrm>
            <a:off x="108000" y="4005360"/>
            <a:ext cx="2017800" cy="360360"/>
          </a:xfrm>
          <a:prstGeom prst="wedgeRectCallout">
            <a:avLst>
              <a:gd name="adj1" fmla="val 76277"/>
              <a:gd name="adj2" fmla="val 43393"/>
            </a:avLst>
          </a:prstGeom>
          <a:solidFill>
            <a:srgbClr val="dcd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Gat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AutoShape 44"/>
          <p:cNvSpPr/>
          <p:nvPr/>
        </p:nvSpPr>
        <p:spPr>
          <a:xfrm>
            <a:off x="2700360" y="3284640"/>
            <a:ext cx="216000" cy="215640"/>
          </a:xfrm>
          <a:custGeom>
            <a:avLst/>
            <a:gdLst>
              <a:gd name="textAreaLeft" fmla="*/ 66600 w 216000"/>
              <a:gd name="textAreaRight" fmla="*/ 149400 w 216000"/>
              <a:gd name="textAreaTop" fmla="*/ 82440 h 215640"/>
              <a:gd name="textAreaBottom" fmla="*/ 164880 h 215640"/>
            </a:gdLst>
            <a:ahLst/>
            <a:rect l="textAreaLeft" t="textAreaTop" r="textAreaRight" b="textAreaBottom"/>
            <a:pathLst>
              <a:path w="215900" h="215900">
                <a:moveTo>
                  <a:pt x="0" y="82466"/>
                </a:moveTo>
                <a:lnTo>
                  <a:pt x="82467" y="82467"/>
                </a:lnTo>
                <a:lnTo>
                  <a:pt x="107950" y="0"/>
                </a:lnTo>
                <a:lnTo>
                  <a:pt x="133433" y="82467"/>
                </a:lnTo>
                <a:lnTo>
                  <a:pt x="215900" y="82466"/>
                </a:lnTo>
                <a:lnTo>
                  <a:pt x="149183" y="133433"/>
                </a:lnTo>
                <a:lnTo>
                  <a:pt x="174667" y="215899"/>
                </a:lnTo>
                <a:lnTo>
                  <a:pt x="107950" y="164932"/>
                </a:lnTo>
                <a:lnTo>
                  <a:pt x="41233" y="215899"/>
                </a:lnTo>
                <a:lnTo>
                  <a:pt x="66717" y="133433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AutoShape 45"/>
          <p:cNvSpPr/>
          <p:nvPr/>
        </p:nvSpPr>
        <p:spPr>
          <a:xfrm>
            <a:off x="2627280" y="4221000"/>
            <a:ext cx="216000" cy="216000"/>
          </a:xfrm>
          <a:custGeom>
            <a:avLst/>
            <a:gdLst>
              <a:gd name="textAreaLeft" fmla="*/ 66600 w 216000"/>
              <a:gd name="textAreaRight" fmla="*/ 149400 w 216000"/>
              <a:gd name="textAreaTop" fmla="*/ 82440 h 216000"/>
              <a:gd name="textAreaBottom" fmla="*/ 165240 h 216000"/>
            </a:gdLst>
            <a:ahLst/>
            <a:rect l="textAreaLeft" t="textAreaTop" r="textAreaRight" b="textAreaBottom"/>
            <a:pathLst>
              <a:path w="215900" h="215900">
                <a:moveTo>
                  <a:pt x="0" y="82466"/>
                </a:moveTo>
                <a:lnTo>
                  <a:pt x="82467" y="82467"/>
                </a:lnTo>
                <a:lnTo>
                  <a:pt x="107950" y="0"/>
                </a:lnTo>
                <a:lnTo>
                  <a:pt x="133433" y="82467"/>
                </a:lnTo>
                <a:lnTo>
                  <a:pt x="215900" y="82466"/>
                </a:lnTo>
                <a:lnTo>
                  <a:pt x="149183" y="133433"/>
                </a:lnTo>
                <a:lnTo>
                  <a:pt x="174667" y="215899"/>
                </a:lnTo>
                <a:lnTo>
                  <a:pt x="107950" y="164932"/>
                </a:lnTo>
                <a:lnTo>
                  <a:pt x="41233" y="215899"/>
                </a:lnTo>
                <a:lnTo>
                  <a:pt x="66717" y="133433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AutoShape 46"/>
          <p:cNvSpPr/>
          <p:nvPr/>
        </p:nvSpPr>
        <p:spPr>
          <a:xfrm>
            <a:off x="179280" y="6381720"/>
            <a:ext cx="216000" cy="216000"/>
          </a:xfrm>
          <a:custGeom>
            <a:avLst/>
            <a:gdLst>
              <a:gd name="textAreaLeft" fmla="*/ 66600 w 216000"/>
              <a:gd name="textAreaRight" fmla="*/ 149400 w 216000"/>
              <a:gd name="textAreaTop" fmla="*/ 82440 h 216000"/>
              <a:gd name="textAreaBottom" fmla="*/ 165240 h 216000"/>
            </a:gdLst>
            <a:ahLst/>
            <a:rect l="textAreaLeft" t="textAreaTop" r="textAreaRight" b="textAreaBottom"/>
            <a:pathLst>
              <a:path w="215900" h="215900">
                <a:moveTo>
                  <a:pt x="0" y="82466"/>
                </a:moveTo>
                <a:lnTo>
                  <a:pt x="82467" y="82467"/>
                </a:lnTo>
                <a:lnTo>
                  <a:pt x="107950" y="0"/>
                </a:lnTo>
                <a:lnTo>
                  <a:pt x="133433" y="82467"/>
                </a:lnTo>
                <a:lnTo>
                  <a:pt x="215900" y="82466"/>
                </a:lnTo>
                <a:lnTo>
                  <a:pt x="149183" y="133433"/>
                </a:lnTo>
                <a:lnTo>
                  <a:pt x="174667" y="215899"/>
                </a:lnTo>
                <a:lnTo>
                  <a:pt x="107950" y="164932"/>
                </a:lnTo>
                <a:lnTo>
                  <a:pt x="41233" y="215899"/>
                </a:lnTo>
                <a:lnTo>
                  <a:pt x="66717" y="133433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47"/>
          <p:cNvSpPr/>
          <p:nvPr/>
        </p:nvSpPr>
        <p:spPr>
          <a:xfrm>
            <a:off x="179280" y="1052640"/>
            <a:ext cx="1800360" cy="7038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64 498 mieszkańcó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792180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libri"/>
              </a:rPr>
              <a:t>Region Południow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południowy"/>
          <p:cNvPicPr/>
          <p:nvPr/>
        </p:nvPicPr>
        <p:blipFill>
          <a:blip r:embed="rId2"/>
          <a:stretch/>
        </p:blipFill>
        <p:spPr>
          <a:xfrm>
            <a:off x="2484360" y="1052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7"/>
          <p:cNvSpPr/>
          <p:nvPr/>
        </p:nvSpPr>
        <p:spPr>
          <a:xfrm>
            <a:off x="5219640" y="3213000"/>
            <a:ext cx="144360" cy="14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179280" y="5445000"/>
            <a:ext cx="144720" cy="14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AutoShape 31"/>
          <p:cNvSpPr/>
          <p:nvPr/>
        </p:nvSpPr>
        <p:spPr>
          <a:xfrm flipH="1">
            <a:off x="323280" y="1989000"/>
            <a:ext cx="1944360" cy="432000"/>
          </a:xfrm>
          <a:prstGeom prst="wedgeRectCallout">
            <a:avLst>
              <a:gd name="adj1" fmla="val -89837"/>
              <a:gd name="adj2" fmla="val -88606"/>
            </a:avLst>
          </a:prstGeom>
          <a:solidFill>
            <a:srgbClr val="dcd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41"/>
          <p:cNvSpPr/>
          <p:nvPr/>
        </p:nvSpPr>
        <p:spPr>
          <a:xfrm>
            <a:off x="611280" y="1989000"/>
            <a:ext cx="12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ostom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AutoShape 43"/>
          <p:cNvSpPr/>
          <p:nvPr/>
        </p:nvSpPr>
        <p:spPr>
          <a:xfrm>
            <a:off x="6659640" y="2924280"/>
            <a:ext cx="2089080" cy="433440"/>
          </a:xfrm>
          <a:prstGeom prst="wedgeRectCallout">
            <a:avLst>
              <a:gd name="adj1" fmla="val -113907"/>
              <a:gd name="adj2" fmla="val 2838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Box 44"/>
          <p:cNvSpPr/>
          <p:nvPr/>
        </p:nvSpPr>
        <p:spPr>
          <a:xfrm>
            <a:off x="6948360" y="29242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IPOK Stary L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47"/>
          <p:cNvSpPr/>
          <p:nvPr/>
        </p:nvSpPr>
        <p:spPr>
          <a:xfrm>
            <a:off x="468360" y="5805360"/>
            <a:ext cx="8424720" cy="2919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stalacja regionalna (składowanie balastu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 Box 48"/>
          <p:cNvSpPr/>
          <p:nvPr/>
        </p:nvSpPr>
        <p:spPr>
          <a:xfrm>
            <a:off x="468360" y="5229360"/>
            <a:ext cx="8424720" cy="4899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gionalna instalacja do przetwarzania odpadów komunalnych (MBP, zagospodarowanie odpadów zielonych, składowanie balastu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AutoShape 60"/>
          <p:cNvSpPr/>
          <p:nvPr/>
        </p:nvSpPr>
        <p:spPr>
          <a:xfrm>
            <a:off x="6732720" y="2421000"/>
            <a:ext cx="2016000" cy="360360"/>
          </a:xfrm>
          <a:prstGeom prst="wedgeRectCallout">
            <a:avLst>
              <a:gd name="adj1" fmla="val -110078"/>
              <a:gd name="adj2" fmla="val 42509"/>
            </a:avLst>
          </a:prstGeom>
          <a:solidFill>
            <a:srgbClr val="dcd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61"/>
          <p:cNvSpPr/>
          <p:nvPr/>
        </p:nvSpPr>
        <p:spPr>
          <a:xfrm>
            <a:off x="7020000" y="2421000"/>
            <a:ext cx="12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Linowiec 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66"/>
          <p:cNvSpPr/>
          <p:nvPr/>
        </p:nvSpPr>
        <p:spPr>
          <a:xfrm>
            <a:off x="179280" y="5877000"/>
            <a:ext cx="144720" cy="144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67"/>
          <p:cNvSpPr/>
          <p:nvPr/>
        </p:nvSpPr>
        <p:spPr>
          <a:xfrm>
            <a:off x="2987640" y="1773360"/>
            <a:ext cx="144360" cy="144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69"/>
          <p:cNvSpPr/>
          <p:nvPr/>
        </p:nvSpPr>
        <p:spPr>
          <a:xfrm>
            <a:off x="468360" y="6237360"/>
            <a:ext cx="8424720" cy="4899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kładowisko spełniające wymogi ochrony środowiska,  przewidziane do obsługi regionu do 30.12.2012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 przypadku awarii RIPOK  w okresie rozruchu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70"/>
          <p:cNvSpPr/>
          <p:nvPr/>
        </p:nvSpPr>
        <p:spPr>
          <a:xfrm>
            <a:off x="395280" y="1052640"/>
            <a:ext cx="1800360" cy="7038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90 944 mieszkańcó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AutoShape 71"/>
          <p:cNvSpPr/>
          <p:nvPr/>
        </p:nvSpPr>
        <p:spPr>
          <a:xfrm>
            <a:off x="179280" y="6308640"/>
            <a:ext cx="216000" cy="216000"/>
          </a:xfrm>
          <a:custGeom>
            <a:avLst/>
            <a:gdLst>
              <a:gd name="textAreaLeft" fmla="*/ 66600 w 216000"/>
              <a:gd name="textAreaRight" fmla="*/ 149400 w 216000"/>
              <a:gd name="textAreaTop" fmla="*/ 82440 h 216000"/>
              <a:gd name="textAreaBottom" fmla="*/ 165240 h 216000"/>
            </a:gdLst>
            <a:ahLst/>
            <a:rect l="textAreaLeft" t="textAreaTop" r="textAreaRight" b="textAreaBottom"/>
            <a:pathLst>
              <a:path w="215900" h="215900">
                <a:moveTo>
                  <a:pt x="0" y="82466"/>
                </a:moveTo>
                <a:lnTo>
                  <a:pt x="82467" y="82467"/>
                </a:lnTo>
                <a:lnTo>
                  <a:pt x="107950" y="0"/>
                </a:lnTo>
                <a:lnTo>
                  <a:pt x="133433" y="82467"/>
                </a:lnTo>
                <a:lnTo>
                  <a:pt x="215900" y="82466"/>
                </a:lnTo>
                <a:lnTo>
                  <a:pt x="149183" y="133433"/>
                </a:lnTo>
                <a:lnTo>
                  <a:pt x="174667" y="215899"/>
                </a:lnTo>
                <a:lnTo>
                  <a:pt x="107950" y="164932"/>
                </a:lnTo>
                <a:lnTo>
                  <a:pt x="41233" y="215899"/>
                </a:lnTo>
                <a:lnTo>
                  <a:pt x="66717" y="133433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AutoShape 80"/>
          <p:cNvSpPr/>
          <p:nvPr/>
        </p:nvSpPr>
        <p:spPr>
          <a:xfrm>
            <a:off x="5364000" y="2637000"/>
            <a:ext cx="216000" cy="215640"/>
          </a:xfrm>
          <a:custGeom>
            <a:avLst/>
            <a:gdLst>
              <a:gd name="textAreaLeft" fmla="*/ 66600 w 216000"/>
              <a:gd name="textAreaRight" fmla="*/ 149400 w 216000"/>
              <a:gd name="textAreaTop" fmla="*/ 82440 h 215640"/>
              <a:gd name="textAreaBottom" fmla="*/ 164880 h 215640"/>
            </a:gdLst>
            <a:ahLst/>
            <a:rect l="textAreaLeft" t="textAreaTop" r="textAreaRight" b="textAreaBottom"/>
            <a:pathLst>
              <a:path w="215900" h="215900">
                <a:moveTo>
                  <a:pt x="0" y="82466"/>
                </a:moveTo>
                <a:lnTo>
                  <a:pt x="82467" y="82467"/>
                </a:lnTo>
                <a:lnTo>
                  <a:pt x="107950" y="0"/>
                </a:lnTo>
                <a:lnTo>
                  <a:pt x="133433" y="82467"/>
                </a:lnTo>
                <a:lnTo>
                  <a:pt x="215900" y="82466"/>
                </a:lnTo>
                <a:lnTo>
                  <a:pt x="149183" y="133433"/>
                </a:lnTo>
                <a:lnTo>
                  <a:pt x="174667" y="215899"/>
                </a:lnTo>
                <a:lnTo>
                  <a:pt x="107950" y="164932"/>
                </a:lnTo>
                <a:lnTo>
                  <a:pt x="41233" y="215899"/>
                </a:lnTo>
                <a:lnTo>
                  <a:pt x="66717" y="133433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libri"/>
              </a:rPr>
              <a:t>Projekt rekultywacji składow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7138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ojekt: 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Calibri"/>
              </a:rPr>
              <a:t>Rekultywacja składowisk odpadów gmin będących udziałowcam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Calibri"/>
              </a:rPr>
              <a:t>ZUOK „Stary Las”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dofinansowany z EFR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blewo – do I kwartał 2013 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kórcz - do IV kwartał 2012 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ietowo - do II kwartał 2013 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trych - do II kwartał 2013 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arsin - do IV kwartał 2012 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Liniewskie Góry - do II kwartał 2014 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karszewy - do II kwartał 2013 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obrowiec - do II kwartał 2014 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Linowiec - do III kwartał 2014 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Osiek - do II kwartał 2014 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Osówek - do II kwartał 2014 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78920" y="1197000"/>
            <a:ext cx="86058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1 lipca 2011 roku Sejm uchwalił ustawę o zmianie ustawy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 utrzymaniu czystości i porządku w gminach oraz niektórych innych ustaw </a:t>
            </a:r>
            <a:r>
              <a:rPr b="1" lang="pl-PL" sz="2000" spc="-1" strike="noStrike">
                <a:solidFill>
                  <a:srgbClr val="cc0000"/>
                </a:solidFill>
                <a:latin typeface="Calibri"/>
              </a:rPr>
              <a:t>Dz.U. Nr 152, poz. 897,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 tym ustawy  o odpada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92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Ustawa weszła w życie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1 stycznia 2012 rok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92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 algn="just">
              <a:lnSpc>
                <a:spcPct val="11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lany gospodarki odpadami opracowywane będą na poziomie</a:t>
            </a:r>
            <a:r>
              <a:rPr b="0" lang="pl-PL" sz="20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pl-PL" sz="2000" spc="-1" strike="noStrike">
                <a:solidFill>
                  <a:srgbClr val="cc0000"/>
                </a:solidFill>
                <a:latin typeface="Calibri"/>
              </a:rPr>
              <a:t>krajowym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92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c0000"/>
                </a:solidFill>
                <a:latin typeface="Calibri"/>
              </a:rPr>
              <a:t>      </a:t>
            </a:r>
            <a:r>
              <a:rPr b="1" lang="pl-PL" sz="2000" spc="-1" strike="noStrike">
                <a:solidFill>
                  <a:srgbClr val="cc0000"/>
                </a:solidFill>
                <a:latin typeface="Calibri"/>
              </a:rPr>
              <a:t>i wojewódzk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 algn="just">
              <a:lnSpc>
                <a:spcPct val="11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rak potrzeby wykonania planów gospodarki odpadami na szczeblu</a:t>
            </a:r>
            <a:r>
              <a:rPr b="0" lang="pl-PL" sz="20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pl-PL" sz="2000" spc="-1" strike="noStrike">
                <a:solidFill>
                  <a:srgbClr val="cc0000"/>
                </a:solidFill>
                <a:latin typeface="Calibri"/>
              </a:rPr>
              <a:t>powiatowym i gminn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 algn="just">
              <a:lnSpc>
                <a:spcPct val="11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lany gospodarki odpadami podlegać będą aktualizacji nie rzadziej niż co</a:t>
            </a:r>
            <a:r>
              <a:rPr b="0" lang="pl-PL" sz="2000" spc="-1" strike="noStrike">
                <a:solidFill>
                  <a:srgbClr val="cc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92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c0000"/>
                </a:solidFill>
                <a:latin typeface="Calibri"/>
              </a:rPr>
              <a:t>     </a:t>
            </a:r>
            <a:r>
              <a:rPr b="1" lang="pl-PL" sz="2000" spc="-1" strike="noStrike">
                <a:solidFill>
                  <a:srgbClr val="cc0000"/>
                </a:solidFill>
                <a:latin typeface="Calibri"/>
              </a:rPr>
              <a:t>6 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 algn="just">
              <a:lnSpc>
                <a:spcPct val="11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prawozdania z efektów wdrażania planu wojewódzkiego co </a:t>
            </a:r>
            <a:r>
              <a:rPr b="1" lang="pl-PL" sz="2000" spc="-1" strike="noStrike">
                <a:solidFill>
                  <a:srgbClr val="cc0000"/>
                </a:solidFill>
                <a:latin typeface="Calibri"/>
              </a:rPr>
              <a:t>3 l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92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9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565200" y="404640"/>
            <a:ext cx="83995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libri"/>
              </a:rPr>
              <a:t>Zmiana ustawy o odpad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alibri"/>
              </a:rPr>
              <a:t>Regiony gospodarki odpadami, w których regionalne instalacje do przetwarzania odpadów NIE posiadają zdolności przerobowej wystarczającej do przyjęcia i przetworzenia odpadów komunalnych z całego regionu gospodarki odpada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alibri"/>
              </a:rPr>
              <a:t>Region Północny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Północny"/>
          <p:cNvPicPr/>
          <p:nvPr/>
        </p:nvPicPr>
        <p:blipFill>
          <a:blip r:embed="rId2"/>
          <a:stretch/>
        </p:blipFill>
        <p:spPr>
          <a:xfrm>
            <a:off x="1908000" y="1268280"/>
            <a:ext cx="5372280" cy="356256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7"/>
          <p:cNvSpPr/>
          <p:nvPr/>
        </p:nvSpPr>
        <p:spPr>
          <a:xfrm>
            <a:off x="3635280" y="2492280"/>
            <a:ext cx="144720" cy="14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108000" y="5084640"/>
            <a:ext cx="144360" cy="14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AutoShape 17"/>
          <p:cNvSpPr/>
          <p:nvPr/>
        </p:nvSpPr>
        <p:spPr>
          <a:xfrm flipH="1">
            <a:off x="107280" y="2637000"/>
            <a:ext cx="1942920" cy="431640"/>
          </a:xfrm>
          <a:prstGeom prst="wedgeRectCallout">
            <a:avLst>
              <a:gd name="adj1" fmla="val -134560"/>
              <a:gd name="adj2" fmla="val -602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IPOK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Czarnówk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AutoShape 18"/>
          <p:cNvSpPr/>
          <p:nvPr/>
        </p:nvSpPr>
        <p:spPr>
          <a:xfrm flipH="1">
            <a:off x="107280" y="3645000"/>
            <a:ext cx="1692360" cy="431640"/>
          </a:xfrm>
          <a:prstGeom prst="wedgeRectCallout">
            <a:avLst>
              <a:gd name="adj1" fmla="val -118106"/>
              <a:gd name="adj2" fmla="val -160296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hlewn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AutoShape 19"/>
          <p:cNvSpPr/>
          <p:nvPr/>
        </p:nvSpPr>
        <p:spPr>
          <a:xfrm flipH="1">
            <a:off x="178560" y="1989000"/>
            <a:ext cx="1692360" cy="432000"/>
          </a:xfrm>
          <a:prstGeom prst="wedgeRectCallout">
            <a:avLst>
              <a:gd name="adj1" fmla="val -206944"/>
              <a:gd name="adj2" fmla="val -55518"/>
            </a:avLst>
          </a:prstGeom>
          <a:solidFill>
            <a:srgbClr val="dcd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niewi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AutoShape 20"/>
          <p:cNvSpPr/>
          <p:nvPr/>
        </p:nvSpPr>
        <p:spPr>
          <a:xfrm flipH="1">
            <a:off x="7379640" y="2565360"/>
            <a:ext cx="1655640" cy="432000"/>
          </a:xfrm>
          <a:prstGeom prst="wedgeRectCallout">
            <a:avLst>
              <a:gd name="adj1" fmla="val 211263"/>
              <a:gd name="adj2" fmla="val -133458"/>
            </a:avLst>
          </a:prstGeom>
          <a:solidFill>
            <a:srgbClr val="dcd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Rybska Karczm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AutoShape 21"/>
          <p:cNvSpPr/>
          <p:nvPr/>
        </p:nvSpPr>
        <p:spPr>
          <a:xfrm flipH="1">
            <a:off x="7379640" y="1125360"/>
            <a:ext cx="1584360" cy="432000"/>
          </a:xfrm>
          <a:prstGeom prst="wedgeRectCallout">
            <a:avLst>
              <a:gd name="adj1" fmla="val 155407"/>
              <a:gd name="adj2" fmla="val 41907"/>
            </a:avLst>
          </a:prstGeom>
          <a:solidFill>
            <a:srgbClr val="dcd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Łebc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AutoShape 22"/>
          <p:cNvSpPr/>
          <p:nvPr/>
        </p:nvSpPr>
        <p:spPr>
          <a:xfrm flipH="1">
            <a:off x="7379640" y="1700280"/>
            <a:ext cx="1584360" cy="431640"/>
          </a:xfrm>
          <a:prstGeom prst="wedgeRectCallout">
            <a:avLst>
              <a:gd name="adj1" fmla="val 158814"/>
              <a:gd name="adj2" fmla="val -3272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warzew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Oval 25"/>
          <p:cNvSpPr/>
          <p:nvPr/>
        </p:nvSpPr>
        <p:spPr>
          <a:xfrm>
            <a:off x="4500720" y="1916280"/>
            <a:ext cx="142560" cy="1443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468360" y="5013360"/>
            <a:ext cx="8351640" cy="4899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gionalna instalacja do przetwarzania odpadów komunalnych (MBP, zagospodarowanie odpadów zielonych, składowanie balastu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Oval 28"/>
          <p:cNvSpPr/>
          <p:nvPr/>
        </p:nvSpPr>
        <p:spPr>
          <a:xfrm>
            <a:off x="108000" y="5661000"/>
            <a:ext cx="142920" cy="1443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Oval 29"/>
          <p:cNvSpPr/>
          <p:nvPr/>
        </p:nvSpPr>
        <p:spPr>
          <a:xfrm>
            <a:off x="4643280" y="2133720"/>
            <a:ext cx="142920" cy="1443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Oval 30"/>
          <p:cNvSpPr/>
          <p:nvPr/>
        </p:nvSpPr>
        <p:spPr>
          <a:xfrm>
            <a:off x="5580000" y="1484280"/>
            <a:ext cx="142920" cy="1443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Oval 31"/>
          <p:cNvSpPr/>
          <p:nvPr/>
        </p:nvSpPr>
        <p:spPr>
          <a:xfrm>
            <a:off x="2916360" y="3068640"/>
            <a:ext cx="142920" cy="1443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32"/>
          <p:cNvSpPr/>
          <p:nvPr/>
        </p:nvSpPr>
        <p:spPr>
          <a:xfrm>
            <a:off x="468360" y="5589720"/>
            <a:ext cx="7920000" cy="2919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stalacja przewidziana do zastępczej obsługi regionu (składowanie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Oval 33"/>
          <p:cNvSpPr/>
          <p:nvPr/>
        </p:nvSpPr>
        <p:spPr>
          <a:xfrm>
            <a:off x="108000" y="6093000"/>
            <a:ext cx="142920" cy="1443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 Box 34"/>
          <p:cNvSpPr/>
          <p:nvPr/>
        </p:nvSpPr>
        <p:spPr>
          <a:xfrm>
            <a:off x="468360" y="6021360"/>
            <a:ext cx="8207280" cy="2919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stalacja przewidziana do zastępczej obsługi regionu (składowanie balastu + MP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 Box 37"/>
          <p:cNvSpPr/>
          <p:nvPr/>
        </p:nvSpPr>
        <p:spPr>
          <a:xfrm>
            <a:off x="468360" y="6453360"/>
            <a:ext cx="8207280" cy="2919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stalacja przewidziana do zastępczej obsługi regionu (zagospodarowanie odpadów zielonych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 Box 38"/>
          <p:cNvSpPr/>
          <p:nvPr/>
        </p:nvSpPr>
        <p:spPr>
          <a:xfrm>
            <a:off x="179280" y="1052640"/>
            <a:ext cx="1800360" cy="7038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11 234 mieszkańcó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5508720" y="1700280"/>
            <a:ext cx="144360" cy="144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08000" y="6524640"/>
            <a:ext cx="144360" cy="144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alibri"/>
              </a:rPr>
              <a:t>Region Południowo-Zachodni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0"/>
          <p:cNvSpPr/>
          <p:nvPr/>
        </p:nvSpPr>
        <p:spPr>
          <a:xfrm>
            <a:off x="250920" y="5589720"/>
            <a:ext cx="144360" cy="144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Oval 45"/>
          <p:cNvSpPr/>
          <p:nvPr/>
        </p:nvSpPr>
        <p:spPr>
          <a:xfrm>
            <a:off x="250920" y="6093000"/>
            <a:ext cx="144360" cy="1443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 Box 57"/>
          <p:cNvSpPr/>
          <p:nvPr/>
        </p:nvSpPr>
        <p:spPr>
          <a:xfrm>
            <a:off x="539640" y="6021360"/>
            <a:ext cx="8425080" cy="2919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stalacja przewidziana do zastępczej obsługi regionu, do czasu uruchomienia instalacji regionalnej (składowanie</a:t>
            </a:r>
            <a:r>
              <a:rPr b="0" lang="en-US" sz="12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 Box 58"/>
          <p:cNvSpPr/>
          <p:nvPr/>
        </p:nvSpPr>
        <p:spPr>
          <a:xfrm>
            <a:off x="539640" y="5516640"/>
            <a:ext cx="8425080" cy="2919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stalacja regionalna w trakcie budowy (MBP, zagospodarowanie odpadów zielonych, składowanie balastu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59"/>
          <p:cNvSpPr/>
          <p:nvPr/>
        </p:nvSpPr>
        <p:spPr>
          <a:xfrm>
            <a:off x="179280" y="1052640"/>
            <a:ext cx="1800360" cy="7038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50 547 mieszkańcó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 Box 61"/>
          <p:cNvSpPr/>
          <p:nvPr/>
        </p:nvSpPr>
        <p:spPr>
          <a:xfrm>
            <a:off x="539640" y="6453360"/>
            <a:ext cx="8425080" cy="2919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stalacja przewidziana do zastępczej obsługi regionu (zagospodarowanie odpadów zielonych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29" descr="nowyPołudniowo-zachodni-symbole"/>
          <p:cNvPicPr/>
          <p:nvPr/>
        </p:nvPicPr>
        <p:blipFill>
          <a:blip r:embed="rId2"/>
          <a:stretch/>
        </p:blipFill>
        <p:spPr>
          <a:xfrm>
            <a:off x="2050920" y="1844640"/>
            <a:ext cx="4537080" cy="302436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37"/>
          <p:cNvSpPr/>
          <p:nvPr/>
        </p:nvSpPr>
        <p:spPr>
          <a:xfrm flipH="1">
            <a:off x="6084000" y="4365720"/>
            <a:ext cx="2374920" cy="431640"/>
          </a:xfrm>
          <a:prstGeom prst="wedgeRectCallout">
            <a:avLst>
              <a:gd name="adj1" fmla="val 113166"/>
              <a:gd name="adj2" fmla="val -12941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IPOK Nowy Dwó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AutoShape 40"/>
          <p:cNvSpPr/>
          <p:nvPr/>
        </p:nvSpPr>
        <p:spPr>
          <a:xfrm flipH="1">
            <a:off x="6300000" y="3573360"/>
            <a:ext cx="2158920" cy="576360"/>
          </a:xfrm>
          <a:prstGeom prst="wedgeRectCallout">
            <a:avLst>
              <a:gd name="adj1" fmla="val 120657"/>
              <a:gd name="adj2" fmla="val 12532"/>
            </a:avLst>
          </a:prstGeom>
          <a:solidFill>
            <a:srgbClr val="dcd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kładowisk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 Nowym Dworz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AutoShape 51"/>
          <p:cNvSpPr/>
          <p:nvPr/>
        </p:nvSpPr>
        <p:spPr>
          <a:xfrm flipH="1">
            <a:off x="7020000" y="1844640"/>
            <a:ext cx="1944720" cy="432000"/>
          </a:xfrm>
          <a:prstGeom prst="wedgeRectCallout">
            <a:avLst>
              <a:gd name="adj1" fmla="val 123958"/>
              <a:gd name="adj2" fmla="val 255513"/>
            </a:avLst>
          </a:prstGeom>
          <a:solidFill>
            <a:srgbClr val="dcd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ieżuraw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AutoShape 55"/>
          <p:cNvSpPr/>
          <p:nvPr/>
        </p:nvSpPr>
        <p:spPr>
          <a:xfrm flipH="1">
            <a:off x="108000" y="4581360"/>
            <a:ext cx="1800000" cy="432000"/>
          </a:xfrm>
          <a:prstGeom prst="wedgeRectCallout">
            <a:avLst>
              <a:gd name="adj1" fmla="val -116402"/>
              <a:gd name="adj2" fmla="val -80148"/>
            </a:avLst>
          </a:prstGeom>
          <a:solidFill>
            <a:srgbClr val="dcd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Grzymisła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AutoShape 54"/>
          <p:cNvSpPr/>
          <p:nvPr/>
        </p:nvSpPr>
        <p:spPr>
          <a:xfrm flipH="1">
            <a:off x="108000" y="4076640"/>
            <a:ext cx="1800000" cy="432000"/>
          </a:xfrm>
          <a:prstGeom prst="wedgeRectCallout">
            <a:avLst>
              <a:gd name="adj1" fmla="val -85981"/>
              <a:gd name="adj2" fmla="val -145958"/>
            </a:avLst>
          </a:prstGeom>
          <a:solidFill>
            <a:srgbClr val="dcd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adziejew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AutoShape 56"/>
          <p:cNvSpPr/>
          <p:nvPr/>
        </p:nvSpPr>
        <p:spPr>
          <a:xfrm flipH="1">
            <a:off x="108000" y="3213000"/>
            <a:ext cx="1800000" cy="432000"/>
          </a:xfrm>
          <a:prstGeom prst="wedgeRectCallout">
            <a:avLst>
              <a:gd name="adj1" fmla="val -148856"/>
              <a:gd name="adj2" fmla="val 70217"/>
            </a:avLst>
          </a:prstGeom>
          <a:solidFill>
            <a:srgbClr val="dcd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iełp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AutoShape 53"/>
          <p:cNvSpPr/>
          <p:nvPr/>
        </p:nvSpPr>
        <p:spPr>
          <a:xfrm flipH="1">
            <a:off x="178560" y="1916280"/>
            <a:ext cx="1800360" cy="431640"/>
          </a:xfrm>
          <a:prstGeom prst="wedgeRectCallout">
            <a:avLst>
              <a:gd name="adj1" fmla="val -136685"/>
              <a:gd name="adj2" fmla="val 212495"/>
            </a:avLst>
          </a:prstGeom>
          <a:solidFill>
            <a:srgbClr val="dcd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zechlew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AutoShape 52"/>
          <p:cNvSpPr/>
          <p:nvPr/>
        </p:nvSpPr>
        <p:spPr>
          <a:xfrm flipH="1">
            <a:off x="6947640" y="1052640"/>
            <a:ext cx="2016360" cy="431640"/>
          </a:xfrm>
          <a:prstGeom prst="wedgeRectCallout">
            <a:avLst>
              <a:gd name="adj1" fmla="val 197949"/>
              <a:gd name="adj2" fmla="val 362129"/>
            </a:avLst>
          </a:prstGeom>
          <a:solidFill>
            <a:srgbClr val="dcd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ielona Hu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250920" y="6524640"/>
            <a:ext cx="144360" cy="144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AutoShape 53"/>
          <p:cNvSpPr/>
          <p:nvPr/>
        </p:nvSpPr>
        <p:spPr>
          <a:xfrm flipH="1">
            <a:off x="178560" y="2565360"/>
            <a:ext cx="1800360" cy="432000"/>
          </a:xfrm>
          <a:prstGeom prst="wedgeRectCallout">
            <a:avLst>
              <a:gd name="adj1" fmla="val -120550"/>
              <a:gd name="adj2" fmla="val 7720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zechlew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libri"/>
              </a:rPr>
              <a:t>Projekt rekultywacji składow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7138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rojekt: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Calibri"/>
              </a:rPr>
              <a:t>Rekultywacja 15 składowisk odpadów komunalnych zlokalizowany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Calibri"/>
              </a:rPr>
              <a:t>na obszarze działania ZZO w Nowym Dworze k/Angowic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dofinansowany z EF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kł. w m. Nowy Dwó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hojnicz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iechoc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Gockow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osob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zer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ieżura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ielona Hu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Grzymisł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iełp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ęb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adzieje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rzechlewo-2 sz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ąpol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alibri"/>
              </a:rPr>
              <a:t>Region Wschod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nowyWschodni-symbole"/>
          <p:cNvPicPr/>
          <p:nvPr/>
        </p:nvPicPr>
        <p:blipFill>
          <a:blip r:embed="rId2"/>
          <a:stretch/>
        </p:blipFill>
        <p:spPr>
          <a:xfrm>
            <a:off x="2556000" y="1052640"/>
            <a:ext cx="3884400" cy="403200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2"/>
          <p:cNvSpPr/>
          <p:nvPr/>
        </p:nvSpPr>
        <p:spPr>
          <a:xfrm>
            <a:off x="108000" y="5229360"/>
            <a:ext cx="144360" cy="144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 Box 35"/>
          <p:cNvSpPr/>
          <p:nvPr/>
        </p:nvSpPr>
        <p:spPr>
          <a:xfrm>
            <a:off x="395280" y="5157720"/>
            <a:ext cx="8353440" cy="276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alna instalacja do przetwarzania odpadów komunalnych (MBP, zagospodarowanie odpadów zielonych, składowanie balast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30"/>
          <p:cNvSpPr/>
          <p:nvPr/>
        </p:nvSpPr>
        <p:spPr>
          <a:xfrm>
            <a:off x="108000" y="5661000"/>
            <a:ext cx="144360" cy="144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 Box 34"/>
          <p:cNvSpPr/>
          <p:nvPr/>
        </p:nvSpPr>
        <p:spPr>
          <a:xfrm>
            <a:off x="395280" y="5589720"/>
            <a:ext cx="8353440" cy="276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alacja regionalna w trakcie budowy (MBP, zagospodarowanie odpadów zielonych, składowanie balast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48"/>
          <p:cNvSpPr/>
          <p:nvPr/>
        </p:nvSpPr>
        <p:spPr>
          <a:xfrm>
            <a:off x="108000" y="6093000"/>
            <a:ext cx="144360" cy="144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 Box 49"/>
          <p:cNvSpPr/>
          <p:nvPr/>
        </p:nvSpPr>
        <p:spPr>
          <a:xfrm>
            <a:off x="395280" y="6021360"/>
            <a:ext cx="8353440" cy="276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alna instalacja do przetwarzania odpadów komunalnych (zagospodarowanie odpadów zielonyc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Oval 37"/>
          <p:cNvSpPr/>
          <p:nvPr/>
        </p:nvSpPr>
        <p:spPr>
          <a:xfrm>
            <a:off x="108000" y="6524640"/>
            <a:ext cx="144360" cy="1443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 Box 47"/>
          <p:cNvSpPr/>
          <p:nvPr/>
        </p:nvSpPr>
        <p:spPr>
          <a:xfrm>
            <a:off x="395280" y="6453360"/>
            <a:ext cx="8353440" cy="276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alacja przewidziana do zastępczej obsługi regionu (składowani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 Box 50"/>
          <p:cNvSpPr/>
          <p:nvPr/>
        </p:nvSpPr>
        <p:spPr>
          <a:xfrm>
            <a:off x="7020000" y="1052640"/>
            <a:ext cx="1800000" cy="7038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65 079 mieszkańcó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AutoShape 22"/>
          <p:cNvSpPr/>
          <p:nvPr/>
        </p:nvSpPr>
        <p:spPr>
          <a:xfrm flipH="1">
            <a:off x="179280" y="1989000"/>
            <a:ext cx="1944720" cy="432000"/>
          </a:xfrm>
          <a:prstGeom prst="wedgeRectCallout">
            <a:avLst>
              <a:gd name="adj1" fmla="val -103388"/>
              <a:gd name="adj2" fmla="val 22791"/>
            </a:avLst>
          </a:prstGeom>
          <a:solidFill>
            <a:srgbClr val="dcd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Gołębiewo Wielk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AutoShape 15"/>
          <p:cNvSpPr/>
          <p:nvPr/>
        </p:nvSpPr>
        <p:spPr>
          <a:xfrm flipH="1">
            <a:off x="899280" y="1125360"/>
            <a:ext cx="2017800" cy="360720"/>
          </a:xfrm>
          <a:prstGeom prst="wedgeRectCallout">
            <a:avLst>
              <a:gd name="adj1" fmla="val -96578"/>
              <a:gd name="adj2" fmla="val 35968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Kommunalservi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AutoShape 41"/>
          <p:cNvSpPr/>
          <p:nvPr/>
        </p:nvSpPr>
        <p:spPr>
          <a:xfrm flipH="1">
            <a:off x="179280" y="2492280"/>
            <a:ext cx="1944720" cy="432000"/>
          </a:xfrm>
          <a:prstGeom prst="wedgeRectCallout">
            <a:avLst>
              <a:gd name="adj1" fmla="val -133185"/>
              <a:gd name="adj2" fmla="val -1618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IPOK Tcze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AutoShape 14"/>
          <p:cNvSpPr/>
          <p:nvPr/>
        </p:nvSpPr>
        <p:spPr>
          <a:xfrm flipH="1">
            <a:off x="179280" y="3213000"/>
            <a:ext cx="1944720" cy="505080"/>
          </a:xfrm>
          <a:prstGeom prst="wedgeRectCallout">
            <a:avLst>
              <a:gd name="adj1" fmla="val -125023"/>
              <a:gd name="adj2" fmla="val -150314"/>
            </a:avLst>
          </a:prstGeom>
          <a:solidFill>
            <a:srgbClr val="dcd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kładowisko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 Rokitka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AutoShape 21"/>
          <p:cNvSpPr/>
          <p:nvPr/>
        </p:nvSpPr>
        <p:spPr>
          <a:xfrm flipH="1">
            <a:off x="179280" y="3860640"/>
            <a:ext cx="1944720" cy="432000"/>
          </a:xfrm>
          <a:prstGeom prst="wedgeRectCallout">
            <a:avLst>
              <a:gd name="adj1" fmla="val -116532"/>
              <a:gd name="adj2" fmla="val -119486"/>
            </a:avLst>
          </a:prstGeom>
          <a:solidFill>
            <a:srgbClr val="dcd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opuch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AutoShape 13"/>
          <p:cNvSpPr/>
          <p:nvPr/>
        </p:nvSpPr>
        <p:spPr>
          <a:xfrm flipH="1">
            <a:off x="250920" y="4581360"/>
            <a:ext cx="1944720" cy="432000"/>
          </a:xfrm>
          <a:prstGeom prst="wedgeRectCallout">
            <a:avLst>
              <a:gd name="adj1" fmla="val -135962"/>
              <a:gd name="adj2" fmla="val -188972"/>
            </a:avLst>
          </a:prstGeom>
          <a:solidFill>
            <a:srgbClr val="dcd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icpon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AutoShape 25"/>
          <p:cNvSpPr/>
          <p:nvPr/>
        </p:nvSpPr>
        <p:spPr>
          <a:xfrm flipH="1">
            <a:off x="6876360" y="2060640"/>
            <a:ext cx="2087640" cy="431640"/>
          </a:xfrm>
          <a:prstGeom prst="wedgeRectCallout">
            <a:avLst>
              <a:gd name="adj1" fmla="val 128703"/>
              <a:gd name="adj2" fmla="val 166907"/>
            </a:avLst>
          </a:prstGeom>
          <a:solidFill>
            <a:srgbClr val="dcd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zalenie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AutoShape 26"/>
          <p:cNvSpPr/>
          <p:nvPr/>
        </p:nvSpPr>
        <p:spPr>
          <a:xfrm flipH="1">
            <a:off x="6804000" y="2852640"/>
            <a:ext cx="2160720" cy="432000"/>
          </a:xfrm>
          <a:prstGeom prst="wedgeRectCallout">
            <a:avLst>
              <a:gd name="adj1" fmla="val 156314"/>
              <a:gd name="adj2" fmla="val 116175"/>
            </a:avLst>
          </a:prstGeom>
          <a:solidFill>
            <a:srgbClr val="dcd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owa</a:t>
            </a: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ieś Sztumsk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AutoShape 24"/>
          <p:cNvSpPr/>
          <p:nvPr/>
        </p:nvSpPr>
        <p:spPr>
          <a:xfrm flipH="1">
            <a:off x="6876360" y="3429000"/>
            <a:ext cx="2087640" cy="431640"/>
          </a:xfrm>
          <a:prstGeom prst="wedgeRectCallout">
            <a:avLst>
              <a:gd name="adj1" fmla="val 119504"/>
              <a:gd name="adj2" fmla="val 15439"/>
            </a:avLst>
          </a:prstGeom>
          <a:solidFill>
            <a:srgbClr val="dcdc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nię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AutoShape 23"/>
          <p:cNvSpPr/>
          <p:nvPr/>
        </p:nvSpPr>
        <p:spPr>
          <a:xfrm flipH="1">
            <a:off x="6876360" y="4292640"/>
            <a:ext cx="2087640" cy="431640"/>
          </a:xfrm>
          <a:prstGeom prst="wedgeRectCallout">
            <a:avLst>
              <a:gd name="adj1" fmla="val 150148"/>
              <a:gd name="adj2" fmla="val -25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IPOK Gilwa Mał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libri"/>
              </a:rPr>
              <a:t>Projekt rekultywacji składow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864252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ekultywacja składowisk w ramach projektu 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Calibri"/>
              </a:rPr>
              <a:t>„Regionalny System Gospodark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Calibri"/>
              </a:rPr>
              <a:t>Odpadami Tczew”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Calibri"/>
              </a:rPr>
              <a:t>Miłoc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Gołębiewo Wielk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Minię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Malbork- 2 składowi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Lisewo Malborsk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Mątowy Mał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Świer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zaleni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libri"/>
              </a:rPr>
              <a:t>Wdrażanie PGO WP 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64216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Zadania marszałka województwa w świetle zmienionej ustawy o odpada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zyjmuje roczne sprawozdania z realizacji zadań samorządów gminnych         w zakresie gospodarowania odpadami komunalnymi – pierwsze sprawozdanie do 31 marca 2013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orządza zbiorcze roczne sprawozdanie i przekazuje do MŚ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rawuje kontrolę nad prowadzącym RIPOK w zakresie przyjmowania zmieszanych odpadów komunalnych, zielonych i pozostałości po sortowaniu przeznaczonych do składowan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pozycja wskazania przedstawiciela RIPOK do współpracy z UM W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 ze strony DROŚ – p. Katarzyna Wiśniewsk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9640" y="2204640"/>
            <a:ext cx="8229600" cy="16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libri"/>
              </a:rPr>
              <a:t>Obowiązki gmin, przewoźników, operatorów instalacji regionalnych i zastępczy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50752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libri"/>
              </a:rPr>
              <a:t>Obowiązki gminy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Zorganizowania odbierania odpadów komunalnych od właściciel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ieruchomości, na których zamieszkują mieszkań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graniczenie masy odpadów komunalnych ulegających biodegradacj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zekazywanych do składowan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 </a:t>
            </a:r>
            <a:r>
              <a:rPr b="0" lang="en-US" sz="2000" spc="-1" strike="noStrike">
                <a:solidFill>
                  <a:srgbClr val="cc0000"/>
                </a:solidFill>
                <a:latin typeface="Calibri"/>
              </a:rPr>
              <a:t>16 lipca 2013 r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do nie więcej niż </a:t>
            </a:r>
            <a:r>
              <a:rPr b="0" lang="en-US" sz="2000" spc="-1" strike="noStrike">
                <a:solidFill>
                  <a:srgbClr val="cc0000"/>
                </a:solidFill>
                <a:latin typeface="Calibri"/>
              </a:rPr>
              <a:t>5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 </a:t>
            </a:r>
            <a:r>
              <a:rPr b="0" lang="en-US" sz="2000" spc="-1" strike="noStrike">
                <a:solidFill>
                  <a:srgbClr val="cc0000"/>
                </a:solidFill>
                <a:latin typeface="Calibri"/>
              </a:rPr>
              <a:t>16 lipca 2020 r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do nie więcej niż </a:t>
            </a:r>
            <a:r>
              <a:rPr b="0" lang="en-US" sz="2000" spc="-1" strike="noStrike">
                <a:solidFill>
                  <a:srgbClr val="cc0000"/>
                </a:solidFill>
                <a:latin typeface="Calibri"/>
              </a:rPr>
              <a:t>35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agowo całkowitej masy odpadów komunalnych ulegających biodegradacji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zekazywanych do składowania, w stosunku do masy odpadów wytworzonych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 1995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686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libri"/>
              </a:rPr>
              <a:t>Jak obliczyć masę odpadów komunalnych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Calibri"/>
              </a:rPr>
              <a:t>ulegających biodegradacji wytworzoną w 1995 r. 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332000" y="1125360"/>
            <a:ext cx="6094440" cy="863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OUB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Calibri"/>
              </a:rPr>
              <a:t>1995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= 0,155* Lm + 0,047 * Lw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    [Mg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/>
          <p:nvPr/>
        </p:nvSpPr>
        <p:spPr>
          <a:xfrm>
            <a:off x="324000" y="2060640"/>
            <a:ext cx="8496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Calibri"/>
              </a:rPr>
              <a:t>Gdzi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UB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Calibri"/>
              </a:rPr>
              <a:t>1995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– masa odpadów komunalnych ulegających biodegradacji wytworzonych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 1995 r. [Mg]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Lm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– liczba mieszkańców miasta w 1995 r. na obszarze rozliczeniowym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Lw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– liczba mieszkańców wsi w 1995 r. na obszarze rozliczeniowy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4149720"/>
            <a:ext cx="828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Przykład obliczania dla gminy miejsko - wiejskiej Bytów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1995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 0,155*17 556 + 0,047*5 795  [Mg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/>
          <p:nvPr/>
        </p:nvSpPr>
        <p:spPr>
          <a:xfrm>
            <a:off x="971640" y="501336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/>
          <p:nvPr/>
        </p:nvSpPr>
        <p:spPr>
          <a:xfrm>
            <a:off x="324000" y="5157720"/>
            <a:ext cx="633708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U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1995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 993,5 [Mg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libri"/>
              </a:rPr>
              <a:t>Ranga nowych Planów Gospodarki Odpad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7854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raz z uchwaleniem wojewódzkiego planu gospodarki odpadami sejmi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ojewództwa podejmuj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chwałę w sprawie jego wykonan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alibri"/>
              </a:rPr>
              <a:t>Uchwała ta jest aktem prawa miejscow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chwał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w sprawie wykonania wojewódzkiego planu gospodarki odpadam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kreślać będzi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odział n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gion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gospodarki odpadami wraz ze wskazaniem gmin wchodzących w skład region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gionalne instalacj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do przetwarzania odpadów komunalnych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stalacje przewidziane do zastępczej obsługi regionów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 czasu uruchomienia regionalnych instalacji do przetwarzania odpadów komunalnych, w przypadku gdy znajdująca się w nich instalacja uległa awari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84000" y="0"/>
            <a:ext cx="648036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alibri"/>
              </a:rPr>
              <a:t>Poziomy ograniczenia masy odpadów komunalnych  ulegających biodegradacji przekazywanych do składow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oziomy ograniczenia masy odpadów komunalnych ulegających biodegradacji przekazywanych do składowania w stosunku do masy tych odpadów wytworzonych w 1995 r. [%] – wg projektu z dnia 22 marca 2012 r.  rozporządzenia Ministra Środowisk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395280" y="2852640"/>
          <a:ext cx="8353440" cy="3313080"/>
        </p:xfrm>
        <a:graphic>
          <a:graphicData uri="http://schemas.openxmlformats.org/drawingml/2006/table">
            <a:tbl>
              <a:tblPr/>
              <a:tblGrid>
                <a:gridCol w="2448000"/>
                <a:gridCol w="649080"/>
                <a:gridCol w="648000"/>
                <a:gridCol w="647640"/>
                <a:gridCol w="647640"/>
                <a:gridCol w="649080"/>
                <a:gridCol w="648000"/>
                <a:gridCol w="647640"/>
                <a:gridCol w="647640"/>
                <a:gridCol w="72072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16 lipca 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16 lipca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puszczalny poziom masy odpadów komunalnych ulegających biodegradacji przekazywanych do składowania w stosunku do masy tych odpadów wytworzonych w 1995 r. [%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5075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libri"/>
              </a:rPr>
              <a:t>Jak obliczyć masę odpadów komunalnych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Calibri"/>
              </a:rPr>
              <a:t>ulegających biodegradacji dozwoloną do składowania 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124000" y="1052640"/>
            <a:ext cx="4105440" cy="799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3492360" y="1125360"/>
                <a:ext cx="144000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OUB </m:t>
                        </m:r>
                        <m:r>
                          <m:rPr>
                            <m:lit/>
                            <m:nor/>
                          </m:rPr>
                          <m:t xml:space="preserve">1995</m:t>
                        </m:r>
                        <m:r>
                          <m:t xml:space="preserve">∗</m:t>
                        </m:r>
                        <m:r>
                          <m:t xml:space="preserve">P</m:t>
                        </m:r>
                        <m:r>
                          <m:t xml:space="preserve">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5076720" y="1341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[Mg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/>
          <p:nvPr/>
        </p:nvSpPr>
        <p:spPr>
          <a:xfrm>
            <a:off x="324000" y="1700280"/>
            <a:ext cx="864072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Gdzie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UB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alibri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– masa odpadów komunalnych ulegających biodegradacji dozwolona do składowania w roku rozliczeniowym [Mg]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UB1995 - masa odpadów komunalnych ulegających biodegradacji wytworzonych w 1995 r. [Mg]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 – poziom ograniczenia masy odpadów komunalnych ulegających biodegradacji przekazywanych do składowania  [%]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/>
          <p:nvPr/>
        </p:nvSpPr>
        <p:spPr>
          <a:xfrm>
            <a:off x="324000" y="2708280"/>
            <a:ext cx="84960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/>
          <p:nvPr/>
        </p:nvSpPr>
        <p:spPr>
          <a:xfrm>
            <a:off x="395280" y="3284640"/>
            <a:ext cx="8497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/>
          <p:nvPr/>
        </p:nvSpPr>
        <p:spPr>
          <a:xfrm>
            <a:off x="324000" y="3429000"/>
            <a:ext cx="88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Przykład obliczenia dla gminy miejsko – wiejskiej Bytów (rok 2013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/>
          <p:nvPr/>
        </p:nvSpPr>
        <p:spPr>
          <a:xfrm>
            <a:off x="324000" y="3933720"/>
            <a:ext cx="9349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1258920" y="3860640"/>
                <a:ext cx="66247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993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19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36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993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16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36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250920" y="5661000"/>
            <a:ext cx="86421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– poziom ograniczenia masy odpadów komunalnych ulegających biodegradacji          przekazywanych do składowania obowiązujący do 15 lipca 2013 r. = 75 [%], a od 16 lipca 2013 r. = 50 [%]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/>
          <p:nvPr/>
        </p:nvSpPr>
        <p:spPr>
          <a:xfrm>
            <a:off x="539640" y="4869000"/>
            <a:ext cx="80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= 1205,6 + 633,0 = 1838,6 [Mg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627280" y="0"/>
            <a:ext cx="633744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alibri"/>
              </a:rPr>
              <a:t>Jak obliczyć masę odpadów komunalnych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Calibri"/>
              </a:rPr>
              <a:t>ulegających biodegradacji przekazanych do składowania w danym roku rozliczeniowym 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55640" y="1052640"/>
            <a:ext cx="7848720" cy="72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OUB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= (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M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*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)+(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W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*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W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)+(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S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*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)+(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B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*0,52) [Mg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/>
          <p:nvPr/>
        </p:nvSpPr>
        <p:spPr>
          <a:xfrm>
            <a:off x="324000" y="1700280"/>
            <a:ext cx="8496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Gdzie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alibri"/>
              </a:rPr>
              <a:t>OUB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– masa odpadów komunalnych ulegających biodegradacji zebranych ze strumienia odpadów komunalnych w roku rozliczeniowym, przekazanych do składowania [Mg]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alibri"/>
              </a:rPr>
              <a:t>MR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– masa zmieszanych odpadów komunalnych o kodzie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00301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zebranych na obszarze miast w roku rozliczeniowym, przekazanych do składowania [Mg]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alibri"/>
              </a:rPr>
              <a:t>WR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– masa zmieszanych odpadów komunalnych o kodzie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00301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zebranych na obszarze wsi w roku rozliczeniowym, przekazanych do składowania [Mg]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– udział odpadów ulegających biodegradacji w masie zmieszanych odpadów komunalnych dla miast wynoszący 0,57 (przyjęty zgodnie z KPGO 2014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alibri"/>
              </a:rPr>
              <a:t>W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– udział odpadów ulegających biodegradacji w masie zmieszanych odpadów komunalnych dla miast wynoszący 0,48 (przyjęty zgodnie z KPGO 2014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alibri"/>
              </a:rPr>
              <a:t>SR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– masa selektywnie zebranych odpadów ulegających biodegradacji ze strumienia odpadów komunalnych  w roku rozliczeniowym, przekazanych do składowania [Mg]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– udział odpadów ulegających biodegradacji w masie  selektywnie zebranych odpadów ze strumienia odpadów komunalnych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alibri"/>
              </a:rPr>
              <a:t>B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– masa odpadów powstałych po mechaniczno-biologicznym przetworzeniu zmieszanych odpadów komunalnych, o kodzie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91212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iespełniających wymagań rozporządzenia Ministra Środowiska w sprawie mechaniczno-biologicznego przetwarzania zmieszanych odpadów komunalnych [Mg]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/>
          <p:nvPr/>
        </p:nvSpPr>
        <p:spPr>
          <a:xfrm>
            <a:off x="395280" y="4869000"/>
            <a:ext cx="410544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/>
          <p:nvPr/>
        </p:nvSpPr>
        <p:spPr>
          <a:xfrm>
            <a:off x="179280" y="5950080"/>
            <a:ext cx="84981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50752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libri"/>
              </a:rPr>
              <a:t>Obowiązki gminy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siągnięcie do dnia </a:t>
            </a:r>
            <a:r>
              <a:rPr b="1" lang="en-US" sz="2000" spc="-1" strike="noStrike">
                <a:solidFill>
                  <a:srgbClr val="cc0000"/>
                </a:solidFill>
                <a:latin typeface="Calibri"/>
              </a:rPr>
              <a:t>31 grudnia 2020 r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ziomu recyklingu i przygotowania do ponownego użycia następujących frakcji odpadów komunalnych: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apieru, metali, tworzyw sztucznych i szkła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 wysokości co najmniej </a:t>
            </a:r>
            <a:r>
              <a:rPr b="1" lang="en-US" sz="2000" spc="-1" strike="noStrike">
                <a:solidFill>
                  <a:srgbClr val="cc0000"/>
                </a:solidFill>
                <a:latin typeface="Calibri"/>
              </a:rPr>
              <a:t>50 %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agow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ziomu recyklingu, przygotowania do ponownego użycia i odzysku innymi metodami innych niż niebezpieczne</a:t>
            </a:r>
            <a:r>
              <a:rPr b="0" lang="en-US" sz="20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dpadów budowlanych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rozbiórkowych w wysokości co najmniej </a:t>
            </a:r>
            <a:r>
              <a:rPr b="1" lang="en-US" sz="2000" spc="-1" strike="noStrike">
                <a:solidFill>
                  <a:srgbClr val="cc0000"/>
                </a:solidFill>
                <a:latin typeface="Calibri"/>
              </a:rPr>
              <a:t>70 %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wagow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484000" y="0"/>
            <a:ext cx="648036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alibri"/>
              </a:rPr>
              <a:t>Poziomy ograniczenia masy odpadów komunalnych  ulegających biodegradacji przekazywanych do składow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oziomy recyklingu, przygotowania do ponownego użycia i odzysku innymi metodami – wg projektu z dnia 21 marca 2012 r.  rozporządzenia Ministra Środowisk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250920" y="2332080"/>
          <a:ext cx="8353440" cy="4224240"/>
        </p:xfrm>
        <a:graphic>
          <a:graphicData uri="http://schemas.openxmlformats.org/drawingml/2006/table">
            <a:tbl>
              <a:tblPr/>
              <a:tblGrid>
                <a:gridCol w="2448000"/>
                <a:gridCol w="649080"/>
                <a:gridCol w="647640"/>
                <a:gridCol w="647640"/>
                <a:gridCol w="648000"/>
                <a:gridCol w="649080"/>
                <a:gridCol w="647640"/>
                <a:gridCol w="648000"/>
                <a:gridCol w="647640"/>
                <a:gridCol w="720720"/>
              </a:tblGrid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ziomy recyklingu, przygotowania do ponownego użycia frakcji materiałowych łącznie: papier, metal, tworzywa sztuczne i szkło[%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ziomy recyklingu, przygotowania do ponownego użycia i odzysku innymi metodami innych niż niebezpieczne odpadów budowlanych i rozbiórkowych ze strumienia odpadów komunalnych [%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780000" y="0"/>
            <a:ext cx="5184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alibri"/>
              </a:rPr>
              <a:t>Jak obliczyć osiągnięte poziomy recyklingu i przygotowania do ponownego użycia papieru, metali, tworzyw sztucznych i szkła 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124000" y="1052640"/>
            <a:ext cx="4105440" cy="799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pm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483000" y="1116000"/>
                <a:ext cx="14605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r</m:t>
                        </m:r>
                        <m:r>
                          <m:rPr>
                            <m:lit/>
                            <m:nor/>
                          </m:rPr>
                          <m:t xml:space="preserve">pmts</m:t>
                        </m:r>
                        <m:r>
                          <m:rPr>
                            <m:lit/>
                            <m:nor/>
                          </m:rPr>
                          <m:t xml:space="preserve">*100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w</m:t>
                        </m:r>
                        <m:r>
                          <m:rPr>
                            <m:lit/>
                            <m:nor/>
                          </m:rPr>
                          <m:t xml:space="preserve">pmt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3" name=""/>
          <p:cNvSpPr/>
          <p:nvPr/>
        </p:nvSpPr>
        <p:spPr>
          <a:xfrm>
            <a:off x="5076720" y="1341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[Mg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/>
          <p:nvPr/>
        </p:nvSpPr>
        <p:spPr>
          <a:xfrm>
            <a:off x="324000" y="1844640"/>
            <a:ext cx="84960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00"/>
                </a:solidFill>
                <a:uFillTx/>
                <a:latin typeface="Calibri"/>
              </a:rPr>
              <a:t>Gdzie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1" lang="pl-PL" sz="1600" spc="-1" strike="noStrike" baseline="-25000">
                <a:solidFill>
                  <a:srgbClr val="000000"/>
                </a:solidFill>
                <a:latin typeface="Calibri"/>
              </a:rPr>
              <a:t>pmts</a:t>
            </a:r>
            <a:r>
              <a:rPr b="0" lang="pl-PL" sz="16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– poziom recyklingu i przygotowania do ponownego użycia papieru, metali, tworzyw sztucznych i szkła [%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Mr</a:t>
            </a:r>
            <a:r>
              <a:rPr b="1" lang="pl-PL" sz="1600" spc="-1" strike="noStrike" baseline="-25000">
                <a:solidFill>
                  <a:srgbClr val="000000"/>
                </a:solidFill>
                <a:latin typeface="Calibri"/>
              </a:rPr>
              <a:t>pmts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– łączna masa odpadów papieru, metalu, tworzyw sztucznych i szkła poddanych recyklingowi i przygotowaniu do ponownego użycia, pochodzących ze strumienia odpadów komunalnych [Mg]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Mw</a:t>
            </a:r>
            <a:r>
              <a:rPr b="1" lang="pl-PL" sz="1600" spc="-1" strike="noStrike" baseline="-25000">
                <a:solidFill>
                  <a:srgbClr val="000000"/>
                </a:solidFill>
                <a:latin typeface="Calibri"/>
              </a:rPr>
              <a:t>pmts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– łączna masa wytworzonych odpadów papieru, metalu, tworzyw sztucznych i szkła, pochodzących ze strumienia odpadów komunalnych [Mg] - wyliczona na podstawie poniższych wzorów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1) przypadku gmin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Mw</a:t>
            </a:r>
            <a:r>
              <a:rPr b="1" lang="pl-PL" sz="1600" spc="-1" strike="noStrike" baseline="-25000">
                <a:solidFill>
                  <a:srgbClr val="000000"/>
                </a:solidFill>
                <a:latin typeface="Calibri"/>
              </a:rPr>
              <a:t>pmts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 = Lm*Mw</a:t>
            </a:r>
            <a:r>
              <a:rPr b="1" lang="pl-PL" sz="1600" spc="-1" strike="noStrike" baseline="-25000">
                <a:solidFill>
                  <a:srgbClr val="000000"/>
                </a:solidFill>
                <a:latin typeface="Calibri"/>
              </a:rPr>
              <a:t>GUS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*Um</a:t>
            </a:r>
            <a:r>
              <a:rPr b="1" lang="pl-PL" sz="1600" spc="-1" strike="noStrike" baseline="-25000">
                <a:solidFill>
                  <a:srgbClr val="000000"/>
                </a:solidFill>
                <a:latin typeface="Calibri"/>
              </a:rPr>
              <a:t>pmts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2) w przypadku podmiotów: o których mowa w art. 9n ust. 4 uouczip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Mw</a:t>
            </a:r>
            <a:r>
              <a:rPr b="1" lang="pl-PL" sz="1600" spc="-1" strike="noStrike" baseline="-25000">
                <a:solidFill>
                  <a:srgbClr val="000000"/>
                </a:solidFill>
                <a:latin typeface="Calibri"/>
              </a:rPr>
              <a:t>pmts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+Mo*Um</a:t>
            </a:r>
            <a:r>
              <a:rPr b="1" lang="pl-PL" sz="1600" spc="-1" strike="noStrike" baseline="-25000">
                <a:solidFill>
                  <a:srgbClr val="000000"/>
                </a:solidFill>
                <a:latin typeface="Calibri"/>
              </a:rPr>
              <a:t>pm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00"/>
                </a:solidFill>
                <a:uFillTx/>
                <a:latin typeface="Calibri"/>
              </a:rPr>
              <a:t>Gdzie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Lm – liczba mieszkańców gminy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Mw</a:t>
            </a:r>
            <a:r>
              <a:rPr b="0" lang="pl-PL" sz="1600" spc="-1" strike="noStrike" baseline="-25000">
                <a:solidFill>
                  <a:srgbClr val="000000"/>
                </a:solidFill>
                <a:latin typeface="Calibri"/>
              </a:rPr>
              <a:t>GUS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– masa wytworzonych odpadów komunalnych na jednego mieszkańca na terenie województwa wg danych GUS [Mg]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Mo – łączna masa odebranych odpadów komunalnych od właścicieli nieruchomości [Mg]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Um</a:t>
            </a:r>
            <a:r>
              <a:rPr b="0" lang="pl-PL" sz="1600" spc="-1" strike="noStrike" baseline="-25000">
                <a:solidFill>
                  <a:srgbClr val="000000"/>
                </a:solidFill>
                <a:latin typeface="Calibri"/>
              </a:rPr>
              <a:t>pmts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– udział łączny w składzie morfologicznym odpadów komunalnych papieru, metali, tworzyw sztucznych i szkła (na podstawie aktualnego KPGO lub badań morfologii odpadów komunalnych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16000" y="0"/>
            <a:ext cx="604836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libri"/>
              </a:rPr>
              <a:t>Obowiązki odbierających odpady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Calibri"/>
              </a:rPr>
              <a:t>komunalne od właścicieli nieruchomości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zekazywania odebranych od właścicieli nieruchomości zmieszanych odpadó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komunalnych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dpadów zielonych oraz pozostałości z sortowania odpadó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omunalnych przeznaczonych do składowania do </a:t>
            </a:r>
            <a:r>
              <a:rPr b="1" lang="en-US" sz="2000" spc="-1" strike="noStrike">
                <a:solidFill>
                  <a:srgbClr val="cc0000"/>
                </a:solidFill>
                <a:latin typeface="Calibri"/>
              </a:rPr>
              <a:t>Regionalnej instalacji 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alibri"/>
              </a:rPr>
              <a:t>przetwarzania odpadów komunalnych (RIPOK)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/ instalacji zastępczej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Calibri"/>
              </a:rPr>
              <a:t>od dn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Calibri"/>
              </a:rPr>
              <a:t>wejścia uchwały w sprawie wykonania WP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zekazywania odebranych od właścicieli nieruchomości selektywnie zebrany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dpadów komunalnych do instalacji odzysku i unieszkodliwiania odpadó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wiadamiania gminy o przypadkach niedopełnienia przez właściciel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ieruchomości obowiązku w zakresi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elektywnego zbierania odpadó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odpady te przyjmuje jako zmiesza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132000" y="0"/>
            <a:ext cx="583272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libri"/>
              </a:rPr>
              <a:t>Obowiązki odbierających odpady komunalne od właścicieli nieruchomości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dmiot odbierający odpady komunalne od właścicieli nieruchomości, którzy ni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ą objęci zorganizowanym odbieraniem odpadów komunalnych przez gminę 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cy ustawy o utrzymaniu czystości porządku w gminie lub w drodze uchwał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dy gminy, stanowiącej akt prawa miejscowego (art. 6c uouczip) jest obowiązan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 osiągnięcia w danym roku kalendarzowym w odniesieniu do masy odebrany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zez siebie odpadów komunalnych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oziomów recyklingu, przygotowania 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onownego użycia i odzysku innymi metodami oraz ograniczenia mas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dpadów komunalnych ulegających biodegradacji przekazanych 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kładowani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kreślonych w odpowiednich rozporządzeniach Minist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Środowisk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Calibri"/>
              </a:rPr>
              <a:t>Obowiązek sprawozdawczy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6840" y="1125000"/>
            <a:ext cx="84358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12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dmiot odbierający odpady do gminy – </a:t>
            </a:r>
            <a:r>
              <a:rPr b="1" lang="en-US" sz="2000" spc="-1" strike="noStrike">
                <a:solidFill>
                  <a:srgbClr val="cc0000"/>
                </a:solidFill>
                <a:latin typeface="Calibri"/>
              </a:rPr>
              <a:t>kwartalne,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ońca miesiąca następującego po kwartale 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ierwsze sprawozdanie składa się za I kwartał 2012 r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ójt, burmistrz, prezydent miasta do marszałka województwa oraz wojewódzkiego inspektora ochrony środowiska – </a:t>
            </a:r>
            <a:r>
              <a:rPr b="1" lang="en-US" sz="2000" spc="-1" strike="noStrike">
                <a:solidFill>
                  <a:srgbClr val="cc0000"/>
                </a:solidFill>
                <a:latin typeface="Calibri"/>
              </a:rPr>
              <a:t>roczne, do 31 marca następującego roku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ierwsze sprawozdanie składa się za rok 201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rszałek województwa do ministra właściwego do spraw środowiska – </a:t>
            </a:r>
            <a:r>
              <a:rPr b="1" lang="en-US" sz="2000" spc="-1" strike="noStrike">
                <a:solidFill>
                  <a:srgbClr val="cc0000"/>
                </a:solidFill>
                <a:latin typeface="Calibri"/>
              </a:rPr>
              <a:t>roczne, do 15 lipca następującego roku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owiązek sprawozdawczy będzie obejmował w szczególności osiągnięci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ziomów odzysku, recyklingu i ograniczenia składowania odpadó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legających biodegradacj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419280" y="0"/>
            <a:ext cx="554508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libri"/>
              </a:rPr>
              <a:t>Obowiązki prowadzących RIPOK i 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Zawarcia umowy na zagospodarowanie odpadów komunalnych, odpadó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zielonych lub pozostałości z sortowania odpadów komunalnych przeznaczony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o składowania ze wszystkimi podmiotami odbierającymi odpady komunal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d właścicieli nieruchomości, którzy wykonują swoją działalność w rama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gionu gospodarki odpadami komunalnym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zedstawieni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na wniosek gminy lub podmiotu odbierającego odpad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omunalne od właścicieli nieruchomości –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kalkulacji kosztów zagospodarowan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zmieszanych odpadów komunalnych, odpadów zielonych oraz pozostałośc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z sortowania odpadów komunalnych przeznaczonych do składowani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 terminie 7 dni od dnia jego złożen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68000" y="0"/>
            <a:ext cx="665964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Calibri"/>
              </a:rPr>
              <a:t>Etapy przygotowania planu w roku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zyjęcie przez Zarząd Województwa Pomorskiego projektu PGO WP 2018 –      </a:t>
            </a:r>
            <a:r>
              <a:rPr b="1" lang="en-US" sz="2000" spc="-1" strike="noStrike">
                <a:solidFill>
                  <a:srgbClr val="cc0000"/>
                </a:solidFill>
                <a:latin typeface="Calibri"/>
              </a:rPr>
              <a:t>3 stycznia 2012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onsultacje społeczne – </a:t>
            </a:r>
            <a:r>
              <a:rPr b="1" lang="en-US" sz="2000" spc="-1" strike="noStrike">
                <a:solidFill>
                  <a:srgbClr val="cc0000"/>
                </a:solidFill>
                <a:latin typeface="Calibri"/>
              </a:rPr>
              <a:t>od 21 stycznia do 14 lutego 2012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iniowanie przez RDOŚ i WSSE – </a:t>
            </a:r>
            <a:r>
              <a:rPr b="1" lang="en-US" sz="2000" spc="-1" strike="noStrike">
                <a:solidFill>
                  <a:srgbClr val="cc0000"/>
                </a:solidFill>
                <a:latin typeface="Calibri"/>
              </a:rPr>
              <a:t>w ustawowym terminie 30 d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iniowanie przez organy wykonawcze gmin nie będących członkami związków międzygminnych, organy wykonawcze związków międzygminnych, dyrektora RZGW -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Calibri"/>
              </a:rPr>
              <a:t>od 18 stycznia do 18 marca 2012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zyjęcie przez ZWP  informacji o uwagach i wnioskach z etapu konsultacji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opiniowania oraz  sposobu ich uwzględnienia –</a:t>
            </a:r>
            <a:r>
              <a:rPr b="1" lang="en-US" sz="2000" spc="-1" strike="noStrike">
                <a:solidFill>
                  <a:srgbClr val="cc0000"/>
                </a:solidFill>
                <a:latin typeface="Calibri"/>
              </a:rPr>
              <a:t> 27 marca 2012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zekazanie dokumentu do opiniowania przez MŚ – </a:t>
            </a:r>
            <a:r>
              <a:rPr b="1" lang="en-US" sz="2000" spc="-1" strike="noStrike">
                <a:solidFill>
                  <a:srgbClr val="cc0000"/>
                </a:solidFill>
                <a:latin typeface="Calibri"/>
              </a:rPr>
              <a:t>29 marca 2012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tawowy termin uchwalenia dokumentu - </a:t>
            </a:r>
            <a:r>
              <a:rPr b="1" lang="en-US" sz="2000" spc="-1" strike="noStrike">
                <a:solidFill>
                  <a:srgbClr val="cc0000"/>
                </a:solidFill>
                <a:latin typeface="Calibri"/>
              </a:rPr>
              <a:t>30 czerwca 201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Calibri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Uchwalenie przez Sejmik Województwa Pomorskiego PGOWP 2018 wraz z uchwałą 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prawie jego wykonania planowane jest na czerwcowej sesji, tj. w dniu </a:t>
            </a:r>
            <a:r>
              <a:rPr b="1" lang="en-US" sz="1800" spc="-1" strike="noStrike">
                <a:solidFill>
                  <a:srgbClr val="cc0000"/>
                </a:solidFill>
                <a:latin typeface="Calibri"/>
              </a:rPr>
              <a:t>25 czerwca 2012 r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 wejście  w życie uchwały w sprawie wykonania planu po 14 dniach od dnia ogłoszenia 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zienniku Urzędowym Województwa, tj. najprawdopodobniej z dniem </a:t>
            </a:r>
            <a:r>
              <a:rPr b="1" lang="en-US" sz="1800" spc="-1" strike="noStrike" u="sng">
                <a:solidFill>
                  <a:srgbClr val="cc0000"/>
                </a:solidFill>
                <a:uFillTx/>
                <a:latin typeface="Calibri"/>
              </a:rPr>
              <a:t>1 sierpnia 2012 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libri"/>
              </a:rPr>
              <a:t>Kary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2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mina (lub podmiot odbierający odpady komunalne od właściciel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ieruchomości), która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ie wykonuje obowiązku osiągnięcia określony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oziomów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cyklingu, odzysku i przygotowania do ponownego użycia ww. frakcj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dpadów oraz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ie wykonuje obowiązku ograniczenia masy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dpadó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omunalnych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legającyc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iodegradacji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zekazanych do składowania, </a:t>
            </a:r>
            <a:r>
              <a:rPr b="0" lang="en-US" sz="2000" spc="-1" strike="noStrike">
                <a:solidFill>
                  <a:srgbClr val="cc0000"/>
                </a:solidFill>
                <a:latin typeface="Calibri"/>
              </a:rPr>
              <a:t>podleg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alibri"/>
              </a:rPr>
              <a:t>karze pieniężnej obliczonej  odrębnie dla wymaganego poziom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arę pieniężną  oblicza się jako </a:t>
            </a:r>
            <a:r>
              <a:rPr b="1" lang="en-US" sz="2000" spc="-1" strike="noStrike">
                <a:solidFill>
                  <a:srgbClr val="cc0000"/>
                </a:solidFill>
                <a:latin typeface="Calibri"/>
              </a:rPr>
              <a:t>iloczyn stawki opłaty </a:t>
            </a:r>
            <a:r>
              <a:rPr b="0" lang="en-US" sz="2000" spc="-1" strike="noStrike">
                <a:solidFill>
                  <a:srgbClr val="cc0000"/>
                </a:solidFill>
                <a:latin typeface="Calibri"/>
              </a:rPr>
              <a:t>za zmieszane odpad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alibri"/>
              </a:rPr>
              <a:t>komunalne </a:t>
            </a:r>
            <a:r>
              <a:rPr b="1" lang="en-US" sz="2000" spc="-1" strike="noStrike">
                <a:solidFill>
                  <a:srgbClr val="cc0000"/>
                </a:solidFill>
                <a:latin typeface="Calibri"/>
              </a:rPr>
              <a:t>i brakującej masy odpadów </a:t>
            </a:r>
            <a:r>
              <a:rPr b="0" lang="en-US" sz="2000" spc="-1" strike="noStrike">
                <a:solidFill>
                  <a:srgbClr val="cc0000"/>
                </a:solidFill>
                <a:latin typeface="Calibri"/>
              </a:rPr>
              <a:t>komunalnych, wyrażonej w M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alibri"/>
              </a:rPr>
              <a:t>wymaganej do </a:t>
            </a:r>
            <a:r>
              <a:rPr b="0" lang="en-US" sz="2000" spc="-1" strike="noStrike">
                <a:solidFill>
                  <a:srgbClr val="cc0000"/>
                </a:solidFill>
                <a:latin typeface="Calibri"/>
              </a:rPr>
              <a:t>osiągnięcia odpowiedniego poziomu recyklingu, przygotowania 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alibri"/>
              </a:rPr>
              <a:t>ponownego użycia i odzysku lub </a:t>
            </a:r>
            <a:r>
              <a:rPr b="1" lang="en-US" sz="2000" spc="-1" strike="noStrike">
                <a:solidFill>
                  <a:srgbClr val="cc0000"/>
                </a:solidFill>
                <a:latin typeface="Calibri"/>
              </a:rPr>
              <a:t>ograniczenia masy odpadów komunalny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alibri"/>
              </a:rPr>
              <a:t>ulegających biodegradacji przekazanych do składowan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tawka opłaty za 1 Mg zmieszanych odpadów komunalnych w 2012 r.-</a:t>
            </a:r>
            <a:r>
              <a:rPr b="0" lang="en-US" sz="20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Calibri"/>
              </a:rPr>
              <a:t>110,65 z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libri"/>
              </a:rPr>
              <a:t>Przykład obliczenia k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642160" cy="503280"/>
          </a:xfrm>
          <a:prstGeom prst="rect">
            <a:avLst/>
          </a:prstGeom>
          <a:solidFill>
            <a:srgbClr val="c9ecfb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mina Miejska X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250920" y="1628640"/>
            <a:ext cx="8642160" cy="398880"/>
          </a:xfrm>
          <a:prstGeom prst="rect">
            <a:avLst/>
          </a:prstGeom>
          <a:solidFill>
            <a:srgbClr val="c9ecfb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sa odpadów komunalnych wytworzonych w 2010 r. -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1 030 M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250920" y="2133720"/>
            <a:ext cx="8642160" cy="398880"/>
          </a:xfrm>
          <a:prstGeom prst="rect">
            <a:avLst/>
          </a:prstGeom>
          <a:solidFill>
            <a:srgbClr val="c9ecfb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sa odpadów biodegradowalnych wytworzonych w 2010 r. -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4 393,4 M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250920" y="4076640"/>
            <a:ext cx="8642160" cy="398880"/>
          </a:xfrm>
          <a:prstGeom prst="rect">
            <a:avLst/>
          </a:prstGeom>
          <a:solidFill>
            <a:srgbClr val="ff99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sa odpadów dopuszczonych do składowania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 2013 r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4 697,7 M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468360" y="2708280"/>
            <a:ext cx="3816360" cy="1106280"/>
          </a:xfrm>
          <a:prstGeom prst="rect">
            <a:avLst/>
          </a:prstGeom>
          <a:solidFill>
            <a:srgbClr val="c9ecfb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sa odpadów biodegradowalnych zeskładowanych w 2010 r. -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3 302,7 M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4932360" y="2708280"/>
            <a:ext cx="3600360" cy="1221840"/>
          </a:xfrm>
          <a:prstGeom prst="rect">
            <a:avLst/>
          </a:prstGeom>
          <a:solidFill>
            <a:srgbClr val="c9ecfb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sa odpadów biodegradowalnych zagospodarowanych w 2010 r.  innymi sposobami niż składowanie-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 090,7 M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 Box 10"/>
          <p:cNvSpPr/>
          <p:nvPr/>
        </p:nvSpPr>
        <p:spPr>
          <a:xfrm>
            <a:off x="250920" y="4581360"/>
            <a:ext cx="8642160" cy="831960"/>
          </a:xfrm>
          <a:prstGeom prst="rect">
            <a:avLst/>
          </a:prstGeom>
          <a:solidFill>
            <a:srgbClr val="c9ecfb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sa odpadów wymagająca zagospodarowania innymi sposobami niż składowanie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3 302,7- 4 697,7=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8 605 M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11"/>
          <p:cNvSpPr/>
          <p:nvPr/>
        </p:nvSpPr>
        <p:spPr>
          <a:xfrm>
            <a:off x="250920" y="5589720"/>
            <a:ext cx="8642160" cy="1059840"/>
          </a:xfrm>
          <a:prstGeom prst="rect">
            <a:avLst/>
          </a:prstGeom>
          <a:solidFill>
            <a:srgbClr val="ff99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Kara pieniężna obliczona w przypadku nie ograniczenia masy odpadów biodegradowalnych przekazywanych do składowania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8605 Mg x 110,65 z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952 143 z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4"/>
          <p:cNvSpPr/>
          <p:nvPr/>
        </p:nvSpPr>
        <p:spPr>
          <a:xfrm>
            <a:off x="2411280" y="2492280"/>
            <a:ext cx="4608720" cy="23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99"/>
                </a:solidFill>
                <a:latin typeface="Calibri"/>
              </a:rPr>
              <a:t>Dziękujemy za uwag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99"/>
                </a:solidFill>
                <a:latin typeface="Calibri"/>
              </a:rPr>
              <a:t>Anna Grapatyn - Korzeniowsk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99"/>
                </a:solidFill>
                <a:latin typeface="Calibri"/>
              </a:rPr>
              <a:t>Tadeusz Sty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99"/>
                </a:solidFill>
                <a:latin typeface="Calibri"/>
              </a:rPr>
              <a:t>Departament Środowiska i Rolnictw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36480" y="259920"/>
            <a:ext cx="8328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libri"/>
              </a:rPr>
              <a:t>Opiniowanie projektu planu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7138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Opiniowanie PGOWP 2018 z ustawy z dnia 27 kwietnia 2001 r. o odpada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przez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rgany wykonawcze gmin, niebędących członkami związków międzygminny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pinię złożyło 86 gmin (85 gmin w terminie, 1 gmina po terminie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pinii nie złożyły 24 gmin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rgany wykonawcze związków międzygminny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KZG „Dolina Redy i Chylonki” (8 gmin) - opinia pozytywna z uwagam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wiązek Międzygminny Zatoki Puckiej (5 gmin) - opinia pozytywna bez uwag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egionalny Zarząd Gospodarki Wodnej w Gdańsku - opinia pozytywna                z uwagam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pl-PL" sz="2000" spc="-1" strike="noStrike">
                <a:solidFill>
                  <a:srgbClr val="cc0000"/>
                </a:solidFill>
                <a:latin typeface="Calibri"/>
              </a:rPr>
              <a:t>Termin: 2 miesiące (18.01 – 18.03.2012 r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Opiniowanie projektu planu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4216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piniowanie PGOWP 2018 wraz z Prognozą oddziaływania na środowisk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z ustawy z dnia 3 października 2008 r. o udostępnianiu informacji o środowisk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 jego ochronie, udziale społeczeństwa w ochronie środowiska oraz o ocena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ddziaływania na środowisk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gionalna Dyrekcja Ochrony Środowiska w Gdańsku - opinia pozytywna          z uwagami (w ustawowym terminie 30 dni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morski Państwowy Wojewódzki Inspektor Sanitarny - opinia pozytywna bez uwag (w ustawowym terminie 30 dni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dział społeczeństwa (termin: 21 dni, 25.01 – 14.02.2012 r.)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 wniosek złożony w termini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 wniosków złożonych po termin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36480" y="259920"/>
            <a:ext cx="832824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libri"/>
              </a:rPr>
              <a:t>Opiniowanie projektu planu 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7138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Uwagi i wnioski do PGOWP 2018 zgłoszone przez Radę Konsultacyjną 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aktualizacji POŚWP i WPGO 2010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FOŚiGW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IOŚ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DOŚ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Rodzaje zgłoszonych uwa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Uwagi merytorycz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Uwagi „porządkujące” (interpunkcja, stylistyka, błędy pisarskie, korekta danych etc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507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libri"/>
              </a:rPr>
              <a:t>System gospodarki odpadami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Calibri"/>
              </a:rPr>
              <a:t>w województwie pomorsk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dstawowym założeniem funkcjonowania gospodarki odpadami komunalnym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 Polsce jest system rozwiązań regionalny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kt PGO WP 2018 zakłada funkcjonowanie 7 regionów gospodarki odpadami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tóre obsługiwane będą przez zintegrowaną sieć instalacji do odzysk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unieszkodliwiania odpadów, opartą na instalacjach regionalnych przekształcan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dpadów (RIPOK), z który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6 - funkcjonu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  - są modernizowane – (Tczew, Nowy Dwór) - do końca 2013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  - budowany jest od podstaw – uruchomienie - maj/czerwiec 2012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zupełnieniem systemu będzie instalacja termicznego przekształcan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ergetycznej frakcji odpadów komunalnych, wydzielonej w pomorskich RIPOK.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50752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Calibri"/>
              </a:rPr>
              <a:t>Region gospodarki odpadami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Calibri"/>
              </a:rPr>
              <a:t>Instalacja regionaln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7138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Region gospodarki odpadami komunalnym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szar liczący co najmniej 150 000 mieszkańcó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szar gminy liczącej powyżej 500 000 mieszkańcó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Regionalna instalacja do przetwarzania odpadów komunalny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Zakład zagospodarowania odpadów o mocy przerobowej wystarczającej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 przyjmowania i przetwarzania opadów z obszaru zamieszkanego przez c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jmniej 120 tys. mieszkańców zapewniający termiczne przekształceni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dpadów lub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chaniczno-biologiczne przetwarzanie zmieszanych odpadów komunalnych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zetwarzanie zebranych selektywnie odpadów zielonych i innych bioodpadów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kładowanie odpadów powstających w procesie mechaniczno-biologicznego przetwarzania odpadów oraz pozostałości z sortowania przez okres nie krótszy niż 15 l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8T07:52:50Z</dcterms:created>
  <dc:creator>Stawiński Arkadiusz</dc:creator>
  <dc:description/>
  <dc:language>en-US</dc:language>
  <cp:lastModifiedBy>dfrasunkiewicz</cp:lastModifiedBy>
  <dcterms:modified xsi:type="dcterms:W3CDTF">2012-05-10T13:44:54Z</dcterms:modified>
  <cp:revision>238</cp:revision>
  <dc:subject/>
  <dc:title>72 dpi</dc:title>
</cp:coreProperties>
</file>