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B60B-1C10-4F03-9DAB-10CE1277BA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EB32-AE34-4685-98AC-91C2FF68F8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58E-1071-4864-BB66-7165AC07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B42-61D6-4558-8BCE-B2031B71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113-5EBB-428E-BA9A-44D43B26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0EC-F77B-4510-91CF-3C9DA425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969-9579-4602-82A7-E6362768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B97-CD5F-4C9C-B7B5-39635A18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CE8-AFDE-450F-AB47-4923E3F4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BBF-3698-4E1B-A872-64F6A968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6A0-025F-4D3A-A5D7-8FECB364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D19-7EB1-4358-85AA-8D0FA2E2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525-8A9A-492E-8335-E49674EF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265-E81A-4AB1-85A6-72B1863A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0678-C3BB-4A70-8209-330C696D1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268360" y="558972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Gdańsk, 11 maja 2012 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39640" y="1989000"/>
            <a:ext cx="820908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Zmiana systemu gospodarowania odpadami wynikająca z projekt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Planu Gospodarki Odpadami dla Województwa Pomorskiego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egiony gospodarki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1197000"/>
          <a:ext cx="8496000" cy="5346720"/>
        </p:xfrm>
        <a:graphic>
          <a:graphicData uri="http://schemas.openxmlformats.org/drawingml/2006/table">
            <a:tbl>
              <a:tblPr/>
              <a:tblGrid>
                <a:gridCol w="853920"/>
                <a:gridCol w="2833560"/>
                <a:gridCol w="2406960"/>
                <a:gridCol w="240156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zwa regio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czba mieszkań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dół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Szadółk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 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ko Do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Eko Do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ółnoc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Czarnówk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 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ółnocno-Zachod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Bierkow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Sierz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 4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łudniowo-Zachod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Nowy Dwó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54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łudni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Stary L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 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schod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Tczew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Gilwa Mał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 0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Deklaracje gmin do obszarów obsługi 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Deklaracje do ZZO"/>
          <p:cNvPicPr/>
          <p:nvPr/>
        </p:nvPicPr>
        <p:blipFill>
          <a:blip r:embed="rId2"/>
          <a:stretch/>
        </p:blipFill>
        <p:spPr>
          <a:xfrm>
            <a:off x="900000" y="1052640"/>
            <a:ext cx="748836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Nowe regiony gospodarki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Nowe regiony-podpisy-wariant II"/>
          <p:cNvPicPr/>
          <p:nvPr/>
        </p:nvPicPr>
        <p:blipFill>
          <a:blip r:embed="rId2"/>
          <a:stretch/>
        </p:blipFill>
        <p:spPr>
          <a:xfrm>
            <a:off x="755640" y="1052640"/>
            <a:ext cx="777708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libri"/>
              </a:rPr>
              <a:t>Regiony gospodarki odpadami, w których funkcjonują instalacje mog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libri"/>
              </a:rPr>
              <a:t>przetworzyć odpady komunalne z całego regionu: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Szadół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Eko D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Północno-Zacho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Południ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Calibri"/>
              </a:rPr>
              <a:t>Regiony gospodarki odpadami, w których funkcjonują instalacje NIE mog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Calibri"/>
              </a:rPr>
              <a:t>przetworzyć odpadów komunalnych z całego regionu: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Północ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Południowo-Zacho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Wscho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799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egiony gospodarki odpadami, w których regionalne instalacje do przetwarzania odpadów, posiadają zdolności przerobowe wystarczające do przyjęcia i przetworzenia odpadów komunalnych z całego regionu gospodarki odpad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Calibri"/>
              </a:rPr>
              <a:t>Region Szadół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179280" y="522936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66"/>
          <p:cNvSpPr/>
          <p:nvPr/>
        </p:nvSpPr>
        <p:spPr>
          <a:xfrm>
            <a:off x="468360" y="5157720"/>
            <a:ext cx="8567640" cy="489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MBP, zagospodarowanie odpadów zielonych, 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68360" y="5877000"/>
            <a:ext cx="856764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lanowana instalacja termicznego przekształcania energetycznej frakcji odpadów z terenu województwa pomorskieg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69"/>
          <p:cNvSpPr/>
          <p:nvPr/>
        </p:nvSpPr>
        <p:spPr>
          <a:xfrm>
            <a:off x="395280" y="1341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250920" y="1052640"/>
            <a:ext cx="180000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97 490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3" descr="Szadółki-symbole"/>
          <p:cNvPicPr/>
          <p:nvPr/>
        </p:nvPicPr>
        <p:blipFill>
          <a:blip r:embed="rId2"/>
          <a:stretch/>
        </p:blipFill>
        <p:spPr>
          <a:xfrm>
            <a:off x="1619280" y="1773360"/>
            <a:ext cx="5689440" cy="30240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1"/>
          <p:cNvSpPr/>
          <p:nvPr/>
        </p:nvSpPr>
        <p:spPr>
          <a:xfrm flipH="1">
            <a:off x="7163640" y="2637000"/>
            <a:ext cx="1800360" cy="431640"/>
          </a:xfrm>
          <a:prstGeom prst="wedgeRectCallout">
            <a:avLst>
              <a:gd name="adj1" fmla="val 161111"/>
              <a:gd name="adj2" fmla="val 878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IPOK Szadół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11"/>
          <p:cNvSpPr/>
          <p:nvPr/>
        </p:nvSpPr>
        <p:spPr>
          <a:xfrm flipH="1">
            <a:off x="7020000" y="4221000"/>
            <a:ext cx="1800000" cy="432000"/>
          </a:xfrm>
          <a:prstGeom prst="wedgeRectCallout">
            <a:avLst>
              <a:gd name="adj1" fmla="val 130333"/>
              <a:gd name="adj2" fmla="val -2389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acja TP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6"/>
          <p:cNvSpPr/>
          <p:nvPr/>
        </p:nvSpPr>
        <p:spPr>
          <a:xfrm>
            <a:off x="108000" y="5877000"/>
            <a:ext cx="217440" cy="21600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635280" y="189000"/>
            <a:ext cx="506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egion Eko D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Eko Dolina"/>
          <p:cNvPicPr/>
          <p:nvPr/>
        </p:nvPicPr>
        <p:blipFill>
          <a:blip r:embed="rId2"/>
          <a:stretch/>
        </p:blipFill>
        <p:spPr>
          <a:xfrm>
            <a:off x="2050920" y="1268280"/>
            <a:ext cx="4969080" cy="3889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4859280" y="350028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324000" y="566100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1"/>
          <p:cNvSpPr/>
          <p:nvPr/>
        </p:nvSpPr>
        <p:spPr>
          <a:xfrm flipH="1">
            <a:off x="7163640" y="2565360"/>
            <a:ext cx="1800360" cy="432000"/>
          </a:xfrm>
          <a:prstGeom prst="wedgeRectCallout">
            <a:avLst>
              <a:gd name="adj1" fmla="val 170810"/>
              <a:gd name="adj2" fmla="val 179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POK Eko Dol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84360" y="5516640"/>
            <a:ext cx="7991280" cy="489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MBP, zagospodarowanie odpadów zielonych, 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250920" y="1125360"/>
            <a:ext cx="180000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60 527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egion Północno-Zacho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68360" y="5445000"/>
            <a:ext cx="8424720" cy="489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MBP, zagospodarowanie odpadów zielonych, 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79280" y="558972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68360" y="6381720"/>
            <a:ext cx="842472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kładowisko spełniające wymogi ochrony środowiska, nie przewidziane do zastępczej obsługi regionu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468360" y="6021360"/>
            <a:ext cx="842472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zagospodarowanie odpadów zielonych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179280" y="6093000"/>
            <a:ext cx="14472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9" descr="Nowy-Północno-zachodni"/>
          <p:cNvPicPr/>
          <p:nvPr/>
        </p:nvPicPr>
        <p:blipFill>
          <a:blip r:embed="rId2"/>
          <a:stretch/>
        </p:blipFill>
        <p:spPr>
          <a:xfrm>
            <a:off x="1692360" y="1052640"/>
            <a:ext cx="4967280" cy="424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0"/>
          <p:cNvSpPr/>
          <p:nvPr/>
        </p:nvSpPr>
        <p:spPr>
          <a:xfrm>
            <a:off x="2771640" y="234936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3132000" y="2421000"/>
            <a:ext cx="14472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34"/>
          <p:cNvSpPr/>
          <p:nvPr/>
        </p:nvSpPr>
        <p:spPr>
          <a:xfrm>
            <a:off x="108000" y="2133720"/>
            <a:ext cx="2017800" cy="360360"/>
          </a:xfrm>
          <a:prstGeom prst="wedgeRectCallout">
            <a:avLst>
              <a:gd name="adj1" fmla="val 84384"/>
              <a:gd name="adj2" fmla="val 306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IPOK Bierko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35"/>
          <p:cNvSpPr/>
          <p:nvPr/>
        </p:nvSpPr>
        <p:spPr>
          <a:xfrm>
            <a:off x="5292720" y="2060640"/>
            <a:ext cx="2017800" cy="360360"/>
          </a:xfrm>
          <a:prstGeom prst="wedgeRectCallout">
            <a:avLst>
              <a:gd name="adj1" fmla="val -151967"/>
              <a:gd name="adj2" fmla="val 702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dociągi Słup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6"/>
          <p:cNvSpPr/>
          <p:nvPr/>
        </p:nvSpPr>
        <p:spPr>
          <a:xfrm>
            <a:off x="4356000" y="407664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37"/>
          <p:cNvSpPr/>
          <p:nvPr/>
        </p:nvSpPr>
        <p:spPr>
          <a:xfrm>
            <a:off x="6084720" y="4076640"/>
            <a:ext cx="2017800" cy="360360"/>
          </a:xfrm>
          <a:prstGeom prst="wedgeRectCallout">
            <a:avLst>
              <a:gd name="adj1" fmla="val -130407"/>
              <a:gd name="adj2" fmla="val -398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IPOK Sierz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40"/>
          <p:cNvSpPr/>
          <p:nvPr/>
        </p:nvSpPr>
        <p:spPr>
          <a:xfrm>
            <a:off x="179280" y="2924280"/>
            <a:ext cx="2017800" cy="360360"/>
          </a:xfrm>
          <a:prstGeom prst="wedgeRectCallout">
            <a:avLst>
              <a:gd name="adj1" fmla="val 76199"/>
              <a:gd name="adj2" fmla="val 87444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łęż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41"/>
          <p:cNvSpPr/>
          <p:nvPr/>
        </p:nvSpPr>
        <p:spPr>
          <a:xfrm>
            <a:off x="108000" y="4005360"/>
            <a:ext cx="2017800" cy="360360"/>
          </a:xfrm>
          <a:prstGeom prst="wedgeRectCallout">
            <a:avLst>
              <a:gd name="adj1" fmla="val 76277"/>
              <a:gd name="adj2" fmla="val 43393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at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4"/>
          <p:cNvSpPr/>
          <p:nvPr/>
        </p:nvSpPr>
        <p:spPr>
          <a:xfrm>
            <a:off x="2700360" y="328464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45"/>
          <p:cNvSpPr/>
          <p:nvPr/>
        </p:nvSpPr>
        <p:spPr>
          <a:xfrm>
            <a:off x="2627280" y="422100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6"/>
          <p:cNvSpPr/>
          <p:nvPr/>
        </p:nvSpPr>
        <p:spPr>
          <a:xfrm>
            <a:off x="179280" y="638172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179280" y="1052640"/>
            <a:ext cx="180036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64 498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9218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egion Południ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południowy"/>
          <p:cNvPicPr/>
          <p:nvPr/>
        </p:nvPicPr>
        <p:blipFill>
          <a:blip r:embed="rId2"/>
          <a:stretch/>
        </p:blipFill>
        <p:spPr>
          <a:xfrm>
            <a:off x="2484360" y="1052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5219640" y="321300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79280" y="544500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31"/>
          <p:cNvSpPr/>
          <p:nvPr/>
        </p:nvSpPr>
        <p:spPr>
          <a:xfrm flipH="1">
            <a:off x="323280" y="1989000"/>
            <a:ext cx="1944360" cy="432000"/>
          </a:xfrm>
          <a:prstGeom prst="wedgeRectCallout">
            <a:avLst>
              <a:gd name="adj1" fmla="val -89837"/>
              <a:gd name="adj2" fmla="val -88606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1"/>
          <p:cNvSpPr/>
          <p:nvPr/>
        </p:nvSpPr>
        <p:spPr>
          <a:xfrm>
            <a:off x="611280" y="198900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stom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43"/>
          <p:cNvSpPr/>
          <p:nvPr/>
        </p:nvSpPr>
        <p:spPr>
          <a:xfrm>
            <a:off x="6659640" y="2924280"/>
            <a:ext cx="2089080" cy="433440"/>
          </a:xfrm>
          <a:prstGeom prst="wedgeRectCallout">
            <a:avLst>
              <a:gd name="adj1" fmla="val -113907"/>
              <a:gd name="adj2" fmla="val 283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6948360" y="29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POK Stary 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7"/>
          <p:cNvSpPr/>
          <p:nvPr/>
        </p:nvSpPr>
        <p:spPr>
          <a:xfrm>
            <a:off x="468360" y="5805360"/>
            <a:ext cx="842472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regionalna (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48"/>
          <p:cNvSpPr/>
          <p:nvPr/>
        </p:nvSpPr>
        <p:spPr>
          <a:xfrm>
            <a:off x="468360" y="5229360"/>
            <a:ext cx="8424720" cy="489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MBP, zagospodarowanie odpadów zielonych, 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60"/>
          <p:cNvSpPr/>
          <p:nvPr/>
        </p:nvSpPr>
        <p:spPr>
          <a:xfrm>
            <a:off x="6732720" y="2421000"/>
            <a:ext cx="2016000" cy="360360"/>
          </a:xfrm>
          <a:prstGeom prst="wedgeRectCallout">
            <a:avLst>
              <a:gd name="adj1" fmla="val -110078"/>
              <a:gd name="adj2" fmla="val 4250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61"/>
          <p:cNvSpPr/>
          <p:nvPr/>
        </p:nvSpPr>
        <p:spPr>
          <a:xfrm>
            <a:off x="7020000" y="242100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nowiec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6"/>
          <p:cNvSpPr/>
          <p:nvPr/>
        </p:nvSpPr>
        <p:spPr>
          <a:xfrm>
            <a:off x="179280" y="5877000"/>
            <a:ext cx="144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7"/>
          <p:cNvSpPr/>
          <p:nvPr/>
        </p:nvSpPr>
        <p:spPr>
          <a:xfrm>
            <a:off x="2987640" y="177336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9"/>
          <p:cNvSpPr/>
          <p:nvPr/>
        </p:nvSpPr>
        <p:spPr>
          <a:xfrm>
            <a:off x="468360" y="6237360"/>
            <a:ext cx="8424720" cy="489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kładowisko spełniające wymogi ochrony środowiska,  przewidziane do obsługi regionu do 30.12.2012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 przypadku awarii RIPOK  w okresie rozruch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0"/>
          <p:cNvSpPr/>
          <p:nvPr/>
        </p:nvSpPr>
        <p:spPr>
          <a:xfrm>
            <a:off x="395280" y="1052640"/>
            <a:ext cx="180036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90 944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71"/>
          <p:cNvSpPr/>
          <p:nvPr/>
        </p:nvSpPr>
        <p:spPr>
          <a:xfrm>
            <a:off x="179280" y="630864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80"/>
          <p:cNvSpPr/>
          <p:nvPr/>
        </p:nvSpPr>
        <p:spPr>
          <a:xfrm>
            <a:off x="5364000" y="263700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Projekt rekultywacji składow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jekt: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Rekultywacja składowisk odpadów gmin będących udziałowc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ZUOK „Stary Las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ofinansowany z EF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blewo – do I kwartał 2013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órcz - do IV kwartał 2012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etowo - do II kwartał 2013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rych - do II kwartał 2013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rsin - do IV kwartał 2012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niewskie Góry - do II kwartał 2014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arszewy - do II kwartał 2013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browiec - do II kwartał 2014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nowiec - do III kwartał 2014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siek - do II kwartał 2014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sówek - do II kwartał 2014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605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 lipca 2011 roku Sejm uchwalił ustawę o zmianie ustaw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 utrzymaniu czystości i porządku w gminach oraz niektórych innych ustaw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Dz.U. Nr 152, poz. 897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tym ustawy  o odpad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stawa weszła w życi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1 stycznia 2012 ro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lany gospodarki odpadami opracowywane będą na poziomie</a:t>
            </a:r>
            <a:r>
              <a:rPr b="0" lang="pl-PL" sz="2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krajowy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     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i wojewódz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potrzeby wykonania planów gospodarki odpadami na szczeblu</a:t>
            </a:r>
            <a:r>
              <a:rPr b="0" lang="pl-PL" sz="2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powiatowym i gmin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lany gospodarki odpadami podlegać będą aktualizacji nie rzadziej niż co</a:t>
            </a:r>
            <a:r>
              <a:rPr b="0" lang="pl-PL" sz="2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    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6 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prawozdania z efektów wdrażania planu wojewódzkiego co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3 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565200" y="404640"/>
            <a:ext cx="83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Zmiana ustawy o odpad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egiony gospodarki odpadami, w których regionalne instalacje do przetwarzania odpadów NIE posiadają zdolności przerobowej wystarczającej do przyjęcia i przetworzenia odpadów komunalnych z całego regionu gospodarki odpad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egion Północn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Północny"/>
          <p:cNvPicPr/>
          <p:nvPr/>
        </p:nvPicPr>
        <p:blipFill>
          <a:blip r:embed="rId2"/>
          <a:stretch/>
        </p:blipFill>
        <p:spPr>
          <a:xfrm>
            <a:off x="1908000" y="1268280"/>
            <a:ext cx="5372280" cy="35625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3635280" y="249228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08000" y="508464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17"/>
          <p:cNvSpPr/>
          <p:nvPr/>
        </p:nvSpPr>
        <p:spPr>
          <a:xfrm flipH="1">
            <a:off x="107280" y="2637000"/>
            <a:ext cx="1942920" cy="431640"/>
          </a:xfrm>
          <a:prstGeom prst="wedgeRectCallout">
            <a:avLst>
              <a:gd name="adj1" fmla="val -134560"/>
              <a:gd name="adj2" fmla="val -602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IPOK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Czarnówk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18"/>
          <p:cNvSpPr/>
          <p:nvPr/>
        </p:nvSpPr>
        <p:spPr>
          <a:xfrm flipH="1">
            <a:off x="107280" y="3645000"/>
            <a:ext cx="1692360" cy="431640"/>
          </a:xfrm>
          <a:prstGeom prst="wedgeRectCallout">
            <a:avLst>
              <a:gd name="adj1" fmla="val -118106"/>
              <a:gd name="adj2" fmla="val -16029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hlew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19"/>
          <p:cNvSpPr/>
          <p:nvPr/>
        </p:nvSpPr>
        <p:spPr>
          <a:xfrm flipH="1">
            <a:off x="178560" y="1989000"/>
            <a:ext cx="1692360" cy="432000"/>
          </a:xfrm>
          <a:prstGeom prst="wedgeRectCallout">
            <a:avLst>
              <a:gd name="adj1" fmla="val -206944"/>
              <a:gd name="adj2" fmla="val -5551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niew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20"/>
          <p:cNvSpPr/>
          <p:nvPr/>
        </p:nvSpPr>
        <p:spPr>
          <a:xfrm flipH="1">
            <a:off x="7379640" y="2565360"/>
            <a:ext cx="1655640" cy="432000"/>
          </a:xfrm>
          <a:prstGeom prst="wedgeRectCallout">
            <a:avLst>
              <a:gd name="adj1" fmla="val 211263"/>
              <a:gd name="adj2" fmla="val -13345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bska Karcz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21"/>
          <p:cNvSpPr/>
          <p:nvPr/>
        </p:nvSpPr>
        <p:spPr>
          <a:xfrm flipH="1">
            <a:off x="7379640" y="1125360"/>
            <a:ext cx="1584360" cy="432000"/>
          </a:xfrm>
          <a:prstGeom prst="wedgeRectCallout">
            <a:avLst>
              <a:gd name="adj1" fmla="val 155407"/>
              <a:gd name="adj2" fmla="val 4190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Łeb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22"/>
          <p:cNvSpPr/>
          <p:nvPr/>
        </p:nvSpPr>
        <p:spPr>
          <a:xfrm flipH="1">
            <a:off x="7379640" y="1700280"/>
            <a:ext cx="1584360" cy="431640"/>
          </a:xfrm>
          <a:prstGeom prst="wedgeRectCallout">
            <a:avLst>
              <a:gd name="adj1" fmla="val 158814"/>
              <a:gd name="adj2" fmla="val -3272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arze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25"/>
          <p:cNvSpPr/>
          <p:nvPr/>
        </p:nvSpPr>
        <p:spPr>
          <a:xfrm>
            <a:off x="4500720" y="1916280"/>
            <a:ext cx="1425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468360" y="5013360"/>
            <a:ext cx="8351640" cy="489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MBP, zagospodarowanie odpadów zielonych, 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28"/>
          <p:cNvSpPr/>
          <p:nvPr/>
        </p:nvSpPr>
        <p:spPr>
          <a:xfrm>
            <a:off x="108000" y="5661000"/>
            <a:ext cx="1429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29"/>
          <p:cNvSpPr/>
          <p:nvPr/>
        </p:nvSpPr>
        <p:spPr>
          <a:xfrm>
            <a:off x="4643280" y="2133720"/>
            <a:ext cx="1429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30"/>
          <p:cNvSpPr/>
          <p:nvPr/>
        </p:nvSpPr>
        <p:spPr>
          <a:xfrm>
            <a:off x="5580000" y="1484280"/>
            <a:ext cx="1429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31"/>
          <p:cNvSpPr/>
          <p:nvPr/>
        </p:nvSpPr>
        <p:spPr>
          <a:xfrm>
            <a:off x="2916360" y="306864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468360" y="5589720"/>
            <a:ext cx="792000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przewidziana do zastępczej obsługi regionu (składowanie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33"/>
          <p:cNvSpPr/>
          <p:nvPr/>
        </p:nvSpPr>
        <p:spPr>
          <a:xfrm>
            <a:off x="108000" y="609300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468360" y="6021360"/>
            <a:ext cx="820728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przewidziana do zastępczej obsługi regionu (składowanie balastu + MP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468360" y="6453360"/>
            <a:ext cx="820728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przewidziana do zastępczej obsługi regionu (zagospodarowanie odpadów zielonych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179280" y="1052640"/>
            <a:ext cx="180036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11 234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508720" y="1700280"/>
            <a:ext cx="14436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8000" y="6524640"/>
            <a:ext cx="14436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egion Południowo-Zachodni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0"/>
          <p:cNvSpPr/>
          <p:nvPr/>
        </p:nvSpPr>
        <p:spPr>
          <a:xfrm>
            <a:off x="250920" y="5589720"/>
            <a:ext cx="14436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45"/>
          <p:cNvSpPr/>
          <p:nvPr/>
        </p:nvSpPr>
        <p:spPr>
          <a:xfrm>
            <a:off x="250920" y="609300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57"/>
          <p:cNvSpPr/>
          <p:nvPr/>
        </p:nvSpPr>
        <p:spPr>
          <a:xfrm>
            <a:off x="539640" y="6021360"/>
            <a:ext cx="842508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przewidziana do zastępczej obsługi regionu, do czasu uruchomienia instalacji regionalnej (składowanie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58"/>
          <p:cNvSpPr/>
          <p:nvPr/>
        </p:nvSpPr>
        <p:spPr>
          <a:xfrm>
            <a:off x="539640" y="5516640"/>
            <a:ext cx="842508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regionalna w trakcie budowy (MBP, zagospodarowanie odpadów zielonych, 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59"/>
          <p:cNvSpPr/>
          <p:nvPr/>
        </p:nvSpPr>
        <p:spPr>
          <a:xfrm>
            <a:off x="179280" y="1052640"/>
            <a:ext cx="180036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0 547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61"/>
          <p:cNvSpPr/>
          <p:nvPr/>
        </p:nvSpPr>
        <p:spPr>
          <a:xfrm>
            <a:off x="539640" y="6453360"/>
            <a:ext cx="842508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przewidziana do zastępczej obsługi regionu (zagospodarowanie odpadów zielonych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9" descr="nowyPołudniowo-zachodni-symbole"/>
          <p:cNvPicPr/>
          <p:nvPr/>
        </p:nvPicPr>
        <p:blipFill>
          <a:blip r:embed="rId2"/>
          <a:stretch/>
        </p:blipFill>
        <p:spPr>
          <a:xfrm>
            <a:off x="2050920" y="1844640"/>
            <a:ext cx="4537080" cy="30243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7"/>
          <p:cNvSpPr/>
          <p:nvPr/>
        </p:nvSpPr>
        <p:spPr>
          <a:xfrm flipH="1">
            <a:off x="6084000" y="4365720"/>
            <a:ext cx="2374920" cy="431640"/>
          </a:xfrm>
          <a:prstGeom prst="wedgeRectCallout">
            <a:avLst>
              <a:gd name="adj1" fmla="val 113166"/>
              <a:gd name="adj2" fmla="val -12941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POK Nowy Dwó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40"/>
          <p:cNvSpPr/>
          <p:nvPr/>
        </p:nvSpPr>
        <p:spPr>
          <a:xfrm flipH="1">
            <a:off x="6300000" y="3573360"/>
            <a:ext cx="2158920" cy="576360"/>
          </a:xfrm>
          <a:prstGeom prst="wedgeRectCallout">
            <a:avLst>
              <a:gd name="adj1" fmla="val 120657"/>
              <a:gd name="adj2" fmla="val 12532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kładowisk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 Nowym Dwor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51"/>
          <p:cNvSpPr/>
          <p:nvPr/>
        </p:nvSpPr>
        <p:spPr>
          <a:xfrm flipH="1">
            <a:off x="7020000" y="1844640"/>
            <a:ext cx="1944720" cy="432000"/>
          </a:xfrm>
          <a:prstGeom prst="wedgeRectCallout">
            <a:avLst>
              <a:gd name="adj1" fmla="val 123958"/>
              <a:gd name="adj2" fmla="val 255513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żu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55"/>
          <p:cNvSpPr/>
          <p:nvPr/>
        </p:nvSpPr>
        <p:spPr>
          <a:xfrm flipH="1">
            <a:off x="108000" y="4581360"/>
            <a:ext cx="1800000" cy="432000"/>
          </a:xfrm>
          <a:prstGeom prst="wedgeRectCallout">
            <a:avLst>
              <a:gd name="adj1" fmla="val -116402"/>
              <a:gd name="adj2" fmla="val -8014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zymisł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54"/>
          <p:cNvSpPr/>
          <p:nvPr/>
        </p:nvSpPr>
        <p:spPr>
          <a:xfrm flipH="1">
            <a:off x="108000" y="4076640"/>
            <a:ext cx="1800000" cy="432000"/>
          </a:xfrm>
          <a:prstGeom prst="wedgeRectCallout">
            <a:avLst>
              <a:gd name="adj1" fmla="val -85981"/>
              <a:gd name="adj2" fmla="val -14595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dzieje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56"/>
          <p:cNvSpPr/>
          <p:nvPr/>
        </p:nvSpPr>
        <p:spPr>
          <a:xfrm flipH="1">
            <a:off x="108000" y="3213000"/>
            <a:ext cx="1800000" cy="432000"/>
          </a:xfrm>
          <a:prstGeom prst="wedgeRectCallout">
            <a:avLst>
              <a:gd name="adj1" fmla="val -148856"/>
              <a:gd name="adj2" fmla="val 7021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iełp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53"/>
          <p:cNvSpPr/>
          <p:nvPr/>
        </p:nvSpPr>
        <p:spPr>
          <a:xfrm flipH="1">
            <a:off x="178560" y="1916280"/>
            <a:ext cx="1800360" cy="431640"/>
          </a:xfrm>
          <a:prstGeom prst="wedgeRectCallout">
            <a:avLst>
              <a:gd name="adj1" fmla="val -136685"/>
              <a:gd name="adj2" fmla="val 212495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zechle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52"/>
          <p:cNvSpPr/>
          <p:nvPr/>
        </p:nvSpPr>
        <p:spPr>
          <a:xfrm flipH="1">
            <a:off x="6947640" y="1052640"/>
            <a:ext cx="2016360" cy="431640"/>
          </a:xfrm>
          <a:prstGeom prst="wedgeRectCallout">
            <a:avLst>
              <a:gd name="adj1" fmla="val 197949"/>
              <a:gd name="adj2" fmla="val 36212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ielona Hu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50920" y="6524640"/>
            <a:ext cx="14436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53"/>
          <p:cNvSpPr/>
          <p:nvPr/>
        </p:nvSpPr>
        <p:spPr>
          <a:xfrm flipH="1">
            <a:off x="178560" y="2565360"/>
            <a:ext cx="1800360" cy="432000"/>
          </a:xfrm>
          <a:prstGeom prst="wedgeRectCallout">
            <a:avLst>
              <a:gd name="adj1" fmla="val -120550"/>
              <a:gd name="adj2" fmla="val 77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zechle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Projekt rekultywacji składow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jekt: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Rekultywacja 15 składowisk odpadów komunalnych zlokalizowa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na obszarze działania ZZO w Nowym Dworze k/Angowic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finansowany z EF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ł. w m. Nowy Dw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hojnicz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iecho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ocko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ob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er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żur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lona H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zymisł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eł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ęb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dzieje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chlewo-2 sz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ąpo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egion Wscho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nowyWschodni-symbole"/>
          <p:cNvPicPr/>
          <p:nvPr/>
        </p:nvPicPr>
        <p:blipFill>
          <a:blip r:embed="rId2"/>
          <a:stretch/>
        </p:blipFill>
        <p:spPr>
          <a:xfrm>
            <a:off x="2556000" y="1052640"/>
            <a:ext cx="3884400" cy="4032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108000" y="522936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5"/>
          <p:cNvSpPr/>
          <p:nvPr/>
        </p:nvSpPr>
        <p:spPr>
          <a:xfrm>
            <a:off x="395280" y="5157720"/>
            <a:ext cx="835344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MBP, zagospodarowanie odpadów zielonych, składowanie balas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108000" y="5661000"/>
            <a:ext cx="14436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34"/>
          <p:cNvSpPr/>
          <p:nvPr/>
        </p:nvSpPr>
        <p:spPr>
          <a:xfrm>
            <a:off x="395280" y="5589720"/>
            <a:ext cx="835344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acja regionalna w trakcie budowy (MBP, zagospodarowanie odpadów zielonych, składowanie balas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48"/>
          <p:cNvSpPr/>
          <p:nvPr/>
        </p:nvSpPr>
        <p:spPr>
          <a:xfrm>
            <a:off x="108000" y="6093000"/>
            <a:ext cx="14436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395280" y="6021360"/>
            <a:ext cx="835344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zagospodarowanie odpadów zielony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37"/>
          <p:cNvSpPr/>
          <p:nvPr/>
        </p:nvSpPr>
        <p:spPr>
          <a:xfrm>
            <a:off x="108000" y="652464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395280" y="6453360"/>
            <a:ext cx="835344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acja przewidziana do zastępczej obsługi regionu (składowani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50"/>
          <p:cNvSpPr/>
          <p:nvPr/>
        </p:nvSpPr>
        <p:spPr>
          <a:xfrm>
            <a:off x="7020000" y="1052640"/>
            <a:ext cx="180000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65 079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2"/>
          <p:cNvSpPr/>
          <p:nvPr/>
        </p:nvSpPr>
        <p:spPr>
          <a:xfrm flipH="1">
            <a:off x="179280" y="1989000"/>
            <a:ext cx="1944720" cy="432000"/>
          </a:xfrm>
          <a:prstGeom prst="wedgeRectCallout">
            <a:avLst>
              <a:gd name="adj1" fmla="val -103388"/>
              <a:gd name="adj2" fmla="val 22791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Gołębiewo Wielk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15"/>
          <p:cNvSpPr/>
          <p:nvPr/>
        </p:nvSpPr>
        <p:spPr>
          <a:xfrm flipH="1">
            <a:off x="899280" y="1125360"/>
            <a:ext cx="2017800" cy="360720"/>
          </a:xfrm>
          <a:prstGeom prst="wedgeRectCallout">
            <a:avLst>
              <a:gd name="adj1" fmla="val -96578"/>
              <a:gd name="adj2" fmla="val 35968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mmunalserv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41"/>
          <p:cNvSpPr/>
          <p:nvPr/>
        </p:nvSpPr>
        <p:spPr>
          <a:xfrm flipH="1">
            <a:off x="179280" y="2492280"/>
            <a:ext cx="1944720" cy="432000"/>
          </a:xfrm>
          <a:prstGeom prst="wedgeRectCallout">
            <a:avLst>
              <a:gd name="adj1" fmla="val -133185"/>
              <a:gd name="adj2" fmla="val -1618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POK Tcz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14"/>
          <p:cNvSpPr/>
          <p:nvPr/>
        </p:nvSpPr>
        <p:spPr>
          <a:xfrm flipH="1">
            <a:off x="179280" y="3213000"/>
            <a:ext cx="1944720" cy="505080"/>
          </a:xfrm>
          <a:prstGeom prst="wedgeRectCallout">
            <a:avLst>
              <a:gd name="adj1" fmla="val -125023"/>
              <a:gd name="adj2" fmla="val -150314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kładowisk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 Rokitka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21"/>
          <p:cNvSpPr/>
          <p:nvPr/>
        </p:nvSpPr>
        <p:spPr>
          <a:xfrm flipH="1">
            <a:off x="179280" y="3860640"/>
            <a:ext cx="1944720" cy="432000"/>
          </a:xfrm>
          <a:prstGeom prst="wedgeRectCallout">
            <a:avLst>
              <a:gd name="adj1" fmla="val -116532"/>
              <a:gd name="adj2" fmla="val -119486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puc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 flipH="1">
            <a:off x="250920" y="4581360"/>
            <a:ext cx="1944720" cy="432000"/>
          </a:xfrm>
          <a:prstGeom prst="wedgeRectCallout">
            <a:avLst>
              <a:gd name="adj1" fmla="val -135962"/>
              <a:gd name="adj2" fmla="val -188972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cpo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AutoShape 25"/>
          <p:cNvSpPr/>
          <p:nvPr/>
        </p:nvSpPr>
        <p:spPr>
          <a:xfrm flipH="1">
            <a:off x="6876360" y="2060640"/>
            <a:ext cx="2087640" cy="431640"/>
          </a:xfrm>
          <a:prstGeom prst="wedgeRectCallout">
            <a:avLst>
              <a:gd name="adj1" fmla="val 128703"/>
              <a:gd name="adj2" fmla="val 16690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zaleni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26"/>
          <p:cNvSpPr/>
          <p:nvPr/>
        </p:nvSpPr>
        <p:spPr>
          <a:xfrm flipH="1">
            <a:off x="6804000" y="2852640"/>
            <a:ext cx="2160720" cy="432000"/>
          </a:xfrm>
          <a:prstGeom prst="wedgeRectCallout">
            <a:avLst>
              <a:gd name="adj1" fmla="val 156314"/>
              <a:gd name="adj2" fmla="val 116175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wa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eś Sztums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4"/>
          <p:cNvSpPr/>
          <p:nvPr/>
        </p:nvSpPr>
        <p:spPr>
          <a:xfrm flipH="1">
            <a:off x="6876360" y="3429000"/>
            <a:ext cx="2087640" cy="431640"/>
          </a:xfrm>
          <a:prstGeom prst="wedgeRectCallout">
            <a:avLst>
              <a:gd name="adj1" fmla="val 119504"/>
              <a:gd name="adj2" fmla="val 1543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ię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3"/>
          <p:cNvSpPr/>
          <p:nvPr/>
        </p:nvSpPr>
        <p:spPr>
          <a:xfrm flipH="1">
            <a:off x="6876360" y="4292640"/>
            <a:ext cx="2087640" cy="431640"/>
          </a:xfrm>
          <a:prstGeom prst="wedgeRectCallout">
            <a:avLst>
              <a:gd name="adj1" fmla="val 150148"/>
              <a:gd name="adj2" fmla="val -25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IPOK Gilwa Mał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Projekt rekultywacji składow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42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kultywacja składowisk w ramach projektu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„Regionalny System Gospodar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Odpadami Tczew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Miłoc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ołębiewo Wiel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nię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lbork- 2 składow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isewo Malbo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ątowy Mał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Świer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aleni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Wdrażanie PGO WP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2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dania marszałka województwa w świetle zmienionej ustawy o odpad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yjmuje roczne sprawozdania z realizacji zadań samorządów gminnych         w zakresie gospodarowania odpadami komunalnymi – pierwsze sprawozdanie do 31 marca 201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rządza zbiorcze roczne sprawozdanie i przekazuje do MŚ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rawuje kontrolę nad prowadzącym RIPOK w zakresie przyjmowania zmieszanych odpadów komunalnych, zielonych i pozostałości po sortowaniu przeznaczonych do składo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zycja wskazania przedstawiciela RIPOK do współpracy z UM W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 ze strony DROŚ – p. Katarzyna Wiśniews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ki gmin, przewoźników, operatorów instalacji regionalnych i zastępcz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ki gminy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organizowania odbierania odpadów komunalnych od właścicie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ieruchomości, na których zamieszkują mieszkań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graniczenie masy odpadów komunalnych ulegających biodegradac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zekazywanych do składow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16 lipca 2013 r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o nie więcej niż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16 lipca 2020 r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o nie więcej niż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3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gowo całkowitej masy odpadów komunalnych ulegających biodegradacj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kazywanych do składowania, w stosunku do masy odpadów wytworzonyc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1995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686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Jak obliczyć masę odpadów komunalnych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ulegających biodegradacji wytworzoną w 1995 r.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1125360"/>
            <a:ext cx="609444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UB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Calibri"/>
              </a:rPr>
              <a:t>1995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= 0,155* Lm + 0,047 * Lw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   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2060640"/>
            <a:ext cx="8496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UB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1995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masa odpadów komunalnych ulegających biodegradacji wytworzony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1995 r. [Mg]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liczba mieszkańców miasta w 1995 r. na obszarze rozliczeniowy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liczba mieszkańców wsi w 1995 r. na obszarze rozliczeniowy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414972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zykład obliczania dla gminy miejsko - wiejskiej Bytów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99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0,155*17 556 + 0,047*5 795  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5013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5157720"/>
            <a:ext cx="6337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995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 993,5 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anga nowych Planów Gospodarki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az z uchwaleniem wojewódzkiego planu gospodarki odpadami sejm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jewództwa podejmuj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chwałę w sprawie jego wykon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Uchwała ta jest aktem prawa miejscow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chwał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 sprawie wykonania wojewódzkiego planu gospodarki odpad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kreślać będz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dział n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gion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ospodarki odpadami wraz ze wskazaniem gmin wchodzących w skład regio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gionalne instalac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o przetwarzania odpadów komunaln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alacje przewidziane do zastępczej obsługi regionów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czasu uruchomienia regionalnych instalacji do przetwarzania odpadów komunalnych, w przypadku gdy znajdująca się w nich instalacja uległa awar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480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Poziomy ograniczenia masy odpadów komunalnych  ulegających biodegradacji przekazywanych do skład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ziomy ograniczenia masy odpadów komunalnych ulegających biodegradacji przekazywanych do składowania w stosunku do masy tych odpadów wytworzonych w 1995 r. [%] – wg projektu z dnia 22 marca 2012 r.  rozporządzenia Ministra Środowis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280" y="2852640"/>
          <a:ext cx="8353440" cy="3313080"/>
        </p:xfrm>
        <a:graphic>
          <a:graphicData uri="http://schemas.openxmlformats.org/drawingml/2006/table">
            <a:tbl>
              <a:tblPr/>
              <a:tblGrid>
                <a:gridCol w="2448000"/>
                <a:gridCol w="649080"/>
                <a:gridCol w="648000"/>
                <a:gridCol w="647640"/>
                <a:gridCol w="647640"/>
                <a:gridCol w="649080"/>
                <a:gridCol w="648000"/>
                <a:gridCol w="647640"/>
                <a:gridCol w="647640"/>
                <a:gridCol w="720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16 lipca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16 lipc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puszczalny poziom masy odpadów komunalnych ulegających biodegradacji przekazywanych do składowania w stosunku do masy tych odpadów wytworzonych w 1995 r.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Jak obliczyć masę odpadów komunalnych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ulegających biodegradacji dozwoloną do składowania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24000" y="1052640"/>
            <a:ext cx="4105440" cy="799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92360" y="1125360"/>
                <a:ext cx="1440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UB </m:t>
                        </m:r>
                        <m:r>
                          <m:rPr>
                            <m:lit/>
                            <m:nor/>
                          </m:rPr>
                          <m:t xml:space="preserve">1995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5076720" y="134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700280"/>
            <a:ext cx="864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Gdzi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UB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masa odpadów komunalnych ulegających biodegradacji dozwolona do składowania w roku rozliczeniowym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UB1995 - masa odpadów komunalnych ulegających biodegradacji wytworzonych w 1995 r.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 – poziom ograniczenia masy odpadów komunalnych ulegających biodegradacji przekazywanych do składowania  [%]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2708280"/>
            <a:ext cx="8496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3284640"/>
            <a:ext cx="849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42900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zykład obliczenia dla gminy miejsko – wiejskiej Bytów (rok 2013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3933720"/>
            <a:ext cx="934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58920" y="3860640"/>
                <a:ext cx="66247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9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9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50920" y="5661000"/>
            <a:ext cx="864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– poziom ograniczenia masy odpadów komunalnych ulegających biodegradacji          przekazywanych do składowania obowiązujący do 15 lipca 2013 r. = 75 [%], a od 16 lipca 2013 r. = 50 [%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4869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1205,6 + 633,0 = 1838,6 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337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Jak obliczyć masę odpadów komunalnych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ulegających biodegradacji przekazanych do składowania w danym roku rozliczeniowym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1052640"/>
            <a:ext cx="78487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OUB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M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+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W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+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+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0,52) 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70028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Gdzi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OUB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masa odpadów komunalnych ulegających biodegradacji zebranych ze strumienia odpadów komunalnych w roku rozliczeniowym, przekazanych do składowania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M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– masa zmieszanych odpadów komunalnych o kodzi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030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zebranych na obszarze miast w roku rozliczeniowym, przekazanych do składowania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W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– masa zmieszanych odpadów komunalnych o kodzi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030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zebranych na obszarze wsi w roku rozliczeniowym, przekazanych do składowania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– udział odpadów ulegających biodegradacji w masie zmieszanych odpadów komunalnych dla miast wynoszący 0,57 (przyjęty zgodnie z KPGO 201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– udział odpadów ulegających biodegradacji w masie zmieszanych odpadów komunalnych dla miast wynoszący 0,48 (przyjęty zgodnie z KPGO 201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S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– masa selektywnie zebranych odpadów ulegających biodegradacji ze strumienia odpadów komunalnych  w roku rozliczeniowym, przekazanych do składowania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udział odpadów ulegających biodegradacji w masie  selektywnie zebranych odpadów ze strumienia odpadów komunal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masa odpadów powstałych po mechaniczno-biologicznym przetworzeniu zmieszanych odpadów komunalnych, o kodzi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9121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espełniających wymagań rozporządzenia Ministra Środowiska w sprawie mechaniczno-biologicznego przetwarzania zmieszanych odpadów komunalnych [Mg]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4869000"/>
            <a:ext cx="41054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5950080"/>
            <a:ext cx="8498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ki gminy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siągnięcie do dnia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31 grudnia 2020 r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iomu recyklingu i przygotowania do ponownego użycia następujących frakcji odpadów komunalnych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pieru, metali, tworzyw sztucznych i szkł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wysokości co najmniej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50 %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gow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iomu recyklingu, przygotowania do ponownego użycia i odzysku innymi metodami innych niż niebezpieczne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dpadów budowlanyc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rozbiórkowych w wysokości co najmniej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70 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ago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480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Poziomy ograniczenia masy odpadów komunalnych  ulegających biodegradacji przekazywanych do skład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ziomy recyklingu, przygotowania do ponownego użycia i odzysku innymi metodami – wg projektu z dnia 21 marca 2012 r.  rozporządzenia Ministra Środowis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50920" y="2332080"/>
          <a:ext cx="8353440" cy="4224240"/>
        </p:xfrm>
        <a:graphic>
          <a:graphicData uri="http://schemas.openxmlformats.org/drawingml/2006/table">
            <a:tbl>
              <a:tblPr/>
              <a:tblGrid>
                <a:gridCol w="2448000"/>
                <a:gridCol w="649080"/>
                <a:gridCol w="647640"/>
                <a:gridCol w="647640"/>
                <a:gridCol w="648000"/>
                <a:gridCol w="649080"/>
                <a:gridCol w="647640"/>
                <a:gridCol w="648000"/>
                <a:gridCol w="647640"/>
                <a:gridCol w="7207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omy recyklingu, przygotowania do ponownego użycia frakcji materiałowych łącznie: papier, metal, tworzywa sztuczne i szkło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omy recyklingu, przygotowania do ponownego użycia i odzysku innymi metodami innych niż niebezpieczne odpadów budowlanych i rozbiórkowych ze strumienia odpadów komunalnych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780000" y="0"/>
            <a:ext cx="518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Jak obliczyć osiągnięte poziomy recyklingu i przygotowania do ponownego użycia papieru, metali, tworzyw sztucznych i szkła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24000" y="1052640"/>
            <a:ext cx="4105440" cy="799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83000" y="1116000"/>
                <a:ext cx="1460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rPr>
                            <m:lit/>
                            <m:nor/>
                          </m:rPr>
                          <m:t xml:space="preserve">pmts</m:t>
                        </m:r>
                        <m:r>
                          <m:rPr>
                            <m:lit/>
                            <m:nor/>
                          </m:rPr>
                          <m:t xml:space="preserve">*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  <m:r>
                          <m:rPr>
                            <m:lit/>
                            <m:nor/>
                          </m:rPr>
                          <m:t xml:space="preserve">pm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5076720" y="134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844640"/>
            <a:ext cx="8496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Gdzi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poziom recyklingu i przygotowania do ponownego użycia papieru, metali, tworzyw sztucznych i szkła [%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łączna masa odpadów papieru, metalu, tworzyw sztucznych i szkła poddanych recyklingowi i przygotowaniu do ponownego użycia, pochodzących ze strumienia odpadów komunalnych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w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łączna masa wytworzonych odpadów papieru, metalu, tworzyw sztucznych i szkła, pochodzących ze strumienia odpadów komunalnych [Mg] - wyliczona na podstawie poniższych wzorów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1) przypadku gm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w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= Lm*Mw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GU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*Um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2) w przypadku podmiotów: o których mowa w art. 9n ust. 4 uouczi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w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+Mo*Um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Gdzi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m – liczba mieszkańców gminy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w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Calibri"/>
              </a:rPr>
              <a:t>GUS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masa wytworzonych odpadów komunalnych na jednego mieszkańca na terenie województwa wg danych GUS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 – łączna masa odebranych odpadów komunalnych od właścicieli nieruchomości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udział łączny w składzie morfologicznym odpadów komunalnych papieru, metali, tworzyw sztucznych i szkła (na podstawie aktualnego KPGO lub badań morfologii odpadów komunalnych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048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ki odbierających odpady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komunalne od właścicieli nieruchomości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zekazywania odebranych od właścicieli nieruchomości zmieszanych 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munalnych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padów zielonych oraz pozostałości z sortowania 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unalnych przeznaczonych do składowania do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Regionalnej instalacji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przetwarzania odpadów komunalnych (RIPOK)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/ instalacji zastępczej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Calibri"/>
              </a:rPr>
              <a:t>od d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Calibri"/>
              </a:rPr>
              <a:t>wejścia uchwały w sprawie wykonania WP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kazywania odebranych od właścicieli nieruchomości selektywnie zebra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padów komunalnych do instalacji odzysku i unieszkodliwiania odpa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wiadamiania gminy o przypadkach niedopełnienia przez właścicie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eruchomości obowiązku w zakresi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lektywnego zbierania odpa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odpady te przyjmuje jako zmiesz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ki odbierających odpady komunalne od właścicieli nieruchomości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dmiot odbierający odpady komunalne od właścicieli nieruchomości, którzy 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ą objęci zorganizowanym odbieraniem odpadów komunalnych przez gminę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cy ustawy o utrzymaniu czystości porządku w gminie lub w drodze uchwał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y gminy, stanowiącej akt prawa miejscowego (art. 6c uouczip) jest obowiąz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osiągnięcia w danym roku kalendarzowym w odniesieniu do masy odebra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z siebie odpadów komunalnyc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ziomów recyklingu, przygotowania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nownego użycia i odzysku innymi metodami oraz ograniczenia mas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dpadów komunalnych ulegających biodegradacji przekazanych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kładowani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kreślonych w odpowiednich rozporządzeniach Minist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Środowis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ek sprawozdawczy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dmiot odbierający odpady do gminy –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kwartalne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ńca miesiąca następującego po kwartale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ierwsze sprawozdanie składa się za I kwartał 2012 r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ójt, burmistrz, prezydent miasta do marszałka województwa oraz wojewódzkiego inspektora ochrony środowiska –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roczne, do 31 marca następującego roku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ierwsze sprawozdanie składa się za rok 20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szałek województwa do ministra właściwego do spraw środowiska –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roczne, do 15 lipca następującego rok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owiązek sprawozdawczy będzie obejmował w szczególności osiągnięc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iomów odzysku, recyklingu i ograniczenia składowania 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legających biodegrad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19280" y="0"/>
            <a:ext cx="5545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ki prowadzących RIPOK i 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warcia umowy na zagospodarowanie odpadów komunalnych, 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ielonych lub pozostałości z sortowania odpadów komunalnych przeznaczo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 składowania ze wszystkimi podmiotami odbierającymi odpady komun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d właścicieli nieruchomości, którzy wykonują swoją działalność w ram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gionu gospodarki odpadami komunalny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zedstawieni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wniosek gminy lub podmiotu odbierającego odpa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unalne od właścicieli nieruchomości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alkulacji kosztów zagospodarow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mieszanych odpadów komunalnych, odpadów zielonych oraz pozostałoś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 sortowania odpadów komunalnych przeznaczonych do składowani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terminie 7 dni od dnia jego złoż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6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Etapy przygotowania planu w roku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yjęcie przez Zarząd Województwa Pomorskiego projektu PGO WP 2018 –     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3 stycznia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nsultacje społeczne –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od 21 stycznia do 14 lutego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iniowanie przez RDOŚ i WSSE –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w ustawowym terminie 30 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iniowanie przez organy wykonawcze gmin nie będących członkami związków międzygminnych, organy wykonawcze związków międzygminnych, dyrektora RZGW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od 18 stycznia do 18 marca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yjęcie przez ZWP  informacji o uwagach i wnioskach z etapu konsultacj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opiniowania oraz  sposobu ich uwzględnienia –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 27 marca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kazanie dokumentu do opiniowania przez MŚ –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29 marca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tawowy termin uchwalenia dokumentu -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30 czerwca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chwalenie przez Sejmik Województwa Pomorskiego PGOWP 2018 wraz z uchwałą 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rawie jego wykonania planowane jest na czerwcowej sesji, tj. w dniu </a:t>
            </a: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25 czerwca 2012 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wejście  w życie uchwały w sprawie wykonania planu po 14 dniach od dnia ogłoszenia 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zienniku Urzędowym Województwa, tj. najprawdopodobniej z dniem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Calibri"/>
              </a:rPr>
              <a:t>1 sierpnia 2012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Kar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mina (lub podmiot odbierający odpady komunalne od właścicie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eruchomości), któr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ie wykonuje obowiązku osiągnięcia określo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ziomó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yklingu, odzysku i przygotowania do ponownego użycia ww. frakc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padów oraz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ie wykonuje obowiązku ograniczenia mas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unalnyc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egający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odegradacj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kazanych do składowania,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podle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karze pieniężnej obliczonej  odrębnie dla wymaganego pozio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rę pieniężną  oblicza się jako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iloczyn stawki opłaty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za zmieszane odpa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komunalne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i brakującej masy odpadów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komunalnych, wyrażonej w M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wymaganej do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osiągnięcia odpowiedniego poziomu recyklingu, przygotowania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ponownego użycia i odzysku lub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ograniczenia masy odpadów komunal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ulegających biodegradacji przekazanych do składo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wka opłaty za 1 Mg zmieszanych odpadów komunalnych w 2012 r.-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110,65 z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Przykład obliczenia k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032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mina Miejska 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50920" y="1628640"/>
            <a:ext cx="8642160" cy="3988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a odpadów komunalnych wytworzonych w 2010 r. 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1 030 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50920" y="2133720"/>
            <a:ext cx="8642160" cy="3988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a odpadów biodegradowalnych wytworzonych w 2010 r. 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4 393,4 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50920" y="4076640"/>
            <a:ext cx="8642160" cy="39888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a odpadów dopuszczonych do składowania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 2013 r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 697,7 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468360" y="2708280"/>
            <a:ext cx="3816360" cy="11062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a odpadów biodegradowalnych zeskładowanych w 2010 r. -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3 302,7 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932360" y="2708280"/>
            <a:ext cx="3600360" cy="122184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a odpadów biodegradowalnych zagospodarowanych w 2010 r.  innymi sposobami niż składowanie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 090,7 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250920" y="4581360"/>
            <a:ext cx="8642160" cy="83196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a odpadów wymagająca zagospodarowania innymi sposobami niż składowanie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 302,7- 4 697,7=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 605 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250920" y="5589720"/>
            <a:ext cx="8642160" cy="105984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ara pieniężna obliczona w przypadku nie ograniczenia masy odpadów biodegradowalnych przekazywanych do składowania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605 Mg x 110,65 z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952 143 z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411280" y="2492280"/>
            <a:ext cx="460872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Calibri"/>
              </a:rPr>
              <a:t>Dziękujemy za uwag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libri"/>
              </a:rPr>
              <a:t>Anna Grapatyn - Korzeniows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libri"/>
              </a:rPr>
              <a:t>Tadeusz Sty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libri"/>
              </a:rPr>
              <a:t>Departament Środowiska i Rolnict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6480" y="259920"/>
            <a:ext cx="8328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piniowanie projektu planu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piniowanie PGOWP 2018 z ustawy z dnia 27 kwietnia 2001 r. o odpad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ze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gany wykonawcze gmin, niebędących członkami związków międzygminn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inię złożyło 86 gmin (85 gmin w terminie, 1 gmina po termini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inii nie złożyły 24 gmi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gany wykonawcze związków międzygminn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ZG „Dolina Redy i Chylonki” (8 gmin) - opinia pozytywna z uwag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ązek Międzygminny Zatoki Puckiej (5 gmin) - opinia pozytywna bez uwa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alny Zarząd Gospodarki Wodnej w Gdańsku - opinia pozytywna                z uwag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Termin: 2 miesiące (18.01 – 18.03.2012 r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Opiniowanie projektu planu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piniowanie PGOWP 2018 wraz z Prognozą oddziaływania na środowis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 ustawy z dnia 3 października 2008 r. o udostępnianiu informacji o środowi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 jego ochronie, udziale społeczeństwa w ochronie środowiska oraz o ocen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ddziaływania na środowisk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na Dyrekcja Ochrony Środowiska w Gdańsku - opinia pozytywna          z uwagami (w ustawowym terminie 30 dni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morski Państwowy Wojewódzki Inspektor Sanitarny - opinia pozytywna bez uwag (w ustawowym terminie 30 dni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dział społeczeństwa (termin: 21 dni, 25.01 – 14.02.2012 r.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wniosek złożony w termi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wniosków złożonych po termi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6480" y="259920"/>
            <a:ext cx="83282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piniowanie projektu planu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wagi i wnioski do PGOWP 2018 zgłoszone przez Radę Konsultacyjną 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ktualizacji POŚWP i WPGO 201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FOŚiGW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OŚ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DO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dzaje zgłoszonych uwa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wagi merytory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wagi „porządkujące” (interpunkcja, stylistyka, błędy pisarskie, korekta danych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System gospodarki odpadami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w województwie pomorsk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dstawowym założeniem funkcjonowania gospodarki odpadami komunalny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Polsce jest system rozwiązań regional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kt PGO WP 2018 zakłada funkcjonowanie 7 regionów gospodarki odpada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tóre obsługiwane będą przez zintegrowaną sieć instalacji do odzy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unieszkodliwiania odpadów, opartą na instalacjach regionalnych przekształc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padów (RIPOK), z któr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- funkcjon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- są modernizowane – (Tczew, Nowy Dwór) - do końca 2013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 - budowany jest od podstaw – uruchomienie - maj/czerwiec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zupełnieniem systemu będzie instalacja termicznego przekształc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ergetycznej frakcji odpadów komunalnych, wydzielonej w pomorskich RIPOK.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egion gospodarki odpadami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Instalacja regionaln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Region gospodarki odpadami komunalny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szar liczący co najmniej 150 000 mieszkań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szar gminy liczącej powyżej 500 000 mieszkań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Regionalna instalacja do przetwarzania odpadów komunaln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kład zagospodarowania odpadów o mocy przerobowej wystarczając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przyjmowania i przetwarzania opadów z obszaru zamieszkanego przez 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jmniej 120 tys. mieszkańców zapewniający termiczne przekształce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padów lu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chaniczno-biologiczne przetwarzanie zmieszanych odpadów komunal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twarzanie zebranych selektywnie odpadów zielonych i innych bioodpad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ładowanie odpadów powstających w procesie mechaniczno-biologicznego przetwarzania odpadów oraz pozostałości z sortowania przez okres nie krótszy niż 15 l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7:52:50Z</dcterms:created>
  <dc:creator>Stawiński Arkadiusz</dc:creator>
  <dc:description/>
  <dc:language>en-US</dc:language>
  <cp:lastModifiedBy>dfrasunkiewicz</cp:lastModifiedBy>
  <dcterms:modified xsi:type="dcterms:W3CDTF">2012-05-10T13:44:54Z</dcterms:modified>
  <cp:revision>238</cp:revision>
  <dc:subject/>
  <dc:title>72 dpi</dc:title>
</cp:coreProperties>
</file>