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581-ED11-4E59-B23C-DBE49552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A9C-16F4-47EC-8C61-9C1423A6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25A-F281-4D1E-8187-65AB9A02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685-24E5-423D-81EA-FF725016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479-DA7B-4657-A11B-2A4CC050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D81-26CE-4F87-85BF-FE486DC7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A24-34A9-4207-BA71-89FC5A37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805-DAA1-457A-AD3B-5C069AE8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4EA-E34B-4CBC-A8C8-8F778525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455-E9DF-4A2E-9263-AD8DF144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186-B75D-444B-9EC1-B1810413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B67-01C5-4044-B55E-2C1BBB1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5A11-94E6-4570-AC81-4744C232EA8F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Narada WIOŚ, Przemyśl, 29-30 września 2011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7C95-01A6-4E79-BED9-CE7B8FC8ED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34999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Kontrola i sankcje karne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 zmienionej ustawie</a:t>
            </a: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o utrzymaniu czystości i porządku </a:t>
            </a:r>
            <a:br>
              <a:rPr sz="4000"/>
            </a:b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w gminach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ymbol zastępczy stopki 4"/>
          <p:cNvSpPr/>
          <p:nvPr/>
        </p:nvSpPr>
        <p:spPr>
          <a:xfrm>
            <a:off x="3124080" y="6356520"/>
            <a:ext cx="310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- Nowy system gospodarowania odpadami komunalnymi w województwie pomorskim. Gdańsk, 11 maja 2012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rostokąt 5"/>
          <p:cNvSpPr/>
          <p:nvPr/>
        </p:nvSpPr>
        <p:spPr>
          <a:xfrm>
            <a:off x="4356000" y="5013360"/>
            <a:ext cx="4572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otr Trybusze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stępca Pomorskiego Wojewódzkiego    Inspektora Ochrony Środowis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256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1" lang="pl-PL" sz="4400" spc="-1" strike="noStrike" u="sng">
                <a:solidFill>
                  <a:srgbClr val="000000"/>
                </a:solidFill>
                <a:uFillTx/>
                <a:latin typeface="Calibri"/>
              </a:rPr>
              <a:t>Naruszenia obowiązków przez gminne jednostki organizacyj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w zakresie gospodarki odpadami komunalnymi powodujące nałożenie administracyjnej kary pieniężnej przez WIOŚ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BB46-251E-431F-AFA6-23FF51C476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7640" y="1125000"/>
            <a:ext cx="8785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dbieranie odpadów komunalnych, mimo zakazu wykonywania działalności, o którym mowa w art.9k –  kara pieniężna w wysokości 5 000 zł za pierwszy miesiąc wykonywania działalności pomimo zakazu oraz 10 000 zł za każdy kolejny miesiąc wykonywania działalności pomimo zakazu [art.9y ust.1 pkt.1] – obowiązuje od 1.01.2012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5239-6ADA-4863-A4D7-E2C7D6E2B9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rt.9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rzypadku gdy stwierdzono, że gminna jednostka organizacyjna odbierająca odpady komunalne od właścicieli nieruchomośc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 spełnia wymagań określonych dla podmiotu odbierającego odpady komunalne od właścicieli nieruchomości [art. 9d ust.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raz drugi przekazuje zmieszane odpady komunalne, odpady zielone lub pozostałości z sortowania odpadów komunal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D90-B260-4AE9-A5AB-1936C7C13E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7640" y="189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1720" indent="-351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)nie osiągnęła w kolejnym roku kalendarzowym poziomów recyklingu, przygotowania do ponownego użycia i odzysku innymi metodami oraz ograniczenia masy odpadów komunalnych ulegających biodegradacji przekazywanych do składowania, określonych w przepisach wydanych na podstawie art. 3b ust.2 i art. 3c ust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1720" indent="-351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IOŚ zakazuje, w drodze decyzji, wykonywania przez tę jednostkę działalności w zakresie odbierania odpadów komunalnych od właścicieli nieruchomości na okres 3 l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B12C-2EA0-4A86-8D59-43CD8E3D9B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1052280"/>
            <a:ext cx="864396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ieszanie selektywnie zebranych odpadów ze zmieszanymi odpadami komunalnymi – kara pieniężna  w wysokości od 10 000 zł do 50 000 zł [art.9y ust.1 pkt.2] – obowiązuje od 1.01.2012 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ie przekazywanie odebranych od właścicieli nieruchomości zmieszanych odpadów komunalnych, odpadów zielonych oraz pozostałości z sortowania odpadów komunalnych przeznaczonych do składowania do regionalnej instalacji do przetwarzania odpadów komunalnych – kara pieniężna w wysokości od 500 zł do 2 000 zł za pierwszy ujawniony przypad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[art.9y ust.1 pkt.3] – obowiązuje od 1.01.2012 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7D83-B2E5-4006-AB5B-1742C5E880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ymbol zastępczy stopki 4"/>
          <p:cNvSpPr/>
          <p:nvPr/>
        </p:nvSpPr>
        <p:spPr>
          <a:xfrm>
            <a:off x="3124080" y="6356520"/>
            <a:ext cx="310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8000" y="1052640"/>
            <a:ext cx="89280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kazywanie nierzetelnych sprawozdań, o których mowa w art.9n – kara pieniężna w wysokości od 500 zł do 5 000 zł [art. 9y ust.1 pkt.4] – obowiązuje od 1.01.201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kazywanie sprawozdań po terminie, o którym mowa w art.9n – kara pieniężna w wysokości 100 zł za każdy dzień opóźnienia [art. 9y ust.1 pkt.5] – obowiązuje od 1.01.201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1795-3CBE-465D-B907-FAB17D02813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-360" y="1125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358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ie wykonanie obowiązku określonego  w art.9g – podlega karze pieniężnej, obliczonej odrębnie dla wymaganego poziom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 indent="-3589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1) recyklingu, przygotowania do ponownego użycia i odzysku innymi metodam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 indent="-3589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2)ograniczenia masy odpadów komunalnych ulegających biodegradacji przekazywanych do składowa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7120" indent="-3589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[art. 9y ust.2] – obowiązuje od 1.01.201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D6AA-4CA0-4293-93B2-F4DF101727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uszania obowiązków przez przedsiębiorcó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alogicznie jak dla gminnych jednostek organizacyjnych z zastrzeżeniem, że organem nakładającym karę jest nie wioś lecz wójt, burmistrz lub prezydent mia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wyjątek : brak wpisu przedsiębiorcy do rejestru zamiast zakazu wykonywania działalnoś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67DF-6DA5-43A3-AC6C-8DCC56DE8A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5723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Naruszenia obowiązków przez prowadzących instalację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kazaną w uchwale w sprawie wykonania wojewódzkiego planu gospodarki odpadami w zakresie gospodarki odpadami komunalnymi powodujące nałożenie administracyjnej kary pieniężnej przez WIOŚ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09E5-95F3-4AB6-AE3D-59C55068F4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560" y="1196640"/>
            <a:ext cx="85690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dbieranie od podmiotu odbierającego odpady komunalne od właścicieli nieruchomości zmieszanych odpadów komunalnych, odpadów zielonych lub pozostałości z sortowania odpadów komunalnych, przeznaczonych do składowania, pochodzących spoza regionu gospodarki odpadami komunalnymi – kara pieniężna w wysokości 500 zł za każdą tonę odebranych odpadów [art. 9za pkt.1] – obowiązuje od 1.01.2012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ymbol zastępczy stopki 3"/>
          <p:cNvSpPr/>
          <p:nvPr/>
        </p:nvSpPr>
        <p:spPr>
          <a:xfrm>
            <a:off x="3124080" y="6356520"/>
            <a:ext cx="310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B761-DF09-43D8-9724-8175E2A3B9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AŻNE DAT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01.2012 r. – wejście w życie ustawy ( tekst jednolity ustawy  Dz.U. z 2012 roku poz.39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30.04.2012 r. – pierwsze sprawozdania przedsiębiorców do gminy (art. 9n ust.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1.07.2012 r. – sejmik województwa uchwala wpgo z określeniem regionalnych instal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E384-5DA0-4743-9821-31BB8BAC8F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8760" y="642600"/>
            <a:ext cx="8501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nie zawarcie umowy na zagospodarowanie zmieszanych odpadów komunalnych, odpadów zielonych lub pozostałości z sortowania odpadów komunalnych z podmiotem odbierającym odpady komunalne od właścicieli nieruchomości, który wykonuje swoją działalność w ramach regionu gospodarki odpadami komunalnymi – kara pieniężna w wysokości 10 000 zł [art. 9za pkt.2] – obowiązuje od 1.01.2012 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nie odbieranie zmieszanych odpadów komunalnych, odpadów zielonych lub pozostałości z sortowania odpadów komunalnych przeznaczonych do składowania od podmiotu przekazującego odpady komunalne do instalacji przewidzianej do zastępczej obsługi regionu, wskazanej w uchwale w sprawie wykonania wojewódzkiego planu gospodarki odpadami kara pieniężna w wysokości 10 000 zł [art. 9za pkt.3] – obowiązuje od 1.01.2012 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7AA9-6DCB-4D53-9058-B4A76D4364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79280" y="76464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Zawieszanie kar na max.5 lat i umarzanie k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ojewódzki inspektor ochrony środowiska, w drodze decyzji, może zawiesić zapłatę kar, o których mowa w art. 9z ust. 1, 2 i 4, lub je umorzy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Udokumentowany wniosek o zawieszenie kary na okres konieczny do podjęcia działań naprawczych ( mających na celu usunięcie przyczyny nałożenia kary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4BB3-523D-40F1-A277-B105DB89FF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liczanie kary( art.9x ust.3, art.9y ust.3, art.9z ust.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okość stawki opłaty za zmieszane odpady komunalne ( kod odpadu -20 03 01 )w roku 2012 wynosi – 110,65 zł/M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awki określa Obwieszczenie MŚ z dnia 26 września 2011 roku w sprawie wysokości opłat za korzystanie ze środowiska na rok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pełnienie delegacji art.291 ust.2 ustawy z dnia 27 kwietnia 2001 roku –Prawo ochrony środowi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A882-0CAB-4553-990F-6111B3F16A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liczanie kary(art.9x-z ust.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okość kary stanowi iloczyn stawki opłaty za zmieszane odpady komunalne i brakującej masy odpadów wymaganej do osiągnięcia odpowiedniego poziomu recyklingu,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Przykł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10,65 zł/Mg x 1 000 Mg = 110 650 zło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2D7A-D286-410B-82E2-3045672010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ntr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WIOŚ ( ustawa z dnia 20 lipca 1991 roku o Inspekcji Ochrony Środowiska ) art.2 ust 1 pkt.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1a – kontrola przestrzegania przepisów ustawy z dnia 13 września 1996 roku o utrzymaniu czystości i porzadku w gminach 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Wójt, burmistrz lub prezydent ( art.9u ust.1 i ust.2 ) –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sprawuje kontrolę przestrzegania i stosowania przepisów ust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do kontroli stosuje się przepisy art.379-380 Po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73CF-E6F6-48E9-9968-1551777A22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ntr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wniosek o pomoc do Policji ( właściwy miejscowo komendant) – art.9v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Marszałek województwa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Kontrola nad prowadzącym regionalną instalację do przetwarzania w zakresie przyjmowania odpadów do składowania –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rt.9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26A2-4E6A-4CBC-BF74-105646015F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7A6E-B59A-4651-AFB0-98C35072AF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o 1.01.2013 r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uchwała rady gmin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reślająca stawki opłat za gospodarowanie odpadami komunalnym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rmin, częstotliwość i tryb uiszczania opła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zór deklaracji o wysokości opłat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rmin złożenia pierwszych deklaracji przez mieszkańc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czegółowy sposób i zakres świadczenia usług w zakresie odbierania odpadów komunalnych od właścicieli nieruchom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E2B3-FFB2-4D2F-9195-4B83CE6E53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.01.2013 r.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zaczynają obowiązywać nowe regulaminy utrzymania czystości i porządku w gminach [art. 22 ust.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1.01.2013 r. 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– termin uzyskania wpisu do rejestru dla przedsiębiorców [art. 9c ust.1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do 31.03.2013 r. 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– pierwsze sprawozdanie gmin do marszałka województwa i do WIOŚ za rok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004F-D20B-491A-BA06-4F0CF3E418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840" y="1197000"/>
            <a:ext cx="89298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.07.2013 r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– początek funkcjonowania nowego systemu. Do tego czasu muszą zostać rozstrzygnięte przetargi na odbiór odpadów komunalnych. Gminy zaczynają pobierać opłaty od mieszkańców [art. 10 ust.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 31.12.2014 r.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pierwsze sprawozdania marszałków z realizacji wpgo [za lata 2011-2013] do Ministra Środowi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.07.2015 r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pierwsze sprawozdanie Ministra Środowiska z realizacji KPGO [za lata 2011-2013] do Prezesa Rady Ministr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99B8-032A-41E9-BCCB-DAB01B79FC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840" y="206028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Calibri"/>
              </a:rPr>
              <a:t>Naruszenia obowiązków przez gminy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 zakresie gospodarki odpadami komunalnymi powodujące nałożenie administracyjnej kary pieniężnej przez WIOŚ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1061-0632-43B7-9609-C1ABB2344F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kazywanie po terminie wymaganych ustawą rocznych sprawozdań z realizacji zadań gospodarowania odpadami do marszałka województwa i wojewódzkiego inspektora ochrony środowiska – kara pieniężna w wysokości 100 zł za każdy dzień opóźnienia [art. 9z ust.1] – obowiązuje od 1.01.201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1673-739F-48D3-AB8D-6BC9F3E1A0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nie wykonanie obowiązku o którym mowa w art.3b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tj.  gminy są obowiązane osiągnąć do d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1 grudnia 2020 r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ziomu recyklingu i przygotowania do ponownego użycia następujących frakcji odpadów komunalnych: papieru, metali, tworzyw sztucznych i szkła w wysokości co najmniej 50% wagow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ziom recyklingu, przygotowania do ponownego użycia i odzysku innymi metodami innych niż niebezpieczne odpadów budowlanych i rozbiórkowych w wysokości co najmniej 70% wagowo)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lub 3c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tj. gminy są obowiązane ograniczyć masę odpadów komunalnych ulegających biodegradacji przekazywanych do składowani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 dnia 16 lipca 2013 r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do nie więcej niż 50% wagowo całkowitej masy odpadów komunalnych ulegających biodegradacji przekazywanych do składowani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 d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6 lipca 2020 r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do nie więcej niż 35% wagowo całkowitej masy odpadów komunalnych ulegających biodegradacji przekazywanych do składow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stosunku do masy tych odpadów wytworzonych w 1995 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kara pieniężna obliczona odrębnie dla wymaganego poziomu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1) recyklingu, przygotowania do ponownego użycia i odzysku innymi metodam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2) ograniczenie odpadów komunalnych ulegających biodegradacji przekazywanych do składowan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[art. 9z ust.2] – obowiązuje od 1.01.2013 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C48A-3BE5-44DE-B4A9-161FC64782D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ymbol zastępczy stopki 4"/>
          <p:cNvSpPr/>
          <p:nvPr/>
        </p:nvSpPr>
        <p:spPr>
          <a:xfrm>
            <a:off x="3124080" y="6356520"/>
            <a:ext cx="310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nie zorganizowanie przetargu na odbieranie odpadów komunalnych od właścicieli nieruchomości – kara pieniężna w wysokości od 10 000 zł do 50 000 zł [art. 9z ust.4] – obowiązuje od 1.07.2013 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EE8D-6132-4D33-97B2-9825C19F2F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3:31:57Z</dcterms:created>
  <dc:creator>Ewelina</dc:creator>
  <dc:description/>
  <dc:language>en-US</dc:language>
  <cp:lastModifiedBy>dfrasunkiewicz</cp:lastModifiedBy>
  <dcterms:modified xsi:type="dcterms:W3CDTF">2012-05-11T06:18:07Z</dcterms:modified>
  <cp:revision>315</cp:revision>
  <dc:subject/>
  <dc:title>NARADA WOJEWÓDZKICH INSPEKTORÓW OCHRONY ŚRODOWISKA</dc:title>
</cp:coreProperties>
</file>