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69F-4734-44B1-BD75-B85887F5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31A-352E-48F3-A953-0761FC79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1209-2F27-4F48-8D0C-9D3C160D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F30-BD3E-41C5-8970-059C968B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D54-C5DE-43D8-A6ED-D7046A3E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D2C-20A2-42B9-AE5D-10BB1083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A28-1ED0-4003-8488-C86EAB04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E9F-AA9E-4E69-B44A-DBC742AF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B17-86D0-45EF-91AE-8B4BFE26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E78-7D64-474C-A8FF-CC5437D6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7FF-A6B6-4120-B710-1AE7AB9E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64B-7CA0-4A73-8CBC-16D71DAB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FA90-AED2-4255-93FE-18FABEBF5C60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Narada WIOŚ, Przemyśl, 29-30 września 2011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45F8-3687-4F2C-AFEC-CEF1F7D90C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34999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Kontrola i sankcje karne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w zmienionej ustawie</a:t>
            </a:r>
            <a:r>
              <a:rPr b="0" i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i="1" lang="pl-PL" sz="4000" spc="-1" strike="noStrike">
                <a:solidFill>
                  <a:srgbClr val="000000"/>
                </a:solidFill>
                <a:latin typeface="Calibri"/>
              </a:rPr>
              <a:t>o utrzymaniu czystości i porządku </a:t>
            </a:r>
            <a:br>
              <a:rPr sz="4000"/>
            </a:br>
            <a:r>
              <a:rPr b="0" i="1" lang="pl-PL" sz="4000" spc="-1" strike="noStrike">
                <a:solidFill>
                  <a:srgbClr val="000000"/>
                </a:solidFill>
                <a:latin typeface="Calibri"/>
              </a:rPr>
              <a:t>w gminach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ymbol zastępczy stopki 4"/>
          <p:cNvSpPr/>
          <p:nvPr/>
        </p:nvSpPr>
        <p:spPr>
          <a:xfrm>
            <a:off x="3124080" y="6356520"/>
            <a:ext cx="310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- Nowy system gospodarowania odpadami komunalnymi w województwie pomorskim. Gdańsk, 11 maja 2012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rostokąt 5"/>
          <p:cNvSpPr/>
          <p:nvPr/>
        </p:nvSpPr>
        <p:spPr>
          <a:xfrm>
            <a:off x="4356000" y="5013360"/>
            <a:ext cx="4572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otr Trybusze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stępca Pomorskiego Wojewódzkiego    Inspektora Ochrony Środowis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256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1" lang="pl-PL" sz="4400" spc="-1" strike="noStrike" u="sng">
                <a:solidFill>
                  <a:srgbClr val="000000"/>
                </a:solidFill>
                <a:uFillTx/>
                <a:latin typeface="Calibri"/>
              </a:rPr>
              <a:t>Naruszenia obowiązków przez gminne jednostki organizacyj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w zakresie gospodarki odpadami komunalnymi powodujące nałożenie administracyjnej kary pieniężnej przez WIOŚ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D374-7C9E-443D-81DB-962EA46573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7640" y="1125000"/>
            <a:ext cx="8785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dbieranie odpadów komunalnych, mimo zakazu wykonywania działalności, o którym mowa w art.9k –  kara pieniężna w wysokości 5 000 zł za pierwszy miesiąc wykonywania działalności pomimo zakazu oraz 10 000 zł za każdy kolejny miesiąc wykonywania działalności pomimo zakazu [art.9y ust.1 pkt.1] – obowiązuje od 1.01.2012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7DAF-8751-4176-8A2D-4B5C2AF311F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rt.9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rzypadku gdy stwierdzono, że gminna jednostka organizacyjna odbierająca odpady komunalne od właścicieli nieruchomośc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 spełnia wymagań określonych dla podmiotu odbierającego odpady komunalne od właścicieli nieruchomości [art. 9d ust.1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raz drugi przekazuje zmieszane odpady komunalne, odpady zielone lub pozostałości z sortowania odpadów komunaln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C90C-2F5C-4E00-A241-18AF77B838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07640" y="189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1720" indent="-351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3)nie osiągnęła w kolejnym roku kalendarzowym poziomów recyklingu, przygotowania do ponownego użycia i odzysku innymi metodami oraz ograniczenia masy odpadów komunalnych ulegających biodegradacji przekazywanych do składowania, określonych w przepisach wydanych na podstawie art. 3b ust.2 i art. 3c ust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1720" indent="-351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IOŚ zakazuje, w drodze decyzji, wykonywania przez tę jednostkę działalności w zakresie odbierania odpadów komunalnych od właścicieli nieruchomości na okres 3 l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2239-D263-4E15-BC77-5029BC67B3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1052280"/>
            <a:ext cx="864396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ieszanie selektywnie zebranych odpadów ze zmieszanymi odpadami komunalnymi – kara pieniężna  w wysokości od 10 000 zł do 50 000 zł [art.9y ust.1 pkt.2] – obowiązuje od 1.01.2012 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ie przekazywanie odebranych od właścicieli nieruchomości zmieszanych odpadów komunalnych, odpadów zielonych oraz pozostałości z sortowania odpadów komunalnych przeznaczonych do składowania do regionalnej instalacji do przetwarzania odpadów komunalnych – kara pieniężna w wysokości od 500 zł do 2 000 zł za pierwszy ujawniony przypad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[art.9y ust.1 pkt.3] – obowiązuje od 1.01.2012 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6876-E522-4B7D-A638-6AF5E08A01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ymbol zastępczy stopki 4"/>
          <p:cNvSpPr/>
          <p:nvPr/>
        </p:nvSpPr>
        <p:spPr>
          <a:xfrm>
            <a:off x="3124080" y="6356520"/>
            <a:ext cx="310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8000" y="1052640"/>
            <a:ext cx="89280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ekazywanie nierzetelnych sprawozdań, o których mowa w art.9n – kara pieniężna w wysokości od 500 zł do 5 000 zł [art. 9y ust.1 pkt.4] – obowiązuje od 1.01.2013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ekazywanie sprawozdań po terminie, o którym mowa w art.9n – kara pieniężna w wysokości 100 zł za każdy dzień opóźnienia [art. 9y ust.1 pkt.5] – obowiązuje od 1.01.2013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DA26-0737-491C-B11A-DE9B7AC0FF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-360" y="1125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3589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ie wykonanie obowiązku określonego  w art.9g – podlega karze pieniężnej, obliczonej odrębnie dla wymaganego poziom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7120" indent="-3589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1) recyklingu, przygotowania do ponownego użycia i odzysku innymi metodam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7120" indent="-3589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2)ograniczenia masy odpadów komunalnych ulegających biodegradacji przekazywanych do składowan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7120" indent="-3589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[art. 9y ust.2] – obowiązuje od 1.01.2013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E13A-E9B7-4776-AC10-9064B2C48B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ruszania obowiązków przez przedsiębiorcó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alogicznie jak dla gminnych jednostek organizacyjnych z zastrzeżeniem, że organem nakładającym karę jest nie wioś lecz wójt, burmistrz lub prezydent mia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wyjątek : brak wpisu przedsiębiorcy do rejestru zamiast zakazu wykonywania działalnośc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C0DC-4EA5-426E-835E-B5C914F2F4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85723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Naruszenia obowiązków przez prowadzących instalację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kazaną w uchwale w sprawie wykonania wojewódzkiego planu gospodarki odpadami w zakresie gospodarki odpadami komunalnymi powodujące nałożenie administracyjnej kary pieniężnej przez WIOŚ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E4FD-1492-41CF-8017-5279AD31C2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560" y="1196640"/>
            <a:ext cx="85690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dbieranie od podmiotu odbierającego odpady komunalne od właścicieli nieruchomości zmieszanych odpadów komunalnych, odpadów zielonych lub pozostałości z sortowania odpadów komunalnych, przeznaczonych do składowania, pochodzących spoza regionu gospodarki odpadami komunalnymi – kara pieniężna w wysokości 500 zł za każdą tonę odebranych odpadów [art. 9za pkt.1] – obowiązuje od 1.01.2012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ymbol zastępczy stopki 3"/>
          <p:cNvSpPr/>
          <p:nvPr/>
        </p:nvSpPr>
        <p:spPr>
          <a:xfrm>
            <a:off x="3124080" y="6356520"/>
            <a:ext cx="310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51CA-F74A-4A51-8E31-D424B8B0E0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AŻNE DAT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01.2012 r. – wejście w życie ustawy ( tekst jednolity ustawy  Dz.U. z 2012 roku poz.39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30.04.2012 r. – pierwsze sprawozdania przedsiębiorców do gminy (art. 9n ust.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1.07.2012 r. – sejmik województwa uchwala wpgo z określeniem regionalnych instal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7DE6-41E2-4841-A04D-6B5611EC50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28760" y="642600"/>
            <a:ext cx="8501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Calibri"/>
              </a:rPr>
              <a:t>nie zawarcie umowy na zagospodarowanie zmieszanych odpadów komunalnych, odpadów zielonych lub pozostałości z sortowania odpadów komunalnych z podmiotem odbierającym odpady komunalne od właścicieli nieruchomości, który wykonuje swoją działalność w ramach regionu gospodarki odpadami komunalnymi – kara pieniężna w wysokości 10 000 zł [art. 9za pkt.2] – obowiązuje od 1.01.2012 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Calibri"/>
              </a:rPr>
              <a:t>nie odbieranie zmieszanych odpadów komunalnych, odpadów zielonych lub pozostałości z sortowania odpadów komunalnych przeznaczonych do składowania od podmiotu przekazującego odpady komunalne do instalacji przewidzianej do zastępczej obsługi regionu, wskazanej w uchwale w sprawie wykonania wojewódzkiego planu gospodarki odpadami kara pieniężna w wysokości 10 000 zł [art. 9za pkt.3] – obowiązuje od 1.01.2012 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C0DF-E140-4B45-94A6-7E4CDD3A5A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79280" y="764640"/>
            <a:ext cx="8640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Zawieszanie kar na max.5 lat i umarzanie k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ojewódzki inspektor ochrony środowiska, w drodze decyzji, może zawiesić zapłatę kar, o których mowa w art. 9z ust. 1, 2 i 4, lub je umorzy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Udokumentowany wniosek o zawieszenie kary na okres konieczny do podjęcia działań naprawczych ( mających na celu usunięcie przyczyny nałożenia kary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75B6-9C63-4728-B085-B4FF6EF019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liczanie kary( art.9x ust.3, art.9y ust.3, art.9z ust.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okość stawki opłaty za zmieszane odpady komunalne ( kod odpadu -20 03 01 )w roku 2012 wynosi – 110,65 zł/M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awki określa Obwieszczenie MŚ z dnia 26 września 2011 roku w sprawie wysokości opłat za korzystanie ze środowiska na rok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pełnienie delegacji art.291 ust.2 ustawy z dnia 27 kwietnia 2001 roku –Prawo ochrony środowi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141D-36A3-4106-8F61-8E77E888D6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liczanie kary(art.9x-z ust.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okość kary stanowi iloczyn stawki opłaty za zmieszane odpady komunalne i brakującej masy odpadów wymaganej do osiągnięcia odpowiedniego poziomu recyklingu,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Przykła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10,65 zł/Mg x 1 000 Mg = 110 650 złot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24D6-B63D-484A-BA7F-5F745B155A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ntr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WIOŚ ( ustawa z dnia 20 lipca 1991 roku o Inspekcji Ochrony Środowiska ) art.2 ust 1 pkt.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1a – kontrola przestrzegania przepisów ustawy z dnia 13 września 1996 roku o utrzymaniu czystości i porzadku w gminach 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Wójt, burmistrz lub prezydent ( art.9u ust.1 i ust.2 ) –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sprawuje kontrolę przestrzegania i stosowania przepisów ust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do kontroli stosuje się przepisy art.379-380 Po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D474-1F69-4B02-992B-9DEF2D2B23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ntr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wniosek o pomoc do Policji ( właściwy miejscowo komendant) – art.9v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3. Marszałek województwa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Kontrola nad prowadzącym regionalną instalację do przetwarzania w zakresie przyjmowania odpadów do składowania –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rt.9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BB17-46CC-4519-9D4D-C1BB1F70B5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8134-F2A3-4FFF-A732-D7F6E57875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o 1.01.2013 r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uchwała rady gmin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kreślająca stawki opłat za gospodarowanie odpadami komunalnymi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rmin, częstotliwość i tryb uiszczania opła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zór deklaracji o wysokości opłat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rmin złożenia pierwszych deklaracji przez mieszkańców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czegółowy sposób i zakres świadczenia usług w zakresie odbierania odpadów komunalnych od właścicieli nieruchomoś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9A5C-15D5-4E99-841D-DA99EAC27C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.01.2013 r.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zaczynają obowiązywać nowe regulaminy utrzymania czystości i porządku w gminach [art. 22 ust.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1.01.2013 r. 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– termin uzyskania wpisu do rejestru dla przedsiębiorców [art. 9c ust.1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do 31.03.2013 r. 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– pierwsze sprawozdanie gmin do marszałka województwa i do WIOŚ za rok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5B67-03C0-4ABD-88EB-0E473BAD57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3840" y="1197000"/>
            <a:ext cx="89298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.07.2013 r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 – początek funkcjonowania nowego systemu. Do tego czasu muszą zostać rozstrzygnięte przetargi na odbiór odpadów komunalnych. Gminy zaczynają pobierać opłaty od mieszkańców [art. 10 ust.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 31.12.2014 r.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pierwsze sprawozdania marszałków z realizacji wpgo [za lata 2011-2013] do Ministra Środowi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.07.2015 r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pierwsze sprawozdanie Ministra Środowiska z realizacji KPGO [za lata 2011-2013] do Prezesa Rady Ministr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C307-04C1-4856-B902-BEF16BB493E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840" y="206028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Calibri"/>
              </a:rPr>
              <a:t>Naruszenia obowiązków przez gminy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w zakresie gospodarki odpadami komunalnymi powodujące nałożenie administracyjnej kary pieniężnej przez WIOŚ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931D-7F3A-4600-A62C-2319E64244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ekazywanie po terminie wymaganych ustawą rocznych sprawozdań z realizacji zadań gospodarowania odpadami do marszałka województwa i wojewódzkiego inspektora ochrony środowiska – kara pieniężna w wysokości 100 zł za każdy dzień opóźnienia [art. 9z ust.1] – obowiązuje od 1.01.2013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0D8E-7567-49BD-8EA5-D72999A3E3F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nie wykonanie obowiązku o którym mowa w art.3b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tj.  gminy są obowiązane osiągnąć do d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1 grudnia 2020 r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ziomu recyklingu i przygotowania do ponownego użycia następujących frakcji odpadów komunalnych: papieru, metali, tworzyw sztucznych i szkła w wysokości co najmniej 50% wagow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ziom recyklingu, przygotowania do ponownego użycia i odzysku innymi metodami innych niż niebezpieczne odpadów budowlanych i rozbiórkowych w wysokości co najmniej 70% wagowo)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lub 3c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tj. gminy są obowiązane ograniczyć masę odpadów komunalnych ulegających biodegradacji przekazywanych do składowani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 dnia 16 lipca 2013 r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do nie więcej niż 50% wagowo całkowitej masy odpadów komunalnych ulegających biodegradacji przekazywanych do składowani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 d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6 lipca 2020 r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do nie więcej niż 35% wagowo całkowitej masy odpadów komunalnych ulegających biodegradacji przekazywanych do składow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stosunku do masy tych odpadów wytworzonych w 1995 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kara pieniężna obliczona odrębnie dla wymaganego poziomu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1) recyklingu, przygotowania do ponownego użycia i odzysku innymi metodam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2) ograniczenie odpadów komunalnych ulegających biodegradacji przekazywanych do składowan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[art. 9z ust.2] – obowiązuje od 1.01.2013 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8964-1F50-4428-9307-557823CB8E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ymbol zastępczy stopki 4"/>
          <p:cNvSpPr/>
          <p:nvPr/>
        </p:nvSpPr>
        <p:spPr>
          <a:xfrm>
            <a:off x="3124080" y="6356520"/>
            <a:ext cx="310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nie zorganizowanie przetargu na odbieranie odpadów komunalnych od właścicieli nieruchomości – kara pieniężna w wysokości od 10 000 zł do 50 000 zł [art. 9z ust.4] – obowiązuje od 1.07.2013 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910F-E915-4CD4-9617-CCFC87E97D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3:31:57Z</dcterms:created>
  <dc:creator>Ewelina</dc:creator>
  <dc:description/>
  <dc:language>en-US</dc:language>
  <cp:lastModifiedBy>dfrasunkiewicz</cp:lastModifiedBy>
  <dcterms:modified xsi:type="dcterms:W3CDTF">2012-05-11T06:18:07Z</dcterms:modified>
  <cp:revision>315</cp:revision>
  <dc:subject/>
  <dc:title>NARADA WOJEWÓDZKICH INSPEKTORÓW OCHRONY ŚRODOWISKA</dc:title>
</cp:coreProperties>
</file>