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gif" ContentType="image/gif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3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2.gif" ContentType="image/gi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26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F02-49FD-4DCC-B912-2BC2A1B4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321-EEAF-42AA-9791-256C7015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F83-2626-4B76-9141-90D7083C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35AB-DB83-4A16-8853-0B1062C1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7383-D44E-4A9B-A5B4-F751AEBC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92CC-A819-4835-B3FC-04FE76C3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153C-6AE6-4D3E-A1BA-FF7FD42E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6468-F853-450E-AEA8-E4B8C7F0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8377-DFB9-4BED-9487-F049203E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402F-DBF5-44AB-A83C-299A1CF2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DB1C-C69B-456A-8CC3-9619A0FA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E5A-2C05-47AA-B4B4-65488DB5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DDB8-998E-473A-8520-35FC9605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203C-6631-473F-ABC2-D39AA383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516E-189C-4C03-8197-A8DA1122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CD9D-F704-41FC-908F-45EE6C1A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4E92-2AE0-46C2-9766-54E3CBA7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26CC7-11C3-448B-82F6-724D1807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07E99-0908-4623-A622-4F5FC764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49FCA-CEDE-4289-A844-77C8844F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BDA9D-D566-4083-A61B-3B84B5F9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E394F-2848-47B7-A8A2-59786BC9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31A-400C-4B5F-9FAE-94391C8B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58BBF-1523-4E78-9CDB-2B00058F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4427C-F28E-43D7-8485-D7E362C6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9A4B9-1093-44D2-B3A3-D17D82B8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BF921-4156-437D-83F7-E8EC9F5B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1B593-8594-4E72-BB3A-FCE865F0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229AE-C8B9-4A1C-BA9D-14A3222C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A4C6D-1B9D-4034-B3B9-A98FA6CA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F3B849-A4ED-4640-BB91-998E2EB0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8B5A93-B61E-437B-890A-0B3B7623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3270F5-E458-48CB-96CB-0C358933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2D70-6E37-4778-B3FC-D34E211E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9A5641-A1EE-4D8A-8CB7-1068164D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C8B25F-6DEE-441C-89EA-C8281084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CA54DE-A6BE-4364-8F28-AD40EBD8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ACB3A2-5A96-4CBB-97FA-06E4382B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399060-6CD0-4D3D-932B-A8B2AFC9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EF860E-1A75-40B6-95F3-3EEFF69C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88AE76-38FA-40DC-82B9-1E880646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ADCE48-3C17-4A97-82A9-BDE78F33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1CD16E-07BB-4B4C-AAB5-D7E0584A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481C7D-D51C-430B-B74D-722B29D6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F51A-CDEC-4A6A-96F0-3CE466B8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D4325-8CF8-4DFE-BD6F-3B35218D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034AF6-0FBB-4210-851E-B94858BC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9F4E5-BC8F-4AF7-9D31-540B0271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89F5C1-F0F6-45B0-833E-9ACAD1D7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CB7BFC-98B1-4ABC-91DC-FF56E10D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D67C7-DA0B-4C03-B9CE-9E25FDBA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B2A93A-917E-49C7-AE5C-344EB7D4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4C307F-E507-4C82-951B-D0BFB9A9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066F9C-7295-4DCC-8D8A-78497882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205244-A881-4607-B599-0598A8C2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BEB9-DCC9-4DC5-9A15-992DD033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55D783-7D61-4DC6-B418-49DD8405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D975C-1CB0-4C74-9E8D-47DDF1BF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482DF-F75D-4162-980B-46B4F156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8F975-A520-4EA2-BC7F-55826D2D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F2172-DD40-4522-9AAB-8021D6F6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A3198-7CD3-44CA-B615-A60D1496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538DF-0BCA-49EE-B5F6-FED3F2C8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A666E-468A-4F2A-89CE-FC9EB78B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35702-7518-4DC0-946C-A9A7497A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A0D34-217D-44C7-BC38-28078450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E222-4148-4853-BF1E-012328B3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8944B-6402-4457-8BD1-C5C05D5D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37A40-88EF-4589-9CA9-47716E17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8FDA4-513F-4B5F-8382-5C5A18C5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292D5C-32EE-442A-9538-19186188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9E6CC3-0F8C-41F5-8D6C-AA107862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3E800E-770E-4DE8-BA4D-35317ACD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5873DA-EE7E-498B-9C08-B72A5151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BE140C-2999-42FE-AD28-B4D2CF7E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FB719B-C1F5-4B75-822B-C56494BE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F6B297-7524-42F7-B6AA-8C10A80F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A43-E763-4BC7-8C44-A83E529A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312D8A-87B2-4F26-BC9A-E2BFAC76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FC301A-9FF4-43B8-8685-92D8216D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61D940-A4C0-4299-A5CB-EBE590B4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90564F-BE1C-4BD5-99EC-1BEAFA4A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3800B-C9B7-48B4-A216-06BFC0EA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53467-979E-4289-8841-0FFFC4C3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4F234-C665-4E3E-AFF2-D9ECF9B9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D2AE9-87DA-4CD5-A53E-2241BFD2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41746-E32C-4C89-A540-2C5A22CF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8EFE7-2F34-4CDD-9FA4-6F81F55F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0481-6D51-4FFF-87B5-B1AEAB41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BDF4B-569B-4209-A5F9-8919DF0C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137C5-1AD2-4D55-8619-117908D8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44FF2-AA4A-40E7-8CF8-A4B833E8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1A564-99E1-4201-8423-AFE02ACC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2D2D8-796F-41BD-8FB1-155A31E8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3328D-6216-4668-8DB0-916DD820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C0E02-0D28-4B87-BD92-BEA1A156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A778-5CA9-47C2-8570-C67D1272DB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AE27-7A92-44FB-9F45-C799E5A385DE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FC4F-DAF4-4AA2-AA65-DB008B45D39E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960F-893A-420A-9105-052AC3A3309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82C0-EFB0-4015-89FE-0438CBB931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7DA8-1C96-4A20-8D57-7B282A92DE9E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F8E3-BCD2-4008-A81D-A88D34B87CEE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B3E3-1AF6-4AC4-8307-46F19C1DBC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5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5.wmf"/><Relationship Id="rId11" Type="http://schemas.openxmlformats.org/officeDocument/2006/relationships/image" Target="../media/image12.gif"/><Relationship Id="rId12" Type="http://schemas.openxmlformats.org/officeDocument/2006/relationships/image" Target="../media/image13.png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image" Target="../media/image8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12.gif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14.wmf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24.wmf"/><Relationship Id="rId8" Type="http://schemas.openxmlformats.org/officeDocument/2006/relationships/image" Target="../media/image14.wmf"/><Relationship Id="rId9" Type="http://schemas.openxmlformats.org/officeDocument/2006/relationships/image" Target="../media/image25.wmf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24.wmf"/><Relationship Id="rId8" Type="http://schemas.openxmlformats.org/officeDocument/2006/relationships/image" Target="../media/image14.wmf"/><Relationship Id="rId9" Type="http://schemas.openxmlformats.org/officeDocument/2006/relationships/image" Target="../media/image25.wmf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2133360"/>
            <a:ext cx="6476760" cy="37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Lucida Sans Unicode"/>
              </a:rPr>
              <a:t>ZASADY WDROŻENIA GOSPODARKI ODPADAMI KOMUNALNYMI W GMINIE – SELEKTYWNE ZBIERANIE ODPADÓW</a:t>
            </a:r>
            <a:endParaRPr b="0" lang="en-US" sz="40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Lucida Sans Unicode"/>
              </a:rPr>
              <a:t>Gdańsk, 11 maja 2012r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Przepisy dot. selektywnego zbierania odpadów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Art 4 Regulamin określa […]: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prowadzenie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we wskazanym zakresie selektywnego zbierania i odbierania odpadów komunalnych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, w tym powstających w gospodarstwach domowych </a:t>
            </a:r>
            <a:r>
              <a:rPr b="1" lang="pl-PL" sz="2400" spc="-1" strike="noStrike">
                <a:solidFill>
                  <a:srgbClr val="0070c0"/>
                </a:solidFill>
                <a:latin typeface="Lucida Sans Unicode"/>
              </a:rPr>
              <a:t>przeterminowanych leków i chemikaliów, zużytych baterii i akumulatorów, zużytego sprzętu elektrycznego i elektronicznego, mebli i innych odpadów wielkogabarytowych, odpadów budowlanych i rozbiórkowych oraz zużytych opon, a także odpadów zielonych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Przepisy dot. selektywnego zbierania odpadów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Art 4 Regulamin określa […]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rodzaju i minimalnej pojemności pojemników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przeznaczonych do zbierania odpadów komunalnych na terenie nieruchomości […]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warunków rozmieszczania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tych pojemników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utrzymania w odpowiednim stanie sanitarnym, porządkowym i technicznym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przy uwzględnieniu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średniej ilości odpadów komunalnych wytwarzanych w gospodarstwach domowych[…]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liczby osób korzystających z tych pojemników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częstotliwości i sposobu pozbywania się odpadów komunalnych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Przepisy dot. selektywnego zbierania odpadów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599840"/>
            <a:ext cx="81532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Art. 6.1.4. </a:t>
            </a:r>
            <a:r>
              <a:rPr b="0" lang="pl-PL" sz="2400" spc="-1" strike="noStrike">
                <a:solidFill>
                  <a:srgbClr val="0070c0"/>
                </a:solidFill>
                <a:latin typeface="Lucida Sans Unicode"/>
              </a:rPr>
              <a:t>(górne stawki opłat, gdzie gmina nie przejmuje obowiązków)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Rada gminy określając stawki opłat [..],stosuje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niższe stawki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, jeżeli odpady komunalne są zbierane i odbierane w sposób selektywn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Art. 6k.3. </a:t>
            </a:r>
            <a:r>
              <a:rPr b="0" lang="pl-PL" sz="2400" spc="-1" strike="noStrike">
                <a:solidFill>
                  <a:srgbClr val="0070c0"/>
                </a:solidFill>
                <a:latin typeface="Lucida Sans Unicode"/>
              </a:rPr>
              <a:t>(podstawowe stawki opłat, gdzie gmina przejmuje obowiązki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Rada gminy określi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niższe stawki opłaty 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za gospodarowanie odpadami komunalnymi,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jeżeli odpady komunalne są zbierane i odbierane w sposób selektywny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Przepisy dot. selektywnego zbierania odpadów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599840"/>
            <a:ext cx="81532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Art. 9f.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 W przypadku niedopełniania przez właściciela nieruchomości obowiązku w zakresie selektywnego zbierania odpadów komunalnych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podmiot odbierający odpady komunalne przyjmuje je jako zmieszane odpady komunalne i powiadamia o tym gminę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Zadania 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Wdrożyć zbieranie selektywne odpadów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Uruchomić punkty selektywnego zbierania odpadów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Ustalić opłatę niższą , gdy odpady są zbierane selektywnie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„</a:t>
            </a: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Naprostować”  tych co nie zbierają selektywnie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Osiągnąć poziomy recyklingu w poszczególnych latach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775f55"/>
                </a:solidFill>
                <a:latin typeface="Lucida Sans Unicode"/>
              </a:rPr>
              <a:t>Jak to ma chodzić po rewolucji- </a:t>
            </a:r>
            <a:br>
              <a:rPr sz="3400"/>
            </a:br>
            <a:r>
              <a:rPr b="0" lang="pl-PL" sz="1300" spc="-1" strike="noStrike">
                <a:solidFill>
                  <a:srgbClr val="775f55"/>
                </a:solidFill>
                <a:latin typeface="Lucida Sans Unicode"/>
              </a:rPr>
              <a:t>gdy gmina przejmuje wszystkie obowiązki</a:t>
            </a:r>
            <a:r>
              <a:rPr b="0" lang="pl-PL" sz="3400" spc="-1" strike="noStrike">
                <a:solidFill>
                  <a:srgbClr val="775f55"/>
                </a:solidFill>
                <a:latin typeface="Lucida Sans Unicode"/>
              </a:rPr>
              <a:t> </a:t>
            </a:r>
            <a:endParaRPr b="0" lang="en-US" sz="3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94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9B19-0E50-4250-AF76-5369224ADC82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Picture 4" descr="MC900056531[1]"/>
          <p:cNvPicPr/>
          <p:nvPr/>
        </p:nvPicPr>
        <p:blipFill>
          <a:blip r:embed="rId1"/>
          <a:stretch/>
        </p:blipFill>
        <p:spPr>
          <a:xfrm>
            <a:off x="1068480" y="1590840"/>
            <a:ext cx="1127160" cy="11300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MC900251189[1]"/>
          <p:cNvPicPr/>
          <p:nvPr/>
        </p:nvPicPr>
        <p:blipFill>
          <a:blip r:embed="rId2"/>
          <a:stretch/>
        </p:blipFill>
        <p:spPr>
          <a:xfrm>
            <a:off x="2916360" y="2573280"/>
            <a:ext cx="431640" cy="370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MC900344289[1]"/>
          <p:cNvPicPr/>
          <p:nvPr/>
        </p:nvPicPr>
        <p:blipFill>
          <a:blip r:embed="rId3"/>
          <a:stretch/>
        </p:blipFill>
        <p:spPr>
          <a:xfrm>
            <a:off x="3622680" y="2894040"/>
            <a:ext cx="1585800" cy="1463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MC900089336[1]"/>
          <p:cNvPicPr/>
          <p:nvPr/>
        </p:nvPicPr>
        <p:blipFill>
          <a:blip r:embed="rId4"/>
          <a:stretch/>
        </p:blipFill>
        <p:spPr>
          <a:xfrm>
            <a:off x="947880" y="3068640"/>
            <a:ext cx="1055520" cy="1152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7" descr="MC900089320[1]"/>
          <p:cNvPicPr/>
          <p:nvPr/>
        </p:nvPicPr>
        <p:blipFill>
          <a:blip r:embed="rId5"/>
          <a:stretch/>
        </p:blipFill>
        <p:spPr>
          <a:xfrm>
            <a:off x="973080" y="4437000"/>
            <a:ext cx="1440000" cy="12873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9" descr="MC900251189[1]"/>
          <p:cNvPicPr/>
          <p:nvPr/>
        </p:nvPicPr>
        <p:blipFill>
          <a:blip r:embed="rId6"/>
          <a:stretch/>
        </p:blipFill>
        <p:spPr>
          <a:xfrm>
            <a:off x="3303720" y="4253040"/>
            <a:ext cx="431640" cy="369720"/>
          </a:xfrm>
          <a:prstGeom prst="rect">
            <a:avLst/>
          </a:prstGeom>
          <a:ln w="0">
            <a:noFill/>
          </a:ln>
        </p:spPr>
      </p:pic>
      <p:grpSp>
        <p:nvGrpSpPr>
          <p:cNvPr id="401" name="Group 37"/>
          <p:cNvGrpSpPr/>
          <p:nvPr/>
        </p:nvGrpSpPr>
        <p:grpSpPr>
          <a:xfrm>
            <a:off x="4260960" y="1758960"/>
            <a:ext cx="1225440" cy="781200"/>
            <a:chOff x="4260960" y="1758960"/>
            <a:chExt cx="1225440" cy="781200"/>
          </a:xfrm>
        </p:grpSpPr>
        <p:pic>
          <p:nvPicPr>
            <p:cNvPr id="402" name="Picture 26" descr="MC900437503[1]"/>
            <p:cNvPicPr/>
            <p:nvPr/>
          </p:nvPicPr>
          <p:blipFill>
            <a:blip r:embed="rId7"/>
            <a:stretch/>
          </p:blipFill>
          <p:spPr>
            <a:xfrm>
              <a:off x="4260960" y="1959480"/>
              <a:ext cx="58680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31" descr="MC900215172[1]"/>
            <p:cNvPicPr/>
            <p:nvPr/>
          </p:nvPicPr>
          <p:blipFill>
            <a:blip r:embed="rId8"/>
            <a:stretch/>
          </p:blipFill>
          <p:spPr>
            <a:xfrm>
              <a:off x="4803840" y="1758960"/>
              <a:ext cx="452160" cy="3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32" descr="MC900250567[1]"/>
            <p:cNvPicPr/>
            <p:nvPr/>
          </p:nvPicPr>
          <p:blipFill>
            <a:blip r:embed="rId9"/>
            <a:stretch/>
          </p:blipFill>
          <p:spPr>
            <a:xfrm>
              <a:off x="4803840" y="2039400"/>
              <a:ext cx="682560" cy="50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5" name="WordArt 34"/>
          <p:cNvSpPr txBox="1"/>
          <p:nvPr/>
        </p:nvSpPr>
        <p:spPr>
          <a:xfrm>
            <a:off x="1476360" y="3284640"/>
            <a:ext cx="93672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chwała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WordArt 35"/>
          <p:cNvSpPr txBox="1"/>
          <p:nvPr/>
        </p:nvSpPr>
        <p:spPr>
          <a:xfrm>
            <a:off x="2195640" y="4508640"/>
            <a:ext cx="93636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chwała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7" name="Picture 28" descr="MC900251189[1]"/>
          <p:cNvPicPr/>
          <p:nvPr/>
        </p:nvPicPr>
        <p:blipFill>
          <a:blip r:embed="rId10"/>
          <a:stretch/>
        </p:blipFill>
        <p:spPr>
          <a:xfrm>
            <a:off x="2771640" y="3625920"/>
            <a:ext cx="432000" cy="369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1" descr="MM900282803[1]"/>
          <p:cNvPicPr/>
          <p:nvPr/>
        </p:nvPicPr>
        <p:blipFill>
          <a:blip r:embed="rId11"/>
          <a:stretch/>
        </p:blipFill>
        <p:spPr>
          <a:xfrm>
            <a:off x="3476520" y="45846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409" name="Prostokąt 1"/>
          <p:cNvSpPr/>
          <p:nvPr/>
        </p:nvSpPr>
        <p:spPr>
          <a:xfrm>
            <a:off x="5580000" y="1933560"/>
            <a:ext cx="3365640" cy="36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Obligatoryjne uchwały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regulamin utrzymania czystości i porządku w gminie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stawki opła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termin, częstotliwość i tryb uiszczania opłat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wzór deklaracji o wysokości opłat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szczegółowy sposób i zakres świadczenia usług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(ilość odpadów, częstotliwość odbioru, sposób świadczenia usług przez punkty selektywnego zbierania odpadów komunalnych)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WordArt 34" descr=""/>
          <p:cNvPicPr/>
          <p:nvPr/>
        </p:nvPicPr>
        <p:blipFill>
          <a:blip r:embed="rId12"/>
          <a:stretch/>
        </p:blipFill>
        <p:spPr>
          <a:xfrm>
            <a:off x="1828800" y="2193840"/>
            <a:ext cx="1085760" cy="8114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Users\Sabina Kowalska\AppData\Local\Microsoft\Windows\Temporary Internet Files\Content.IE5\WYT2V2DH\MC900029991[1].wmf"/>
          <p:cNvPicPr/>
          <p:nvPr/>
        </p:nvPicPr>
        <p:blipFill>
          <a:blip r:embed="rId13"/>
          <a:stretch/>
        </p:blipFill>
        <p:spPr>
          <a:xfrm>
            <a:off x="1476360" y="5157720"/>
            <a:ext cx="12207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75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75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775f55"/>
                </a:solidFill>
                <a:latin typeface="Lucida Sans Unicode"/>
              </a:rPr>
              <a:t>Jak to ma chodzić po rewolucji – </a:t>
            </a:r>
            <a:br>
              <a:rPr sz="3400"/>
            </a:br>
            <a:r>
              <a:rPr b="0" lang="pl-PL" sz="1300" spc="-1" strike="noStrike">
                <a:solidFill>
                  <a:srgbClr val="775f55"/>
                </a:solidFill>
                <a:latin typeface="Lucida Sans Unicode"/>
              </a:rPr>
              <a:t>gdy gmina nie przejmuje wszystkich obowiązków</a:t>
            </a:r>
            <a:r>
              <a:rPr b="0" lang="pl-PL" sz="3400" spc="-1" strike="noStrike">
                <a:solidFill>
                  <a:srgbClr val="775f55"/>
                </a:solidFill>
                <a:latin typeface="Lucida Sans Unicode"/>
              </a:rPr>
              <a:t> </a:t>
            </a:r>
            <a:endParaRPr b="0" lang="en-US" sz="3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13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59F7-A1F1-4906-9125-5FB538CF5C71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Picture 7" descr="MC900089336[1]"/>
          <p:cNvPicPr/>
          <p:nvPr/>
        </p:nvPicPr>
        <p:blipFill>
          <a:blip r:embed="rId1"/>
          <a:stretch/>
        </p:blipFill>
        <p:spPr>
          <a:xfrm>
            <a:off x="1068480" y="1747800"/>
            <a:ext cx="1055520" cy="11527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MC900290305[1]"/>
          <p:cNvPicPr/>
          <p:nvPr/>
        </p:nvPicPr>
        <p:blipFill>
          <a:blip r:embed="rId2"/>
          <a:stretch/>
        </p:blipFill>
        <p:spPr>
          <a:xfrm>
            <a:off x="6227640" y="2276640"/>
            <a:ext cx="1295640" cy="12301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9" descr="MC900241573[1]"/>
          <p:cNvPicPr/>
          <p:nvPr/>
        </p:nvPicPr>
        <p:blipFill>
          <a:blip r:embed="rId3"/>
          <a:stretch/>
        </p:blipFill>
        <p:spPr>
          <a:xfrm>
            <a:off x="6227640" y="3284640"/>
            <a:ext cx="1224000" cy="11206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MC900215192[1]"/>
          <p:cNvPicPr/>
          <p:nvPr/>
        </p:nvPicPr>
        <p:blipFill>
          <a:blip r:embed="rId4"/>
          <a:stretch/>
        </p:blipFill>
        <p:spPr>
          <a:xfrm>
            <a:off x="6227640" y="5229360"/>
            <a:ext cx="1224000" cy="1079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MP900437355[1]"/>
          <p:cNvPicPr/>
          <p:nvPr/>
        </p:nvPicPr>
        <p:blipFill>
          <a:blip r:embed="rId5"/>
          <a:stretch/>
        </p:blipFill>
        <p:spPr>
          <a:xfrm>
            <a:off x="6300720" y="4365720"/>
            <a:ext cx="1079640" cy="8096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MC900089320[1]"/>
          <p:cNvPicPr/>
          <p:nvPr/>
        </p:nvPicPr>
        <p:blipFill>
          <a:blip r:embed="rId6"/>
          <a:stretch/>
        </p:blipFill>
        <p:spPr>
          <a:xfrm>
            <a:off x="1068480" y="3375000"/>
            <a:ext cx="1152360" cy="10303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3" descr="MC900251189[1]"/>
          <p:cNvPicPr/>
          <p:nvPr/>
        </p:nvPicPr>
        <p:blipFill>
          <a:blip r:embed="rId7"/>
          <a:stretch/>
        </p:blipFill>
        <p:spPr>
          <a:xfrm>
            <a:off x="2268360" y="3645000"/>
            <a:ext cx="432000" cy="3697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2" descr="MC900251189[1]"/>
          <p:cNvPicPr/>
          <p:nvPr/>
        </p:nvPicPr>
        <p:blipFill>
          <a:blip r:embed="rId8"/>
          <a:stretch/>
        </p:blipFill>
        <p:spPr>
          <a:xfrm>
            <a:off x="2268360" y="2708280"/>
            <a:ext cx="432000" cy="369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3" descr="MM900282803[1]"/>
          <p:cNvPicPr/>
          <p:nvPr/>
        </p:nvPicPr>
        <p:blipFill>
          <a:blip r:embed="rId9"/>
          <a:stretch/>
        </p:blipFill>
        <p:spPr>
          <a:xfrm>
            <a:off x="6156360" y="141300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4" descr="MC900343573[1]"/>
          <p:cNvPicPr/>
          <p:nvPr/>
        </p:nvPicPr>
        <p:blipFill>
          <a:blip r:embed="rId10"/>
          <a:stretch/>
        </p:blipFill>
        <p:spPr>
          <a:xfrm>
            <a:off x="3348000" y="2349360"/>
            <a:ext cx="1773360" cy="175104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25"/>
          <p:cNvSpPr/>
          <p:nvPr/>
        </p:nvSpPr>
        <p:spPr>
          <a:xfrm>
            <a:off x="1403280" y="4581360"/>
            <a:ext cx="446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Jeśli gmina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ie podjęła uchwał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o przejęciu obowiązków od właścicieli nieruchomości innych niż zamieszkane przez mieszkańców, to za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zio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odzysku, recyklingu, redukcję biodegradowalnych odpowiada odbierający odpady (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firma wywozow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pl-PL" sz="1600" spc="-1" strike="noStrike">
                <a:solidFill>
                  <a:srgbClr val="0070c0"/>
                </a:solidFill>
                <a:latin typeface="Arial"/>
              </a:rPr>
              <a:t>Podmiot 9n ust 4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Lucida Sans Unicode"/>
              </a:rPr>
              <a:t>Poziomy recyklingu – projekt </a:t>
            </a:r>
            <a:br>
              <a:rPr sz="4000"/>
            </a:br>
            <a:r>
              <a:rPr b="0" lang="pl-PL" sz="2000" spc="-1" strike="noStrike">
                <a:solidFill>
                  <a:srgbClr val="775f55"/>
                </a:solidFill>
                <a:latin typeface="Lucida Sans Unicode"/>
              </a:rPr>
              <a:t>(21 marca 2012)</a:t>
            </a:r>
            <a:endParaRPr b="0" lang="en-US" sz="2000" spc="-1" strike="noStrike">
              <a:solidFill>
                <a:srgbClr val="775f55"/>
              </a:solidFill>
              <a:latin typeface="Lucida Sans Unicode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116000" y="2781360"/>
          <a:ext cx="7201080" cy="1762200"/>
        </p:xfrm>
        <a:graphic>
          <a:graphicData uri="http://schemas.openxmlformats.org/drawingml/2006/table">
            <a:tbl>
              <a:tblPr/>
              <a:tblGrid>
                <a:gridCol w="1677960"/>
                <a:gridCol w="614520"/>
                <a:gridCol w="612720"/>
                <a:gridCol w="614160"/>
                <a:gridCol w="613080"/>
                <a:gridCol w="614160"/>
                <a:gridCol w="612720"/>
                <a:gridCol w="614520"/>
                <a:gridCol w="612720"/>
                <a:gridCol w="614520"/>
              </a:tblGrid>
              <a:tr h="190440"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oziomy recyklingu, przygotowania do ponownego użycia i odzysku innymi metoda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7030a0"/>
                          </a:solidFill>
                          <a:latin typeface="Lucida Sans Unicode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7030a0"/>
                          </a:solidFill>
                          <a:latin typeface="Lucida Sans Unicode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7030a0"/>
                          </a:solidFill>
                          <a:latin typeface="Lucida Sans Unicode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7030a0"/>
                          </a:solidFill>
                          <a:latin typeface="Lucida Sans Unicode"/>
                        </a:rPr>
                        <a:t>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7030a0"/>
                          </a:solidFill>
                          <a:latin typeface="Lucida Sans Unicode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7030a0"/>
                          </a:solidFill>
                          <a:latin typeface="Lucida Sans Unicode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7030a0"/>
                          </a:solidFill>
                          <a:latin typeface="Lucida Sans Unicode"/>
                        </a:rPr>
                        <a:t>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7030a0"/>
                          </a:solidFill>
                          <a:latin typeface="Lucida Sans Unicode"/>
                        </a:rPr>
                        <a:t>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7030a0"/>
                          </a:solidFill>
                          <a:latin typeface="Lucida Sans Unicode"/>
                        </a:rPr>
                        <a:t>2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apier, metal, tworzywa sztuczne, szkł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71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ne niż niebezpieczne odpady </a:t>
                      </a: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udowlane i rozbiórk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sp>
        <p:nvSpPr>
          <p:cNvPr id="42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D291-9F20-45C9-AC09-86D1ADD9F1E0}" type="slidenum">
              <a:rPr b="1" lang="pl-PL" sz="11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Lucida Sans Unicode"/>
              </a:rPr>
              <a:t>Poziomy recyklingu – projekt </a:t>
            </a:r>
            <a:br>
              <a:rPr sz="4000"/>
            </a:br>
            <a:r>
              <a:rPr b="0" lang="pl-PL" sz="2000" spc="-1" strike="noStrike">
                <a:solidFill>
                  <a:srgbClr val="775f55"/>
                </a:solidFill>
                <a:latin typeface="Lucida Sans Unicode"/>
              </a:rPr>
              <a:t>(21 marca 2012)</a:t>
            </a:r>
            <a:endParaRPr b="0" lang="en-US" sz="20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2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E7C8-E4F9-4886-907E-A111398CD2A5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Symbol zastępczy zawartości 5" descr=""/>
          <p:cNvPicPr/>
          <p:nvPr/>
        </p:nvPicPr>
        <p:blipFill>
          <a:blip r:embed="rId1"/>
          <a:stretch/>
        </p:blipFill>
        <p:spPr>
          <a:xfrm>
            <a:off x="5291280" y="1847880"/>
            <a:ext cx="3571560" cy="3382920"/>
          </a:xfrm>
          <a:prstGeom prst="rect">
            <a:avLst/>
          </a:prstGeom>
          <a:ln w="0">
            <a:noFill/>
          </a:ln>
        </p:spPr>
      </p:pic>
      <p:pic>
        <p:nvPicPr>
          <p:cNvPr id="431" name="Wykres 6" descr=""/>
          <p:cNvPicPr/>
          <p:nvPr/>
        </p:nvPicPr>
        <p:blipFill>
          <a:blip r:embed="rId2"/>
          <a:stretch/>
        </p:blipFill>
        <p:spPr>
          <a:xfrm>
            <a:off x="1116000" y="2060640"/>
            <a:ext cx="396252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Poziomy recyklingu – projekt </a:t>
            </a:r>
            <a:br>
              <a:rPr sz="4400"/>
            </a:br>
            <a:r>
              <a:rPr b="0" lang="pl-PL" sz="2200" spc="-1" strike="noStrike">
                <a:solidFill>
                  <a:srgbClr val="775f55"/>
                </a:solidFill>
                <a:latin typeface="Lucida Sans Unicode"/>
              </a:rPr>
              <a:t>(21 marca 2012)</a:t>
            </a:r>
            <a:endParaRPr b="0" lang="en-US" sz="22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412640"/>
            <a:ext cx="8153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1) w przypadku gmin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900" spc="-1" strike="noStrike">
                <a:solidFill>
                  <a:srgbClr val="0070c0"/>
                </a:solidFill>
                <a:latin typeface="Lucida Sans Unicode"/>
              </a:rPr>
              <a:t>Mwptms=Lm*MwGUS*Umpmt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Lm – liczba mieszkańców gminy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MwGUS – masa wytworzonych odpadów komunalnych przez jednego mieszkańca na terenie województwa 4)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Umpmts – Udział łączny w składzie morfologicznym odpadów komunalnych odpadów papieru, metali, tworzyw sztucznych, szkła 5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Picture 11" descr="MC900344289[1]"/>
          <p:cNvPicPr/>
          <p:nvPr/>
        </p:nvPicPr>
        <p:blipFill>
          <a:blip r:embed="rId1"/>
          <a:stretch/>
        </p:blipFill>
        <p:spPr>
          <a:xfrm>
            <a:off x="7236000" y="2708280"/>
            <a:ext cx="15858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Dyrektywa ramowa 2008/98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42560" y="2097000"/>
            <a:ext cx="5977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Nowe zadania wynikające z dyrektywy 2008/98 (art. 11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do roku </a:t>
            </a:r>
            <a:r>
              <a:rPr b="1" lang="pl-PL" sz="2200" spc="-1" strike="noStrike">
                <a:solidFill>
                  <a:srgbClr val="ff0000"/>
                </a:solidFill>
                <a:latin typeface="Lucida Sans Unicode"/>
              </a:rPr>
              <a:t>2015</a:t>
            </a:r>
            <a:r>
              <a:rPr b="1" lang="pl-PL" sz="2200" spc="-1" strike="noStrike">
                <a:solidFill>
                  <a:srgbClr val="000000"/>
                </a:solidFill>
                <a:latin typeface="Lucida Sans Unicode"/>
              </a:rPr>
              <a:t> selektywna zbiórka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odpadów: </a:t>
            </a:r>
            <a:r>
              <a:rPr b="1" lang="pl-PL" sz="2200" spc="-1" strike="noStrike">
                <a:solidFill>
                  <a:srgbClr val="000000"/>
                </a:solidFill>
                <a:latin typeface="Lucida Sans Unicode"/>
              </a:rPr>
              <a:t>papieru, metalu, plastiku i szkła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do roku </a:t>
            </a:r>
            <a:r>
              <a:rPr b="1" lang="pl-PL" sz="2200" spc="-1" strike="noStrike">
                <a:solidFill>
                  <a:srgbClr val="ff0000"/>
                </a:solidFill>
                <a:latin typeface="Lucida Sans Unicode"/>
              </a:rPr>
              <a:t>2020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przygotowanie do ponownego wykorzystania i recyklingu materiałów odpadowych, przynajmniej: </a:t>
            </a:r>
            <a:r>
              <a:rPr b="1" lang="pl-PL" sz="2200" spc="-1" strike="noStrike">
                <a:solidFill>
                  <a:srgbClr val="000000"/>
                </a:solidFill>
                <a:latin typeface="Lucida Sans Unicode"/>
              </a:rPr>
              <a:t>papier, metal, plastik i szkło z </a:t>
            </a:r>
            <a:r>
              <a:rPr b="1" lang="pl-PL" sz="2200" spc="-1" strike="noStrike" u="sng">
                <a:solidFill>
                  <a:srgbClr val="000000"/>
                </a:solidFill>
                <a:uFillTx/>
                <a:latin typeface="Lucida Sans Unicode"/>
              </a:rPr>
              <a:t>gospodarstw domowych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do minimum </a:t>
            </a:r>
            <a:r>
              <a:rPr b="1" lang="pl-PL" sz="2200" spc="-1" strike="noStrike">
                <a:solidFill>
                  <a:srgbClr val="ff0000"/>
                </a:solidFill>
                <a:latin typeface="Lucida Sans Unicode"/>
              </a:rPr>
              <a:t>50 %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wagow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78D5-BB95-4AB7-B4EE-4A84C7ADC853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5" name="Picture 4" descr="MP900437342[1]"/>
          <p:cNvPicPr/>
          <p:nvPr/>
        </p:nvPicPr>
        <p:blipFill>
          <a:blip r:embed="rId1"/>
          <a:stretch/>
        </p:blipFill>
        <p:spPr>
          <a:xfrm>
            <a:off x="7164360" y="2260440"/>
            <a:ext cx="1616040" cy="12128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MM900336318[1]"/>
          <p:cNvPicPr/>
          <p:nvPr/>
        </p:nvPicPr>
        <p:blipFill>
          <a:blip r:embed="rId2"/>
          <a:stretch/>
        </p:blipFill>
        <p:spPr>
          <a:xfrm>
            <a:off x="7451640" y="4292640"/>
            <a:ext cx="11718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Poziomy recyklingu – projekt </a:t>
            </a:r>
            <a:br>
              <a:rPr sz="4400"/>
            </a:br>
            <a:r>
              <a:rPr b="0" lang="pl-PL" sz="2200" spc="-1" strike="noStrike">
                <a:solidFill>
                  <a:srgbClr val="775f55"/>
                </a:solidFill>
                <a:latin typeface="Lucida Sans Unicode"/>
              </a:rPr>
              <a:t>(21 marca 2012)</a:t>
            </a:r>
            <a:endParaRPr b="0" lang="en-US" sz="22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2720" y="1599840"/>
            <a:ext cx="81532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w przypadku podmiotów, o których mowa w art. 9n ust. 4 ustawy z dnia 13 września 1996 r. o utrzymaniu czystości i porządku w gminach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900" spc="-1" strike="noStrike">
                <a:solidFill>
                  <a:srgbClr val="0070c0"/>
                </a:solidFill>
                <a:latin typeface="Lucida Sans Unicode"/>
              </a:rPr>
              <a:t>Mwptms=Mo*Umpmts,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Mo – łączna masa odebranych odpadów komunalnych od właścicieli nieruchomości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Umpmts – Udział łączny w składzie morfologicznym odpadów komunalnych odpadów papieru, metali, tworzyw sztucznych, szkła 5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Picture 24" descr="MC900343573[1]"/>
          <p:cNvPicPr/>
          <p:nvPr/>
        </p:nvPicPr>
        <p:blipFill>
          <a:blip r:embed="rId1"/>
          <a:stretch/>
        </p:blipFill>
        <p:spPr>
          <a:xfrm>
            <a:off x="7093080" y="2708280"/>
            <a:ext cx="177300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Poziomy recyklingu – projekt </a:t>
            </a:r>
            <a:br>
              <a:rPr sz="4400"/>
            </a:br>
            <a:r>
              <a:rPr b="0" lang="pl-PL" sz="2200" spc="-1" strike="noStrike">
                <a:solidFill>
                  <a:srgbClr val="775f55"/>
                </a:solidFill>
                <a:latin typeface="Lucida Sans Unicode"/>
              </a:rPr>
              <a:t>(21 marca 2012)</a:t>
            </a:r>
            <a:endParaRPr b="0" lang="en-US" sz="22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Gdzie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Lm – liczba mieszkańców gminy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Mw</a:t>
            </a:r>
            <a:r>
              <a:rPr b="1" lang="pl-PL" sz="1800" spc="-1" strike="noStrike">
                <a:solidFill>
                  <a:srgbClr val="000000"/>
                </a:solidFill>
                <a:latin typeface="Lucida Sans Unicode"/>
              </a:rPr>
              <a:t>GUS</a:t>
            </a: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 – masa wytworzonych odpadów komunalnych przez jednego mieszkańca na terenie województwa 4) </a:t>
            </a:r>
            <a:r>
              <a:rPr b="1" lang="pl-PL" sz="1800" spc="-1" strike="noStrike">
                <a:solidFill>
                  <a:srgbClr val="0070c0"/>
                </a:solidFill>
                <a:latin typeface="Lucida Sans Unicode"/>
              </a:rPr>
              <a:t>(GUS)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Mo – łączna masa odebranych odpadów komunalnych od właścicieli nieruchomości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Umpmts – Udział łączny w składzie morfologicznym odpadów komunalnych odpadów papieru, metali, tworzyw sztucznych, szkła 5) </a:t>
            </a:r>
            <a:r>
              <a:rPr b="0" lang="pl-PL" sz="1800" spc="-1" strike="noStrike">
                <a:solidFill>
                  <a:srgbClr val="0070c0"/>
                </a:solidFill>
                <a:latin typeface="Lucida Sans Unicode"/>
              </a:rPr>
              <a:t>(morfologia własna lub KPGO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Lucida Sans Unicode"/>
              </a:rPr>
              <a:t>Poziom recyklingu i przygotowania do ponownego użycia papieru, metali, tworzyw sztucznych i szkła, </a:t>
            </a:r>
            <a:r>
              <a:rPr b="1" lang="pl-PL" sz="1800" spc="-1" strike="noStrike" u="sng">
                <a:solidFill>
                  <a:srgbClr val="0070c0"/>
                </a:solidFill>
                <a:uFillTx/>
                <a:latin typeface="Lucida Sans Unicode"/>
              </a:rPr>
              <a:t>oblicza się łącznie </a:t>
            </a:r>
            <a:r>
              <a:rPr b="1" lang="pl-PL" sz="1800" spc="-1" strike="noStrike">
                <a:solidFill>
                  <a:srgbClr val="0070c0"/>
                </a:solidFill>
                <a:latin typeface="Lucida Sans Unicode"/>
              </a:rPr>
              <a:t>dla wszystkich podanych rodzajów odpadów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Poziomy recyklingu – projekt </a:t>
            </a:r>
            <a:br>
              <a:rPr sz="4400"/>
            </a:br>
            <a:r>
              <a:rPr b="0" lang="pl-PL" sz="2200" spc="-1" strike="noStrike">
                <a:solidFill>
                  <a:srgbClr val="775f55"/>
                </a:solidFill>
                <a:latin typeface="Lucida Sans Unicode"/>
              </a:rPr>
              <a:t>(21 marca 2012)</a:t>
            </a:r>
            <a:endParaRPr b="0" lang="en-US" sz="22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Należy brać pod uwagę odpady o kodach: 20 01 01, 15 01 01, 20 01 40, 15 01 04, 20 01 39, 15 01 02, 20 01 02, 15 01 07, 15 01 06, ex 20 01 99 odpady papieru, metalu, tworzyw sztucznych, szkła, zgodnie z rozporządzeniem Ministra Środowiska z dnia 27 września 2001 r. w sprawie katalogu odpadów (Dz. U. Nr 112, poz. 1206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4) Zgodnie z aktualnymi danymi publikowanymi przez </a:t>
            </a:r>
            <a:r>
              <a:rPr b="1" lang="pl-PL" sz="2000" spc="-1" strike="noStrike">
                <a:solidFill>
                  <a:srgbClr val="0070c0"/>
                </a:solidFill>
                <a:latin typeface="Lucida Sans Unicode"/>
              </a:rPr>
              <a:t>Główny Urząd Statystyczny</a:t>
            </a:r>
            <a:r>
              <a:rPr b="0" lang="pl-PL" sz="20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pl-PL" sz="2000" spc="-1" strike="noStrike">
                <a:solidFill>
                  <a:srgbClr val="0070c0"/>
                </a:solidFill>
                <a:latin typeface="Lucida Sans Unicode"/>
              </a:rPr>
              <a:t>(wytwarzanie/mieszkańca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5) Na podstawie aktualnego 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Krajowego planu gospodarki odpadami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lub na podstawie badań 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morfologii odpadów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komunalnych wykonanych </a:t>
            </a:r>
            <a:r>
              <a:rPr b="1" lang="pl-PL" sz="2000" spc="-1" strike="noStrike">
                <a:solidFill>
                  <a:srgbClr val="0070c0"/>
                </a:solidFill>
                <a:latin typeface="Lucida Sans Unicode"/>
              </a:rPr>
              <a:t>na zlecenie gminy lub podmiotu, o którym mowa w art. 9n ust. 4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ustawy z dnia 13 września 1996 r. o utrzymaniu czystości i porządku w gminach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E140-0BC0-4DE2-B471-2555F7260373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75f55"/>
                </a:solidFill>
                <a:latin typeface="Lucida Sans Unicode"/>
              </a:rPr>
              <a:t>Poziomy redukcji składowania odpadów ulegających biodegradacji – projekt </a:t>
            </a:r>
            <a:br>
              <a:rPr sz="2800"/>
            </a:br>
            <a:r>
              <a:rPr b="0" lang="pl-PL" sz="2000" spc="-1" strike="noStrike">
                <a:solidFill>
                  <a:srgbClr val="775f55"/>
                </a:solidFill>
                <a:latin typeface="Lucida Sans Unicode"/>
              </a:rPr>
              <a:t>(22 marca 2012) </a:t>
            </a:r>
            <a:endParaRPr b="0" lang="en-US" sz="2000" spc="-1" strike="noStrike">
              <a:solidFill>
                <a:srgbClr val="775f55"/>
              </a:solidFill>
              <a:latin typeface="Lucida Sans Unicode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684360" y="2565360"/>
          <a:ext cx="8075520" cy="1817640"/>
        </p:xfrm>
        <a:graphic>
          <a:graphicData uri="http://schemas.openxmlformats.org/drawingml/2006/table">
            <a:tbl>
              <a:tblPr/>
              <a:tblGrid>
                <a:gridCol w="1881000"/>
                <a:gridCol w="689040"/>
                <a:gridCol w="687240"/>
                <a:gridCol w="689040"/>
                <a:gridCol w="687600"/>
                <a:gridCol w="688680"/>
                <a:gridCol w="687600"/>
                <a:gridCol w="689040"/>
                <a:gridCol w="687240"/>
                <a:gridCol w="689040"/>
              </a:tblGrid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oziomy redukcji składowania odpadów ulegających biodegradacj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</a:tr>
              <a:tr h="31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</a:tr>
              <a:tr h="938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dukcja składowania odpadów ulegających biodegradacj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</a:tr>
            </a:tbl>
          </a:graphicData>
        </a:graphic>
      </p:graphicFrame>
      <p:sp>
        <p:nvSpPr>
          <p:cNvPr id="445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B42C-6C8F-4C01-BFD6-E50033CF91B0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75f55"/>
                </a:solidFill>
                <a:latin typeface="Lucida Sans Unicode"/>
              </a:rPr>
              <a:t>Poziomy redukcji składowania odpadów ulegających biodegradacji – projekt </a:t>
            </a:r>
            <a:br>
              <a:rPr sz="2800"/>
            </a:br>
            <a:r>
              <a:rPr b="0" lang="pl-PL" sz="2000" spc="-1" strike="noStrike">
                <a:solidFill>
                  <a:srgbClr val="775f55"/>
                </a:solidFill>
                <a:latin typeface="Lucida Sans Unicode"/>
              </a:rPr>
              <a:t>(22 marca 2012) </a:t>
            </a:r>
            <a:endParaRPr b="0" lang="en-US" sz="20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4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F5B0-14E7-4133-B504-653C0217A450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Symbol zastępczy zawartości 5" descr=""/>
          <p:cNvPicPr/>
          <p:nvPr/>
        </p:nvPicPr>
        <p:blipFill>
          <a:blip r:embed="rId1"/>
          <a:stretch/>
        </p:blipFill>
        <p:spPr>
          <a:xfrm>
            <a:off x="1432080" y="1450800"/>
            <a:ext cx="750384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75f55"/>
                </a:solidFill>
                <a:latin typeface="Lucida Sans Unicode"/>
              </a:rPr>
              <a:t>Poziomy redukcji składowania odpadów ulegających biodegradacji – projekt </a:t>
            </a:r>
            <a:br>
              <a:rPr sz="2800"/>
            </a:br>
            <a:r>
              <a:rPr b="0" lang="pl-PL" sz="2000" spc="-1" strike="noStrike">
                <a:solidFill>
                  <a:srgbClr val="775f55"/>
                </a:solidFill>
                <a:latin typeface="Lucida Sans Unicode"/>
              </a:rPr>
              <a:t>(22 marca 2012) </a:t>
            </a:r>
            <a:endParaRPr b="0" lang="en-US" sz="20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5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8151-50C5-485F-94D9-F1DBA90A2D05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Masa odpadów ulegających biodegradacji wytworzoną w 1995 r.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900" spc="-1" strike="noStrike">
                <a:solidFill>
                  <a:srgbClr val="0070c0"/>
                </a:solidFill>
                <a:latin typeface="Lucida Sans Unicode"/>
              </a:rPr>
              <a:t>OUBR </a:t>
            </a:r>
            <a:r>
              <a:rPr b="1" i="1" lang="pl-PL" sz="1100" spc="-1" strike="noStrike">
                <a:solidFill>
                  <a:srgbClr val="0070c0"/>
                </a:solidFill>
                <a:latin typeface="Lucida Sans Unicode"/>
              </a:rPr>
              <a:t>1995</a:t>
            </a:r>
            <a:r>
              <a:rPr b="1" i="1" lang="pl-PL" sz="2900" spc="-1" strike="noStrike">
                <a:solidFill>
                  <a:srgbClr val="0070c0"/>
                </a:solidFill>
                <a:latin typeface="Lucida Sans Unicode"/>
              </a:rPr>
              <a:t>=0,155x Lm+0,047xLw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Lm - liczba mieszkańców miasta w 1995 r. na obszarze gminy wg GU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Lw - liczba mieszkańców wsi w 1995 r. na obszarze gminy wg GU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75f55"/>
                </a:solidFill>
                <a:latin typeface="Lucida Sans Unicode"/>
              </a:rPr>
              <a:t>Poziomy redukcji składowania odpadów ulegających biodegradacji – projekt </a:t>
            </a:r>
            <a:br>
              <a:rPr sz="2800"/>
            </a:br>
            <a:r>
              <a:rPr b="0" lang="pl-PL" sz="2000" spc="-1" strike="noStrike">
                <a:solidFill>
                  <a:srgbClr val="775f55"/>
                </a:solidFill>
                <a:latin typeface="Lucida Sans Unicode"/>
              </a:rPr>
              <a:t>(22 marca 2012) </a:t>
            </a:r>
            <a:endParaRPr b="0" lang="en-US" sz="20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5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37E7-B1AD-407D-81C0-95EA8328F9CB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Masę odpadów ulegających biodegradacji zebranych ze strumienia odpadów komunalnych z terenu danej gminy w roku rozliczeniowym, przekazanych do składowania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70c0"/>
                </a:solidFill>
                <a:latin typeface="Lucida Sans Unicode"/>
              </a:rPr>
              <a:t>M</a:t>
            </a:r>
            <a:r>
              <a:rPr b="1" lang="pl-PL" sz="1400" spc="-1" strike="noStrike">
                <a:solidFill>
                  <a:srgbClr val="0070c0"/>
                </a:solidFill>
                <a:latin typeface="Lucida Sans Unicode"/>
              </a:rPr>
              <a:t>OUBR</a:t>
            </a:r>
            <a:r>
              <a:rPr b="1" lang="pl-PL" sz="2900" spc="-1" strike="noStrike">
                <a:solidFill>
                  <a:srgbClr val="0070c0"/>
                </a:solidFill>
                <a:latin typeface="Lucida Sans Unicode"/>
              </a:rPr>
              <a:t>=(M</a:t>
            </a:r>
            <a:r>
              <a:rPr b="1" lang="pl-PL" sz="1400" spc="-1" strike="noStrike">
                <a:solidFill>
                  <a:srgbClr val="0070c0"/>
                </a:solidFill>
                <a:latin typeface="Lucida Sans Unicode"/>
              </a:rPr>
              <a:t>MR </a:t>
            </a:r>
            <a:r>
              <a:rPr b="1" lang="pl-PL" sz="2900" spc="-1" strike="noStrike">
                <a:solidFill>
                  <a:srgbClr val="0070c0"/>
                </a:solidFill>
                <a:latin typeface="Lucida Sans Unicode"/>
              </a:rPr>
              <a:t>x0,57) + (M</a:t>
            </a:r>
            <a:r>
              <a:rPr b="1" lang="pl-PL" sz="1400" spc="-1" strike="noStrike">
                <a:solidFill>
                  <a:srgbClr val="0070c0"/>
                </a:solidFill>
                <a:latin typeface="Lucida Sans Unicode"/>
              </a:rPr>
              <a:t>MW</a:t>
            </a:r>
            <a:r>
              <a:rPr b="1" lang="pl-PL" sz="2900" spc="-1" strike="noStrike">
                <a:solidFill>
                  <a:srgbClr val="0070c0"/>
                </a:solidFill>
                <a:latin typeface="Lucida Sans Unicode"/>
              </a:rPr>
              <a:t> x </a:t>
            </a:r>
            <a:r>
              <a:rPr b="1" lang="pl-PL" sz="2900" spc="-1" strike="noStrike">
                <a:solidFill>
                  <a:srgbClr val="ff0000"/>
                </a:solidFill>
                <a:latin typeface="Lucida Sans Unicode"/>
              </a:rPr>
              <a:t>0,48) + (M</a:t>
            </a:r>
            <a:r>
              <a:rPr b="1" lang="pl-PL" sz="1400" spc="-1" strike="noStrike">
                <a:solidFill>
                  <a:srgbClr val="ff0000"/>
                </a:solidFill>
                <a:latin typeface="Lucida Sans Unicode"/>
              </a:rPr>
              <a:t>SR</a:t>
            </a:r>
            <a:r>
              <a:rPr b="1" lang="pl-PL" sz="2900" spc="-1" strike="noStrike">
                <a:solidFill>
                  <a:srgbClr val="ff0000"/>
                </a:solidFill>
                <a:latin typeface="Lucida Sans Unicode"/>
              </a:rPr>
              <a:t> x U</a:t>
            </a:r>
            <a:r>
              <a:rPr b="1" lang="pl-PL" sz="1400" spc="-1" strike="noStrike">
                <a:solidFill>
                  <a:srgbClr val="ff0000"/>
                </a:solidFill>
                <a:latin typeface="Lucida Sans Unicode"/>
              </a:rPr>
              <a:t>S</a:t>
            </a:r>
            <a:r>
              <a:rPr b="1" lang="pl-PL" sz="2900" spc="-1" strike="noStrike">
                <a:solidFill>
                  <a:srgbClr val="ff0000"/>
                </a:solidFill>
                <a:latin typeface="Lucida Sans Unicode"/>
              </a:rPr>
              <a:t>) </a:t>
            </a:r>
            <a:r>
              <a:rPr b="1" lang="pl-PL" sz="29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1" lang="pl-PL" sz="2900" spc="-1" strike="noStrike">
                <a:solidFill>
                  <a:srgbClr val="ff0000"/>
                </a:solidFill>
                <a:latin typeface="Lucida Sans Unicode"/>
              </a:rPr>
              <a:t>+ (M</a:t>
            </a:r>
            <a:r>
              <a:rPr b="1" lang="pl-PL" sz="1400" spc="-1" strike="noStrike">
                <a:solidFill>
                  <a:srgbClr val="ff0000"/>
                </a:solidFill>
                <a:latin typeface="Lucida Sans Unicode"/>
              </a:rPr>
              <a:t>BR</a:t>
            </a:r>
            <a:r>
              <a:rPr b="1" lang="pl-PL" sz="2900" spc="-1" strike="noStrike">
                <a:solidFill>
                  <a:srgbClr val="ff0000"/>
                </a:solidFill>
                <a:latin typeface="Lucida Sans Unicode"/>
              </a:rPr>
              <a:t> x 0,52)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Objaśnienie liniowe 1 6"/>
          <p:cNvSpPr/>
          <p:nvPr/>
        </p:nvSpPr>
        <p:spPr>
          <a:xfrm>
            <a:off x="2484360" y="2982960"/>
            <a:ext cx="2448000" cy="576360"/>
          </a:xfrm>
          <a:prstGeom prst="borderCallout1">
            <a:avLst>
              <a:gd name="adj1" fmla="val 18750"/>
              <a:gd name="adj2" fmla="val -8333"/>
              <a:gd name="adj3" fmla="val 229898"/>
              <a:gd name="adj4" fmla="val 6796"/>
            </a:avLst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Zmieszane – miasto (20 03 01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Objaśnienie liniowe 1 8"/>
          <p:cNvSpPr/>
          <p:nvPr/>
        </p:nvSpPr>
        <p:spPr>
          <a:xfrm>
            <a:off x="5651640" y="2982960"/>
            <a:ext cx="2449440" cy="576360"/>
          </a:xfrm>
          <a:prstGeom prst="borderCallout1">
            <a:avLst>
              <a:gd name="adj1" fmla="val 18750"/>
              <a:gd name="adj2" fmla="val -8333"/>
              <a:gd name="adj3" fmla="val 213361"/>
              <a:gd name="adj4" fmla="val -19268"/>
            </a:avLst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Zmieszane wieś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(20 03 01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Objaśnienie liniowe 1 9"/>
          <p:cNvSpPr/>
          <p:nvPr/>
        </p:nvSpPr>
        <p:spPr>
          <a:xfrm>
            <a:off x="6227640" y="5373720"/>
            <a:ext cx="2448000" cy="863640"/>
          </a:xfrm>
          <a:prstGeom prst="borderCallout1">
            <a:avLst>
              <a:gd name="adj1" fmla="val 18750"/>
              <a:gd name="adj2" fmla="val -8333"/>
              <a:gd name="adj3" fmla="val -91425"/>
              <a:gd name="adj4" fmla="val 58930"/>
            </a:avLst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Selektywnie zebrane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( np.20 01 01, 20 01 08, 20 01 25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Objaśnienie liniowe 1 10"/>
          <p:cNvSpPr/>
          <p:nvPr/>
        </p:nvSpPr>
        <p:spPr>
          <a:xfrm>
            <a:off x="2268360" y="5456160"/>
            <a:ext cx="2880000" cy="1212840"/>
          </a:xfrm>
          <a:prstGeom prst="borderCallout1">
            <a:avLst>
              <a:gd name="adj1" fmla="val 18750"/>
              <a:gd name="adj2" fmla="val -8333"/>
              <a:gd name="adj3" fmla="val -6550"/>
              <a:gd name="adj4" fmla="val 35587"/>
            </a:avLst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Po MBP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(19 12 12 – nie spełniające wymagań rozp. o MBP 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75f55"/>
                </a:solidFill>
                <a:latin typeface="Lucida Sans Unicode"/>
              </a:rPr>
              <a:t>Poziomy redukcji składowania odpadów ulegających biodegradacji – projekt </a:t>
            </a:r>
            <a:br>
              <a:rPr sz="2800"/>
            </a:br>
            <a:r>
              <a:rPr b="0" lang="pl-PL" sz="2000" spc="-1" strike="noStrike">
                <a:solidFill>
                  <a:srgbClr val="775f55"/>
                </a:solidFill>
                <a:latin typeface="Lucida Sans Unicode"/>
              </a:rPr>
              <a:t>(22 marca 2012) </a:t>
            </a:r>
            <a:endParaRPr b="0" lang="en-US" sz="20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OUBR</a:t>
            </a: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- masa odpadów ulegających biodegradacji zebranych ze strumienia odpadów komunalnych z terenu danej gminy w roku rozliczeniowym, przekazanych do składowania, [Mg]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MR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– masa zmieszanych odpadów komunalnych o kodzie 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20 03 01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zebranych na obszarze miast w roku rozliczeniowym, przekazanych do składowania, [Mg]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WR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- masa zmieszanych odpadów komunalnych o kodzie 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20 03 01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zebranych na obszarze wsi w roku rozliczeniowym, przekazanych do składowania, [Mg]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U</a:t>
            </a: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– udział odpadów ulegających biodegradacji w masie zmieszanych odpadów komunalnych dla miast wynoszący 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0,57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U</a:t>
            </a: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W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– udział odpadów ulegających biodegradacji w masie zmieszanych odpadów komunalnych dla wsi wynoszący </a:t>
            </a:r>
            <a:r>
              <a:rPr b="1" lang="pl-PL" sz="2000" spc="-1" strike="noStrike">
                <a:solidFill>
                  <a:srgbClr val="ff0000"/>
                </a:solidFill>
                <a:latin typeface="Lucida Sans Unicode"/>
              </a:rPr>
              <a:t>0,48;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75f55"/>
                </a:solidFill>
                <a:latin typeface="Lucida Sans Unicode"/>
              </a:rPr>
              <a:t>Poziomy redukcji składowania odpadów ulegających biodegradacji – projekt </a:t>
            </a:r>
            <a:br>
              <a:rPr sz="2800"/>
            </a:br>
            <a:r>
              <a:rPr b="0" lang="pl-PL" sz="2000" spc="-1" strike="noStrike">
                <a:solidFill>
                  <a:srgbClr val="775f55"/>
                </a:solidFill>
                <a:latin typeface="Lucida Sans Unicode"/>
              </a:rPr>
              <a:t>(22 marca 2012) </a:t>
            </a:r>
            <a:endParaRPr b="0" lang="en-US" sz="20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12720" y="1599840"/>
            <a:ext cx="81532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Us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– udział odpadów ulegających biodegradacji w masie selektywnie zebranych odpadów ulegających biodegradacji ze strumienia odpadów komunalnych wynoszący dla poszczególnych rodzajów odpadów wg kodu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20 01 01 – 1,00;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20 01 08 – 1,00;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20 01 10 – 0,50;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20 01 11 – 0,50;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20 01 25 – 1,00;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20 01 38 – 0,50;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20 02 01 – 1,00;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20 03 02 – 1,00;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15 01 01 – 1,00;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15 01 03 – 1,00;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ex 15 01 09 z włókien naturalnych – 0,50;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ex 15 01 06 w części zawierającej papier, tekturę, drewno i tekstylia z włókien naturalnych – 0,50; 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Wybrane modele selektywnego zbierania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pic>
        <p:nvPicPr>
          <p:cNvPr id="464" name="Picture 4" descr="MP900437342[1]"/>
          <p:cNvPicPr/>
          <p:nvPr/>
        </p:nvPicPr>
        <p:blipFill>
          <a:blip r:embed="rId1"/>
          <a:stretch/>
        </p:blipFill>
        <p:spPr>
          <a:xfrm>
            <a:off x="2863800" y="4035600"/>
            <a:ext cx="1616040" cy="12128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MC900056531[1]"/>
          <p:cNvPicPr/>
          <p:nvPr/>
        </p:nvPicPr>
        <p:blipFill>
          <a:blip r:embed="rId2"/>
          <a:stretch/>
        </p:blipFill>
        <p:spPr>
          <a:xfrm>
            <a:off x="879480" y="1482840"/>
            <a:ext cx="1127160" cy="1130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4" descr="MC900089336[1]"/>
          <p:cNvPicPr/>
          <p:nvPr/>
        </p:nvPicPr>
        <p:blipFill>
          <a:blip r:embed="rId3"/>
          <a:stretch/>
        </p:blipFill>
        <p:spPr>
          <a:xfrm>
            <a:off x="914400" y="2751120"/>
            <a:ext cx="1055520" cy="11527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6" descr="MC900437503[1]"/>
          <p:cNvPicPr/>
          <p:nvPr/>
        </p:nvPicPr>
        <p:blipFill>
          <a:blip r:embed="rId4"/>
          <a:stretch/>
        </p:blipFill>
        <p:spPr>
          <a:xfrm>
            <a:off x="6402240" y="3044880"/>
            <a:ext cx="1513080" cy="12110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1" descr="MC900215172[1]"/>
          <p:cNvPicPr/>
          <p:nvPr/>
        </p:nvPicPr>
        <p:blipFill>
          <a:blip r:embed="rId5"/>
          <a:stretch/>
        </p:blipFill>
        <p:spPr>
          <a:xfrm>
            <a:off x="7451640" y="3387600"/>
            <a:ext cx="1300320" cy="11415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2" descr="MC900250567[1]"/>
          <p:cNvPicPr/>
          <p:nvPr/>
        </p:nvPicPr>
        <p:blipFill>
          <a:blip r:embed="rId6"/>
          <a:stretch/>
        </p:blipFill>
        <p:spPr>
          <a:xfrm>
            <a:off x="7159680" y="2610000"/>
            <a:ext cx="1415880" cy="10396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C:\Users\Sabina Kowalska\AppData\Local\Microsoft\Windows\Temporary Internet Files\Content.IE5\6BWPRNPK\MC900434451[1].wmf"/>
          <p:cNvPicPr/>
          <p:nvPr/>
        </p:nvPicPr>
        <p:blipFill>
          <a:blip r:embed="rId7"/>
          <a:stretch/>
        </p:blipFill>
        <p:spPr>
          <a:xfrm>
            <a:off x="3059280" y="1582560"/>
            <a:ext cx="925200" cy="10717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0" descr="C:\Users\Sabina Kowalska\AppData\Local\Microsoft\Windows\Temporary Internet Files\Content.IE5\6BWPRNPK\MC900415470[1].wmf"/>
          <p:cNvPicPr/>
          <p:nvPr/>
        </p:nvPicPr>
        <p:blipFill>
          <a:blip r:embed="rId8"/>
          <a:stretch/>
        </p:blipFill>
        <p:spPr>
          <a:xfrm>
            <a:off x="568440" y="3903840"/>
            <a:ext cx="1627200" cy="1388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C:\Users\Sabina Kowalska\AppData\Local\Microsoft\Windows\Temporary Internet Files\Content.IE5\WYT2V2DH\MC900029991[1].wmf"/>
          <p:cNvPicPr/>
          <p:nvPr/>
        </p:nvPicPr>
        <p:blipFill>
          <a:blip r:embed="rId9"/>
          <a:stretch/>
        </p:blipFill>
        <p:spPr>
          <a:xfrm>
            <a:off x="623880" y="5229360"/>
            <a:ext cx="1685880" cy="1304640"/>
          </a:xfrm>
          <a:prstGeom prst="rect">
            <a:avLst/>
          </a:prstGeom>
          <a:ln w="0">
            <a:noFill/>
          </a:ln>
        </p:spPr>
      </p:pic>
      <p:sp>
        <p:nvSpPr>
          <p:cNvPr id="473" name="Nawias klamrowy zamykający 10"/>
          <p:cNvSpPr/>
          <p:nvPr/>
        </p:nvSpPr>
        <p:spPr>
          <a:xfrm>
            <a:off x="2432160" y="3327480"/>
            <a:ext cx="411120" cy="3206520"/>
          </a:xfrm>
          <a:custGeom>
            <a:avLst/>
            <a:gdLst>
              <a:gd name="textAreaLeft" fmla="*/ 0 w 411120"/>
              <a:gd name="textAreaRight" fmla="*/ 148320 w 411120"/>
              <a:gd name="textAreaTop" fmla="*/ 10440 h 3206520"/>
              <a:gd name="textAreaBottom" fmla="*/ 3196080 h 320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16200" y="10800"/>
                  <a:pt x="21600" y="10800"/>
                </a:cubicBezTo>
                <a:cubicBezTo>
                  <a:pt x="162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4b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Nawias klamrowy zamykający 11"/>
          <p:cNvSpPr/>
          <p:nvPr/>
        </p:nvSpPr>
        <p:spPr>
          <a:xfrm>
            <a:off x="2535120" y="1482840"/>
            <a:ext cx="120600" cy="1130040"/>
          </a:xfrm>
          <a:custGeom>
            <a:avLst/>
            <a:gdLst>
              <a:gd name="textAreaLeft" fmla="*/ 0 w 120600"/>
              <a:gd name="textAreaRight" fmla="*/ 43560 w 120600"/>
              <a:gd name="textAreaTop" fmla="*/ 2880 h 1130040"/>
              <a:gd name="textAreaBottom" fmla="*/ 1127160 h 11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7"/>
                  <a:pt x="10800" y="193"/>
                </a:cubicBezTo>
                <a:lnTo>
                  <a:pt x="10800" y="10607"/>
                </a:lnTo>
                <a:cubicBezTo>
                  <a:pt x="10800" y="10704"/>
                  <a:pt x="16200" y="10800"/>
                  <a:pt x="21600" y="10800"/>
                </a:cubicBezTo>
                <a:cubicBezTo>
                  <a:pt x="16200" y="10800"/>
                  <a:pt x="10800" y="10897"/>
                  <a:pt x="10800" y="10993"/>
                </a:cubicBezTo>
                <a:lnTo>
                  <a:pt x="10800" y="21407"/>
                </a:lnTo>
                <a:cubicBezTo>
                  <a:pt x="10800" y="2150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4b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Picture 18" descr="C:\Users\Sabina Kowalska\AppData\Local\Microsoft\Windows\Temporary Internet Files\Content.IE5\WYT2V2DH\MC900305241[1].wmf"/>
          <p:cNvPicPr/>
          <p:nvPr/>
        </p:nvPicPr>
        <p:blipFill>
          <a:blip r:embed="rId10"/>
          <a:stretch/>
        </p:blipFill>
        <p:spPr>
          <a:xfrm>
            <a:off x="10766520" y="7061040"/>
            <a:ext cx="1050840" cy="1258920"/>
          </a:xfrm>
          <a:prstGeom prst="rect">
            <a:avLst/>
          </a:prstGeom>
          <a:ln w="0">
            <a:noFill/>
          </a:ln>
        </p:spPr>
      </p:pic>
      <p:sp>
        <p:nvSpPr>
          <p:cNvPr id="476" name="pole tekstowe 12"/>
          <p:cNvSpPr/>
          <p:nvPr/>
        </p:nvSpPr>
        <p:spPr>
          <a:xfrm>
            <a:off x="4211640" y="177336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makulatura, szkło, tworzywa, </a:t>
            </a:r>
            <a:r>
              <a:rPr b="0" lang="pl-PL" sz="1800" spc="-1" strike="noStrike">
                <a:solidFill>
                  <a:srgbClr val="00b050"/>
                </a:solidFill>
                <a:latin typeface="Lucida Sans Unicode"/>
              </a:rPr>
              <a:t>zielone,wielkiegabaryty, budowlane: jako usługa dodatkowa, lub dostarczanie do PS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ole tekstowe 14"/>
          <p:cNvSpPr/>
          <p:nvPr/>
        </p:nvSpPr>
        <p:spPr>
          <a:xfrm>
            <a:off x="5904000" y="4573440"/>
            <a:ext cx="309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Leki, chemikalia, baterie, akumulatory, zseie, wielkiegabaryty, budowlane, opony, zielone+ makulatura, szkło, tworzywa, metale, wielomateriałow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ole tekstowe 34"/>
          <p:cNvSpPr/>
          <p:nvPr/>
        </p:nvSpPr>
        <p:spPr>
          <a:xfrm>
            <a:off x="1914480" y="494028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makulatura, szkło, tworzywa, </a:t>
            </a:r>
            <a:r>
              <a:rPr b="0" lang="pl-PL" sz="1800" spc="-1" strike="noStrike">
                <a:solidFill>
                  <a:srgbClr val="00b050"/>
                </a:solidFill>
                <a:latin typeface="Lucida Sans Unicode"/>
              </a:rPr>
              <a:t>zielone, wielkiegabaryty, budowlane: jako usługa dodatkowa, lub dostarczanie do PS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ole tekstowe 16"/>
          <p:cNvSpPr/>
          <p:nvPr/>
        </p:nvSpPr>
        <p:spPr>
          <a:xfrm>
            <a:off x="2735280" y="3243240"/>
            <a:ext cx="33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Pojemniki dla nieruchomości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lub zespołu nieruchomości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Dyrektywa ramowa 2008/98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1988640"/>
            <a:ext cx="61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Nowe zadania wynikające z dyrektywy 2008/98 (art. 11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do roku </a:t>
            </a:r>
            <a:r>
              <a:rPr b="1" lang="pl-PL" sz="2200" spc="-1" strike="noStrike">
                <a:solidFill>
                  <a:srgbClr val="ff0000"/>
                </a:solidFill>
                <a:latin typeface="Lucida Sans Unicode"/>
              </a:rPr>
              <a:t>2020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przygotowanie do ponownego wykorzystania, recyklingu i innych sposobów odzyskiwania materiałów, w tym wypełniania wyrobisk, </a:t>
            </a:r>
            <a:r>
              <a:rPr b="1" lang="pl-PL" sz="2200" spc="-1" strike="noStrike">
                <a:solidFill>
                  <a:srgbClr val="000000"/>
                </a:solidFill>
                <a:latin typeface="Lucida Sans Unicode"/>
              </a:rPr>
              <a:t>odpadów budowlanych i rozbiórkowych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, do minimum </a:t>
            </a:r>
            <a:r>
              <a:rPr b="1" lang="pl-PL" sz="2200" spc="-1" strike="noStrike">
                <a:solidFill>
                  <a:srgbClr val="ff0000"/>
                </a:solidFill>
                <a:latin typeface="Lucida Sans Unicode"/>
              </a:rPr>
              <a:t>70 %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 wagow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993300"/>
                </a:solidFill>
                <a:latin typeface="Lucida Sans Unicode"/>
              </a:rPr>
              <a:t>Zadania nałożono na gminy – ustawą o utrzymaniu czystości i porządku (UCP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B92D-3351-4805-961C-2627ADD4BD97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60" name="Picture 4" descr="MP900437342[1]"/>
          <p:cNvPicPr/>
          <p:nvPr/>
        </p:nvPicPr>
        <p:blipFill>
          <a:blip r:embed="rId1"/>
          <a:stretch/>
        </p:blipFill>
        <p:spPr>
          <a:xfrm>
            <a:off x="7451640" y="2276640"/>
            <a:ext cx="1616040" cy="12128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MM900336318[1]"/>
          <p:cNvPicPr/>
          <p:nvPr/>
        </p:nvPicPr>
        <p:blipFill>
          <a:blip r:embed="rId2"/>
          <a:stretch/>
        </p:blipFill>
        <p:spPr>
          <a:xfrm>
            <a:off x="7674120" y="4292640"/>
            <a:ext cx="117144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Wybrane modele selektywnego zbierania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pic>
        <p:nvPicPr>
          <p:cNvPr id="481" name="Picture 4" descr="MP900437342[1]"/>
          <p:cNvPicPr/>
          <p:nvPr/>
        </p:nvPicPr>
        <p:blipFill>
          <a:blip r:embed="rId1"/>
          <a:stretch/>
        </p:blipFill>
        <p:spPr>
          <a:xfrm>
            <a:off x="2890800" y="3295800"/>
            <a:ext cx="1616040" cy="1214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" descr="MC900056531[1]"/>
          <p:cNvPicPr/>
          <p:nvPr/>
        </p:nvPicPr>
        <p:blipFill>
          <a:blip r:embed="rId2"/>
          <a:stretch/>
        </p:blipFill>
        <p:spPr>
          <a:xfrm>
            <a:off x="879480" y="1482840"/>
            <a:ext cx="1127160" cy="11300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4" descr="MC900089336[1]"/>
          <p:cNvPicPr/>
          <p:nvPr/>
        </p:nvPicPr>
        <p:blipFill>
          <a:blip r:embed="rId3"/>
          <a:stretch/>
        </p:blipFill>
        <p:spPr>
          <a:xfrm>
            <a:off x="914400" y="2751120"/>
            <a:ext cx="1055520" cy="11527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6" descr="MC900437503[1]"/>
          <p:cNvPicPr/>
          <p:nvPr/>
        </p:nvPicPr>
        <p:blipFill>
          <a:blip r:embed="rId4"/>
          <a:stretch/>
        </p:blipFill>
        <p:spPr>
          <a:xfrm>
            <a:off x="6402240" y="3044880"/>
            <a:ext cx="1513080" cy="12110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1" descr="MC900215172[1]"/>
          <p:cNvPicPr/>
          <p:nvPr/>
        </p:nvPicPr>
        <p:blipFill>
          <a:blip r:embed="rId5"/>
          <a:stretch/>
        </p:blipFill>
        <p:spPr>
          <a:xfrm>
            <a:off x="7451640" y="3387600"/>
            <a:ext cx="1300320" cy="11415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2" descr="MC900250567[1]"/>
          <p:cNvPicPr/>
          <p:nvPr/>
        </p:nvPicPr>
        <p:blipFill>
          <a:blip r:embed="rId6"/>
          <a:stretch/>
        </p:blipFill>
        <p:spPr>
          <a:xfrm>
            <a:off x="7159680" y="2610000"/>
            <a:ext cx="1415880" cy="10396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0" descr="C:\Users\Sabina Kowalska\AppData\Local\Microsoft\Windows\Temporary Internet Files\Content.IE5\6BWPRNPK\MC900415470[1].wmf"/>
          <p:cNvPicPr/>
          <p:nvPr/>
        </p:nvPicPr>
        <p:blipFill>
          <a:blip r:embed="rId7"/>
          <a:stretch/>
        </p:blipFill>
        <p:spPr>
          <a:xfrm>
            <a:off x="568440" y="3903840"/>
            <a:ext cx="1627200" cy="13888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C:\Users\Sabina Kowalska\AppData\Local\Microsoft\Windows\Temporary Internet Files\Content.IE5\WYT2V2DH\MC900029991[1].wmf"/>
          <p:cNvPicPr/>
          <p:nvPr/>
        </p:nvPicPr>
        <p:blipFill>
          <a:blip r:embed="rId8"/>
          <a:stretch/>
        </p:blipFill>
        <p:spPr>
          <a:xfrm>
            <a:off x="623880" y="5229360"/>
            <a:ext cx="1685880" cy="1304640"/>
          </a:xfrm>
          <a:prstGeom prst="rect">
            <a:avLst/>
          </a:prstGeom>
          <a:ln w="0">
            <a:noFill/>
          </a:ln>
        </p:spPr>
      </p:pic>
      <p:sp>
        <p:nvSpPr>
          <p:cNvPr id="489" name="Nawias klamrowy zamykający 10"/>
          <p:cNvSpPr/>
          <p:nvPr/>
        </p:nvSpPr>
        <p:spPr>
          <a:xfrm>
            <a:off x="2432160" y="1482840"/>
            <a:ext cx="411120" cy="4933800"/>
          </a:xfrm>
          <a:custGeom>
            <a:avLst/>
            <a:gdLst>
              <a:gd name="textAreaLeft" fmla="*/ 0 w 411120"/>
              <a:gd name="textAreaRight" fmla="*/ 148320 w 411120"/>
              <a:gd name="textAreaTop" fmla="*/ 0 h 4933800"/>
              <a:gd name="textAreaBottom" fmla="*/ 4934160 h 493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4b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Picture 18" descr="C:\Users\Sabina Kowalska\AppData\Local\Microsoft\Windows\Temporary Internet Files\Content.IE5\WYT2V2DH\MC900305241[1].wmf"/>
          <p:cNvPicPr/>
          <p:nvPr/>
        </p:nvPicPr>
        <p:blipFill>
          <a:blip r:embed="rId9"/>
          <a:stretch/>
        </p:blipFill>
        <p:spPr>
          <a:xfrm>
            <a:off x="10766520" y="7061040"/>
            <a:ext cx="1050840" cy="1258920"/>
          </a:xfrm>
          <a:prstGeom prst="rect">
            <a:avLst/>
          </a:prstGeom>
          <a:ln w="0">
            <a:noFill/>
          </a:ln>
        </p:spPr>
      </p:pic>
      <p:sp>
        <p:nvSpPr>
          <p:cNvPr id="491" name="pole tekstowe 14"/>
          <p:cNvSpPr/>
          <p:nvPr/>
        </p:nvSpPr>
        <p:spPr>
          <a:xfrm>
            <a:off x="5904000" y="4573440"/>
            <a:ext cx="309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Leki, chemikalia, baterie, akumulatory, zseie, wielkiegabaryty, budowlane, opony, zielone+ makulatura, szkło, tworzywa, metale, wielomateriałow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ole tekstowe 34"/>
          <p:cNvSpPr/>
          <p:nvPr/>
        </p:nvSpPr>
        <p:spPr>
          <a:xfrm>
            <a:off x="2637000" y="156852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makulatura, szkło, tworzywa, </a:t>
            </a:r>
            <a:r>
              <a:rPr b="0" lang="pl-PL" sz="1800" spc="-1" strike="noStrike">
                <a:solidFill>
                  <a:srgbClr val="00b050"/>
                </a:solidFill>
                <a:latin typeface="Lucida Sans Unicode"/>
              </a:rPr>
              <a:t>zielone, wielkiegabaryty, budowlane: jako usługa dodatkowa, lub dostarczanie do PS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ole tekstowe 2"/>
          <p:cNvSpPr/>
          <p:nvPr/>
        </p:nvSpPr>
        <p:spPr>
          <a:xfrm>
            <a:off x="2771640" y="44118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Pojemniki ogólnodostępn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Wybrane modele selektywnego zbierania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pic>
        <p:nvPicPr>
          <p:cNvPr id="495" name="Picture 4" descr="MP900437342[1]"/>
          <p:cNvPicPr/>
          <p:nvPr/>
        </p:nvPicPr>
        <p:blipFill>
          <a:blip r:embed="rId1"/>
          <a:stretch/>
        </p:blipFill>
        <p:spPr>
          <a:xfrm>
            <a:off x="5365800" y="4929120"/>
            <a:ext cx="1617480" cy="10699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" descr="MC900056531[1]"/>
          <p:cNvPicPr/>
          <p:nvPr/>
        </p:nvPicPr>
        <p:blipFill>
          <a:blip r:embed="rId2"/>
          <a:stretch/>
        </p:blipFill>
        <p:spPr>
          <a:xfrm>
            <a:off x="879480" y="1482840"/>
            <a:ext cx="1127160" cy="11300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4" descr="MC900089336[1]"/>
          <p:cNvPicPr/>
          <p:nvPr/>
        </p:nvPicPr>
        <p:blipFill>
          <a:blip r:embed="rId3"/>
          <a:stretch/>
        </p:blipFill>
        <p:spPr>
          <a:xfrm>
            <a:off x="914400" y="2751120"/>
            <a:ext cx="1055520" cy="11527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6" descr="MC900437503[1]"/>
          <p:cNvPicPr/>
          <p:nvPr/>
        </p:nvPicPr>
        <p:blipFill>
          <a:blip r:embed="rId4"/>
          <a:stretch/>
        </p:blipFill>
        <p:spPr>
          <a:xfrm>
            <a:off x="6622920" y="3327480"/>
            <a:ext cx="1710000" cy="13683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1" descr="MC900215172[1]"/>
          <p:cNvPicPr/>
          <p:nvPr/>
        </p:nvPicPr>
        <p:blipFill>
          <a:blip r:embed="rId5"/>
          <a:stretch/>
        </p:blipFill>
        <p:spPr>
          <a:xfrm>
            <a:off x="7093080" y="1946160"/>
            <a:ext cx="1573200" cy="13813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2" descr="MC900250567[1]"/>
          <p:cNvPicPr/>
          <p:nvPr/>
        </p:nvPicPr>
        <p:blipFill>
          <a:blip r:embed="rId6"/>
          <a:stretch/>
        </p:blipFill>
        <p:spPr>
          <a:xfrm>
            <a:off x="5867280" y="2392200"/>
            <a:ext cx="1511280" cy="11080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0" descr="C:\Users\Sabina Kowalska\AppData\Local\Microsoft\Windows\Temporary Internet Files\Content.IE5\6BWPRNPK\MC900415470[1].wmf"/>
          <p:cNvPicPr/>
          <p:nvPr/>
        </p:nvPicPr>
        <p:blipFill>
          <a:blip r:embed="rId7"/>
          <a:stretch/>
        </p:blipFill>
        <p:spPr>
          <a:xfrm>
            <a:off x="568440" y="3903840"/>
            <a:ext cx="1863720" cy="15890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Users\Sabina Kowalska\AppData\Local\Microsoft\Windows\Temporary Internet Files\Content.IE5\WYT2V2DH\MC900029991[1].wmf"/>
          <p:cNvPicPr/>
          <p:nvPr/>
        </p:nvPicPr>
        <p:blipFill>
          <a:blip r:embed="rId8"/>
          <a:stretch/>
        </p:blipFill>
        <p:spPr>
          <a:xfrm>
            <a:off x="623880" y="5229360"/>
            <a:ext cx="1685880" cy="13046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8" descr="C:\Users\Sabina Kowalska\AppData\Local\Microsoft\Windows\Temporary Internet Files\Content.IE5\WYT2V2DH\MC900305241[1].wmf"/>
          <p:cNvPicPr/>
          <p:nvPr/>
        </p:nvPicPr>
        <p:blipFill>
          <a:blip r:embed="rId9"/>
          <a:stretch/>
        </p:blipFill>
        <p:spPr>
          <a:xfrm>
            <a:off x="10766520" y="7061040"/>
            <a:ext cx="1050840" cy="1258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C:\Users\Sabina Kowalska\AppData\Local\Microsoft\Windows\Temporary Internet Files\Content.IE5\6BWPRNPK\MC900318432[1].wmf"/>
          <p:cNvPicPr/>
          <p:nvPr/>
        </p:nvPicPr>
        <p:blipFill>
          <a:blip r:embed="rId10"/>
          <a:stretch/>
        </p:blipFill>
        <p:spPr>
          <a:xfrm>
            <a:off x="3068640" y="29894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505" name="Nawias klamrowy zamykający 6"/>
          <p:cNvSpPr/>
          <p:nvPr/>
        </p:nvSpPr>
        <p:spPr>
          <a:xfrm>
            <a:off x="2309760" y="1557360"/>
            <a:ext cx="749520" cy="4911840"/>
          </a:xfrm>
          <a:custGeom>
            <a:avLst/>
            <a:gdLst>
              <a:gd name="textAreaLeft" fmla="*/ 0 w 749520"/>
              <a:gd name="textAreaRight" fmla="*/ 270720 w 749520"/>
              <a:gd name="textAreaTop" fmla="*/ 19440 h 4911840"/>
              <a:gd name="textAreaBottom" fmla="*/ 4892400 h 491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8"/>
                  <a:pt x="10800" y="275"/>
                </a:cubicBezTo>
                <a:lnTo>
                  <a:pt x="10800" y="10525"/>
                </a:lnTo>
                <a:cubicBezTo>
                  <a:pt x="10800" y="10663"/>
                  <a:pt x="16200" y="10800"/>
                  <a:pt x="21600" y="10800"/>
                </a:cubicBezTo>
                <a:cubicBezTo>
                  <a:pt x="16200" y="10800"/>
                  <a:pt x="10800" y="10938"/>
                  <a:pt x="10800" y="11075"/>
                </a:cubicBezTo>
                <a:lnTo>
                  <a:pt x="10800" y="21325"/>
                </a:lnTo>
                <a:cubicBezTo>
                  <a:pt x="10800" y="2146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4b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ole tekstowe 13"/>
          <p:cNvSpPr/>
          <p:nvPr/>
        </p:nvSpPr>
        <p:spPr>
          <a:xfrm>
            <a:off x="3059280" y="1746360"/>
            <a:ext cx="21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System dualny „suche” , „mokre”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Nawias klamrowy zamykający 14"/>
          <p:cNvSpPr/>
          <p:nvPr/>
        </p:nvSpPr>
        <p:spPr>
          <a:xfrm>
            <a:off x="5076720" y="1746360"/>
            <a:ext cx="503280" cy="4722840"/>
          </a:xfrm>
          <a:custGeom>
            <a:avLst/>
            <a:gdLst>
              <a:gd name="textAreaLeft" fmla="*/ 0 w 503280"/>
              <a:gd name="textAreaRight" fmla="*/ 181800 w 503280"/>
              <a:gd name="textAreaTop" fmla="*/ 12960 h 4722840"/>
              <a:gd name="textAreaBottom" fmla="*/ 4709880 h 472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6"/>
                  <a:pt x="10800" y="192"/>
                </a:cubicBezTo>
                <a:lnTo>
                  <a:pt x="10800" y="10608"/>
                </a:lnTo>
                <a:cubicBezTo>
                  <a:pt x="10800" y="10704"/>
                  <a:pt x="16200" y="10800"/>
                  <a:pt x="21600" y="10800"/>
                </a:cubicBezTo>
                <a:cubicBezTo>
                  <a:pt x="16200" y="10800"/>
                  <a:pt x="10800" y="10896"/>
                  <a:pt x="10800" y="10992"/>
                </a:cubicBezTo>
                <a:lnTo>
                  <a:pt x="10800" y="21408"/>
                </a:lnTo>
                <a:cubicBezTo>
                  <a:pt x="10800" y="2150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4b7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ole tekstowe 15"/>
          <p:cNvSpPr/>
          <p:nvPr/>
        </p:nvSpPr>
        <p:spPr>
          <a:xfrm>
            <a:off x="6227640" y="5823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Pojemniki ogólnodostępn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775f55"/>
                </a:solidFill>
                <a:latin typeface="Lucida Sans Unicode"/>
              </a:rPr>
              <a:t>Właściciel nieruchomości</a:t>
            </a:r>
            <a:endParaRPr b="0" lang="en-US" sz="3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041120" y="2491920"/>
            <a:ext cx="67705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Lucida Sans Unicode"/>
              </a:rPr>
              <a:t>Właściciele nieruchomości w rozumieniu ustawy u.c.p. </a:t>
            </a: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to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właściciele, współwłaściciele,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użytkownicy wieczyści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jednostki organizacyjne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osoby posiadające nieruchomości w zarządzie lub użytkowaniu,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a także inne podmioty władające nieruchomością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2909-F99C-46A5-A2C7-4B7A1D888290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2" name="Picture 4" descr="MC900056531[1]"/>
          <p:cNvPicPr/>
          <p:nvPr/>
        </p:nvPicPr>
        <p:blipFill>
          <a:blip r:embed="rId1"/>
          <a:stretch/>
        </p:blipFill>
        <p:spPr>
          <a:xfrm>
            <a:off x="2987640" y="1231920"/>
            <a:ext cx="1008000" cy="10112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4" descr="MC900089336[1]"/>
          <p:cNvPicPr/>
          <p:nvPr/>
        </p:nvPicPr>
        <p:blipFill>
          <a:blip r:embed="rId2"/>
          <a:stretch/>
        </p:blipFill>
        <p:spPr>
          <a:xfrm>
            <a:off x="4788000" y="1138320"/>
            <a:ext cx="1055520" cy="11523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7" descr="MC900089320[1]"/>
          <p:cNvPicPr/>
          <p:nvPr/>
        </p:nvPicPr>
        <p:blipFill>
          <a:blip r:embed="rId3"/>
          <a:stretch/>
        </p:blipFill>
        <p:spPr>
          <a:xfrm>
            <a:off x="6372360" y="1179360"/>
            <a:ext cx="1104840" cy="9874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1" descr="MC900344289[1]"/>
          <p:cNvPicPr/>
          <p:nvPr/>
        </p:nvPicPr>
        <p:blipFill>
          <a:blip r:embed="rId4"/>
          <a:stretch/>
        </p:blipFill>
        <p:spPr>
          <a:xfrm>
            <a:off x="1403280" y="1179360"/>
            <a:ext cx="115272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775f55"/>
                </a:solidFill>
                <a:latin typeface="Lucida Sans Unicode"/>
              </a:rPr>
              <a:t>Właściciel nieruchomości</a:t>
            </a:r>
            <a:endParaRPr b="0" lang="en-US" sz="3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332000" y="2565360"/>
            <a:ext cx="6480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Właściciele nieruchomości zapewniają utrzymanie czystości i porządku przez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Lucida Sans Unicode"/>
              </a:rPr>
              <a:t>wyposażenie nieruchomości w pojemniki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służące do zbierania odpadów komunalnych oraz utrzymywanie tych pojemników w odpowiednim stanie sanitarnym, porządkowym i technicznym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Lucida Sans Unicode"/>
              </a:rPr>
              <a:t>zbieranie </a:t>
            </a:r>
            <a:r>
              <a:rPr b="0" lang="pl-PL" sz="2200" spc="-1" strike="noStrike">
                <a:solidFill>
                  <a:srgbClr val="000000"/>
                </a:solidFill>
                <a:latin typeface="Lucida Sans Unicode"/>
              </a:rPr>
              <a:t>powstałych na terenie nieruchomości odpadów komunalnych </a:t>
            </a:r>
            <a:r>
              <a:rPr b="1" lang="pl-PL" sz="2200" spc="-1" strike="noStrike">
                <a:solidFill>
                  <a:srgbClr val="000000"/>
                </a:solidFill>
                <a:latin typeface="Lucida Sans Unicode"/>
              </a:rPr>
              <a:t>zgodnie z wymaganiami określonymi w regulaminie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E061-A4D7-49A0-9F36-CCF5156BAF9D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9" name="Picture 4" descr="MC900056531[1]"/>
          <p:cNvPicPr/>
          <p:nvPr/>
        </p:nvPicPr>
        <p:blipFill>
          <a:blip r:embed="rId1"/>
          <a:stretch/>
        </p:blipFill>
        <p:spPr>
          <a:xfrm>
            <a:off x="3263760" y="1206360"/>
            <a:ext cx="1008360" cy="1011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4" descr="MC900089336[1]"/>
          <p:cNvPicPr/>
          <p:nvPr/>
        </p:nvPicPr>
        <p:blipFill>
          <a:blip r:embed="rId2"/>
          <a:stretch/>
        </p:blipFill>
        <p:spPr>
          <a:xfrm>
            <a:off x="4788000" y="1135080"/>
            <a:ext cx="1055520" cy="1152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7" descr="MC900089320[1]"/>
          <p:cNvPicPr/>
          <p:nvPr/>
        </p:nvPicPr>
        <p:blipFill>
          <a:blip r:embed="rId3"/>
          <a:stretch/>
        </p:blipFill>
        <p:spPr>
          <a:xfrm>
            <a:off x="6372360" y="1141560"/>
            <a:ext cx="1104840" cy="9871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1" descr="MC900344289[1]"/>
          <p:cNvPicPr/>
          <p:nvPr/>
        </p:nvPicPr>
        <p:blipFill>
          <a:blip r:embed="rId4"/>
          <a:stretch/>
        </p:blipFill>
        <p:spPr>
          <a:xfrm>
            <a:off x="1619280" y="1179360"/>
            <a:ext cx="115236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17440"/>
            <a:ext cx="814716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Lucida Sans Unicode"/>
              </a:rPr>
              <a:t>Deklaracja -</a:t>
            </a:r>
            <a:r>
              <a:rPr b="0" lang="pl-PL" sz="40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pl-PL" sz="1000" spc="-1" strike="noStrike">
                <a:solidFill>
                  <a:srgbClr val="ff0000"/>
                </a:solidFill>
                <a:latin typeface="Lucida Sans Unicode"/>
              </a:rPr>
              <a:t>Dokument który może być jednocześnie – zamówieniem usług</a:t>
            </a:r>
            <a:endParaRPr b="0" lang="en-US" sz="1000" spc="-1" strike="noStrike">
              <a:solidFill>
                <a:srgbClr val="775f55"/>
              </a:solidFill>
              <a:latin typeface="Lucida Sans Unicode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539640" y="981000"/>
          <a:ext cx="8153640" cy="5780160"/>
        </p:xfrm>
        <a:graphic>
          <a:graphicData uri="http://schemas.openxmlformats.org/drawingml/2006/table">
            <a:tbl>
              <a:tblPr/>
              <a:tblGrid>
                <a:gridCol w="2266920"/>
                <a:gridCol w="1809720"/>
                <a:gridCol w="2038680"/>
                <a:gridCol w="2038320"/>
              </a:tblGrid>
              <a:tr h="126000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Liczba osób przebywająca na terenie nieruchomośc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posób zbierania odpad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Opłata jednostkow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Opł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76140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Wpisać liczbę osó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Wybrać rodzaj zbierania odpadó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ok 2013 (wg uchwały Rady Gminy z dnia …… Nr ……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Przemnożyć liczbę osób przez opłatę jednostkow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0663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 oso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elektywny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(makulatura, szkło, tworzywa, met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tawka z uchwały (z VAT)  osobę/miesią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……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zł/miesią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7896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e dotyc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Zmiesz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tawka z uchwały (z VA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2014200">
                <a:tc gridSpan="4"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Usługi dodatkowe 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starczenie pojemnika : 120 l…..zł /mc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ycie pojemnika 120 l (1 x miesiąc) ….. zł/m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dbiór odpadów zielonych  120l (2 x miesiąc )…..zł/mc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stępne są inne usługi dodatkow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dbiór odpadów wielkogabarytowych  ….. zł/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dbiór odpadów budowlanych ….zł/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25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CE62-7EF6-4624-81F3-EECB4272D8AF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rostokąt zaokrąglony 5"/>
          <p:cNvSpPr/>
          <p:nvPr/>
        </p:nvSpPr>
        <p:spPr>
          <a:xfrm>
            <a:off x="7164360" y="5311800"/>
            <a:ext cx="216000" cy="14436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424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rostokąt zaokrąglony 7"/>
          <p:cNvSpPr/>
          <p:nvPr/>
        </p:nvSpPr>
        <p:spPr>
          <a:xfrm>
            <a:off x="7151760" y="5664240"/>
            <a:ext cx="216000" cy="14436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424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rostokąt zaokrąglony 9"/>
          <p:cNvSpPr/>
          <p:nvPr/>
        </p:nvSpPr>
        <p:spPr>
          <a:xfrm>
            <a:off x="7164360" y="5013360"/>
            <a:ext cx="216000" cy="14436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424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775f55"/>
                </a:solidFill>
                <a:latin typeface="Lucida Sans Unicode"/>
              </a:rPr>
              <a:t>Deklaracje </a:t>
            </a:r>
            <a:r>
              <a:rPr b="0" lang="pl-PL" sz="1200" spc="-1" strike="noStrike">
                <a:solidFill>
                  <a:srgbClr val="775f55"/>
                </a:solidFill>
                <a:latin typeface="Lucida Sans Unicode"/>
              </a:rPr>
              <a:t>(ustawa o utrzymaniu czystości i porządku w gminach)</a:t>
            </a:r>
            <a:r>
              <a:rPr b="0" lang="pl-PL" sz="3800" spc="-1" strike="noStrike">
                <a:solidFill>
                  <a:srgbClr val="775f55"/>
                </a:solidFill>
                <a:latin typeface="Lucida Sans Unicode"/>
              </a:rPr>
              <a:t> </a:t>
            </a:r>
            <a:endParaRPr b="0" lang="en-US" sz="3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249192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4B09-1F8B-44F9-9102-566047F6F2E7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2" name="Picture 4" descr="MC900344289[1]"/>
          <p:cNvPicPr/>
          <p:nvPr/>
        </p:nvPicPr>
        <p:blipFill>
          <a:blip r:embed="rId1"/>
          <a:stretch/>
        </p:blipFill>
        <p:spPr>
          <a:xfrm>
            <a:off x="7631280" y="765000"/>
            <a:ext cx="1225440" cy="1130400"/>
          </a:xfrm>
          <a:prstGeom prst="rect">
            <a:avLst/>
          </a:prstGeom>
          <a:ln w="0">
            <a:noFill/>
          </a:ln>
        </p:spPr>
      </p:pic>
      <p:sp>
        <p:nvSpPr>
          <p:cNvPr id="533" name="Prostokąt 1"/>
          <p:cNvSpPr/>
          <p:nvPr/>
        </p:nvSpPr>
        <p:spPr>
          <a:xfrm>
            <a:off x="1116000" y="2476440"/>
            <a:ext cx="691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eklaracje </a:t>
            </a:r>
            <a:r>
              <a:rPr b="0" lang="pl-PL" sz="2400" spc="-1" strike="noStrike">
                <a:solidFill>
                  <a:srgbClr val="0070c0"/>
                </a:solidFill>
                <a:latin typeface="Lucida Sans Unicode"/>
              </a:rPr>
              <a:t>(wzór uchwała Rady Gminy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Właściciel nieruchomości składa deklarację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o wysokości opłaty za gospodarowanie odpadami komunalnymi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 w terminie </a:t>
            </a: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14 dni 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d dnia zamieszkania na danej nieruchomości pierwszego mieszkańca lub powstania na danej nieruchomości odpadów komunalnych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Zmiana danych (np. liczba osób zamieszkujących) – nowa deklaracja </a:t>
            </a: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(14 dn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4" name="Picture 19" descr="MC900297161[1]"/>
          <p:cNvPicPr/>
          <p:nvPr/>
        </p:nvPicPr>
        <p:blipFill>
          <a:blip r:embed="rId2"/>
          <a:stretch/>
        </p:blipFill>
        <p:spPr>
          <a:xfrm>
            <a:off x="7885080" y="1978200"/>
            <a:ext cx="863640" cy="8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775f55"/>
                </a:solidFill>
                <a:latin typeface="Lucida Sans Unicode"/>
              </a:rPr>
              <a:t>Deklaracje </a:t>
            </a:r>
            <a:r>
              <a:rPr b="0" lang="pl-PL" sz="1200" spc="-1" strike="noStrike">
                <a:solidFill>
                  <a:srgbClr val="775f55"/>
                </a:solidFill>
                <a:latin typeface="Lucida Sans Unicode"/>
              </a:rPr>
              <a:t>(ustawa o utrzymaniu czystości i porządku w gminach)</a:t>
            </a:r>
            <a:r>
              <a:rPr b="0" lang="pl-PL" sz="3800" spc="-1" strike="noStrike">
                <a:solidFill>
                  <a:srgbClr val="775f55"/>
                </a:solidFill>
                <a:latin typeface="Lucida Sans Unicode"/>
              </a:rPr>
              <a:t> </a:t>
            </a:r>
            <a:endParaRPr b="0" lang="en-US" sz="3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68360" y="24206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CE82-916A-485B-9E13-D6EECA58D4D1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8" name="Picture 4" descr="MC900344289[1]"/>
          <p:cNvPicPr/>
          <p:nvPr/>
        </p:nvPicPr>
        <p:blipFill>
          <a:blip r:embed="rId1"/>
          <a:stretch/>
        </p:blipFill>
        <p:spPr>
          <a:xfrm>
            <a:off x="7236000" y="1271520"/>
            <a:ext cx="1223640" cy="1130400"/>
          </a:xfrm>
          <a:prstGeom prst="rect">
            <a:avLst/>
          </a:prstGeom>
          <a:ln w="0">
            <a:noFill/>
          </a:ln>
        </p:spPr>
      </p:pic>
      <p:sp>
        <p:nvSpPr>
          <p:cNvPr id="539" name="Prostokąt 1"/>
          <p:cNvSpPr/>
          <p:nvPr/>
        </p:nvSpPr>
        <p:spPr>
          <a:xfrm>
            <a:off x="1084320" y="2421000"/>
            <a:ext cx="7088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Wzór deklaracji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-objaśnienie dotyczące sposobu jej wypełnienia, terminy i miejsce składania deklaracj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-deklaracja stanowi podstawę do wystawienia tytułu wykonawczeg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Lucida Sans Unicode"/>
              </a:rPr>
              <a:t>Rada Gminy może określić wykaz dokumentów potwierdzających dane zawarte w deklaracji </a:t>
            </a: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(weryfikacja prawdziwości złożonej deklaracji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0" name="Picture 19" descr="MC900297161[1]"/>
          <p:cNvPicPr/>
          <p:nvPr/>
        </p:nvPicPr>
        <p:blipFill>
          <a:blip r:embed="rId2"/>
          <a:stretch/>
        </p:blipFill>
        <p:spPr>
          <a:xfrm>
            <a:off x="6084720" y="1484280"/>
            <a:ext cx="8636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775f55"/>
                </a:solidFill>
                <a:latin typeface="Lucida Sans Unicode"/>
              </a:rPr>
              <a:t>Deklaracje </a:t>
            </a:r>
            <a:r>
              <a:rPr b="0" lang="pl-PL" sz="1200" spc="-1" strike="noStrike">
                <a:solidFill>
                  <a:srgbClr val="775f55"/>
                </a:solidFill>
                <a:latin typeface="Lucida Sans Unicode"/>
              </a:rPr>
              <a:t>(ustawa o utrzymaniu czystości i porządku w gminach)</a:t>
            </a:r>
            <a:r>
              <a:rPr b="0" lang="pl-PL" sz="3800" spc="-1" strike="noStrike">
                <a:solidFill>
                  <a:srgbClr val="775f55"/>
                </a:solidFill>
                <a:latin typeface="Lucida Sans Unicode"/>
              </a:rPr>
              <a:t> </a:t>
            </a:r>
            <a:endParaRPr b="0" lang="en-US" sz="3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249192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2677-131A-45F2-A4D7-A1F6B70F3C04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4" name="Picture 4" descr="MC900344289[1]"/>
          <p:cNvPicPr/>
          <p:nvPr/>
        </p:nvPicPr>
        <p:blipFill>
          <a:blip r:embed="rId1"/>
          <a:stretch/>
        </p:blipFill>
        <p:spPr>
          <a:xfrm>
            <a:off x="7596360" y="260280"/>
            <a:ext cx="1223640" cy="1130400"/>
          </a:xfrm>
          <a:prstGeom prst="rect">
            <a:avLst/>
          </a:prstGeom>
          <a:ln w="0">
            <a:noFill/>
          </a:ln>
        </p:spPr>
      </p:pic>
      <p:sp>
        <p:nvSpPr>
          <p:cNvPr id="545" name="Prostokąt 1"/>
          <p:cNvSpPr/>
          <p:nvPr/>
        </p:nvSpPr>
        <p:spPr>
          <a:xfrm>
            <a:off x="1101600" y="1557360"/>
            <a:ext cx="770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eklaracje cd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eklaracja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niezłożona lub wątpliwa 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– wysokość opłaty ustalana w drodze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decyzji 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(np. na bazie średniej ilości odpadów komunalnych powstających na nieruchomościach o podobnym charakterze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płata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nie wniesiona lub za niska 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– decyzja jak dla zaległośc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W sprawach dotyczących opłat - stosuje się przepisy </a:t>
            </a: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ustawy z dnia 29 sierpnia 1997 r. -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Ordynacja podatkowa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, z tym że uprawnienia organów podatkowych przysługują wójtowi, burmistrzowi lub prezydentowi miast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775f55"/>
                </a:solidFill>
                <a:latin typeface="Lucida Sans Unicode"/>
              </a:rPr>
              <a:t>Opłaty </a:t>
            </a:r>
            <a:r>
              <a:rPr b="0" lang="pl-PL" sz="1200" spc="-1" strike="noStrike">
                <a:solidFill>
                  <a:srgbClr val="775f55"/>
                </a:solidFill>
                <a:latin typeface="Lucida Sans Unicode"/>
              </a:rPr>
              <a:t>(ustawa o utrzymaniu czystości i porządku w gminach)</a:t>
            </a:r>
            <a:r>
              <a:rPr b="0" lang="pl-PL" sz="3800" spc="-1" strike="noStrike">
                <a:solidFill>
                  <a:srgbClr val="775f55"/>
                </a:solidFill>
                <a:latin typeface="Lucida Sans Unicode"/>
              </a:rPr>
              <a:t> </a:t>
            </a:r>
            <a:endParaRPr b="0" lang="en-US" sz="3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249192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9F4E-13FC-4DFD-8AF9-3EA070DD2A29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9" name="Picture 4" descr="MC900344289[1]"/>
          <p:cNvPicPr/>
          <p:nvPr/>
        </p:nvPicPr>
        <p:blipFill>
          <a:blip r:embed="rId1"/>
          <a:stretch/>
        </p:blipFill>
        <p:spPr>
          <a:xfrm>
            <a:off x="7164360" y="620640"/>
            <a:ext cx="1224000" cy="1130400"/>
          </a:xfrm>
          <a:prstGeom prst="rect">
            <a:avLst/>
          </a:prstGeom>
          <a:ln w="0">
            <a:noFill/>
          </a:ln>
        </p:spPr>
      </p:pic>
      <p:sp>
        <p:nvSpPr>
          <p:cNvPr id="550" name="Prostokąt 1"/>
          <p:cNvSpPr/>
          <p:nvPr/>
        </p:nvSpPr>
        <p:spPr>
          <a:xfrm>
            <a:off x="1042920" y="1989000"/>
            <a:ext cx="741672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Koszty systemu gospodarowania odpadami komunalnymi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koszty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dbierania, transportu, zbierania, odzysku i unieszkodliwiania odpadów komunalnych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tworzenia i utrzymania punktów selektywnego zbierania odpadów komunalnych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obsługi administracyjnej tego systemu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Punkty selektywnego zbierania odpadów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476360" y="1557360"/>
          <a:ext cx="4711680" cy="5029200"/>
        </p:xfrm>
        <a:graphic>
          <a:graphicData uri="http://schemas.openxmlformats.org/drawingml/2006/table">
            <a:tbl>
              <a:tblPr/>
              <a:tblGrid>
                <a:gridCol w="3141720"/>
                <a:gridCol w="1569960"/>
              </a:tblGrid>
              <a:tr h="43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kt selektywnego zbierania odpadó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kłady inwestycyj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 1000 m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wardzeni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grodzeni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świetleni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da- przyłącze, kanalizacja- przyłącze lub szamb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enery na odpady (6 szt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ener -dozorcówka + pojemniki na odpady niebezpiecz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e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zty operacyj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yzacj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ługa (1 osoba 2 x tydzień po 6 godzin/dzień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wanie odpadów (odzysk unieszkodliwianie, transport) </a:t>
                      </a:r>
                      <a:r>
                        <a:rPr b="1" lang="pl-PL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% w tym ziel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94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336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Dyrektywa 1999/31 </a:t>
            </a: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składowiskowa 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63800" y="1988640"/>
            <a:ext cx="72165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Zapewnianie warunków </a:t>
            </a: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ograniczenia</a:t>
            </a: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 masy odpadów komunalnych ulegających </a:t>
            </a: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biodegradacji kierowanych do składowania</a:t>
            </a: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b) do dnia 16 lipca </a:t>
            </a:r>
            <a:r>
              <a:rPr b="0" lang="pl-PL" sz="2000" spc="-1" strike="noStrike">
                <a:solidFill>
                  <a:srgbClr val="ff0000"/>
                </a:solidFill>
                <a:latin typeface="Lucida Sans Unicode"/>
              </a:rPr>
              <a:t>2013 r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. - do nie więcej niż </a:t>
            </a:r>
            <a:r>
              <a:rPr b="0" lang="pl-PL" sz="2000" spc="-1" strike="noStrike">
                <a:solidFill>
                  <a:srgbClr val="ff0000"/>
                </a:solidFill>
                <a:latin typeface="Lucida Sans Unicode"/>
              </a:rPr>
              <a:t>50 % wagowo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całkowitej masy odpadów komunalnych ulegających biodegradacji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c) do dnia 16 lipca </a:t>
            </a:r>
            <a:r>
              <a:rPr b="0" lang="pl-PL" sz="2000" spc="-1" strike="noStrike">
                <a:solidFill>
                  <a:srgbClr val="ff0000"/>
                </a:solidFill>
                <a:latin typeface="Lucida Sans Unicode"/>
              </a:rPr>
              <a:t>2020 r.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- do nie więcej niż </a:t>
            </a:r>
            <a:r>
              <a:rPr b="0" lang="pl-PL" sz="2000" spc="-1" strike="noStrike">
                <a:solidFill>
                  <a:srgbClr val="ff0000"/>
                </a:solidFill>
                <a:latin typeface="Lucida Sans Unicode"/>
              </a:rPr>
              <a:t>35 % wagowo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całkowitej masy odpadów komunalnych ulegających biodegradacj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w stosunku do masy tych odpadów wytworzonych w 1995 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0328-A6D6-4EFF-9DAF-003A65D52145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Podsumowanie kosztów – nowego systemu gospodarowania odpadami komunalnymi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1258920" y="1773360"/>
          <a:ext cx="6481800" cy="3249360"/>
        </p:xfrm>
        <a:graphic>
          <a:graphicData uri="http://schemas.openxmlformats.org/drawingml/2006/table">
            <a:tbl>
              <a:tblPr/>
              <a:tblGrid>
                <a:gridCol w="2162160"/>
                <a:gridCol w="1081080"/>
                <a:gridCol w="1081080"/>
                <a:gridCol w="1081080"/>
                <a:gridCol w="1076400"/>
              </a:tblGrid>
              <a:tr h="2682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i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e wejściow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mieszkańców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gromadzenie kg/os/ r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ość odpadów od mieszkańców (bez usług i turystów)Mg/r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ość odpadów od mieszkańców zbierana selektywnie -surowc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.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27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48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62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33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1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 m-w.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71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6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67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em powi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 94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09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Podsumowanie kosztów – nowego systemu gospodarowania odpadami komunalnymi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539640" y="1916280"/>
          <a:ext cx="8064720" cy="3349440"/>
        </p:xfrm>
        <a:graphic>
          <a:graphicData uri="http://schemas.openxmlformats.org/drawingml/2006/table">
            <a:tbl>
              <a:tblPr/>
              <a:tblGrid>
                <a:gridCol w="2017800"/>
                <a:gridCol w="1008000"/>
                <a:gridCol w="1008000"/>
                <a:gridCol w="1009800"/>
                <a:gridCol w="1008000"/>
                <a:gridCol w="1008000"/>
                <a:gridCol w="1005120"/>
              </a:tblGrid>
              <a:tr h="2570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i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y - odpady zmieszan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y - odpady selektywnie zebran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bieranie zł/r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port zł/r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eszkodliwianie zł/r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bieranie i przetwarzanie zł/r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port zł/r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kty selektywnego zbiarania odpadó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.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42 96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 45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684 81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 08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11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8 75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3 68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99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 67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 72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 73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 45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36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 22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20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3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62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 50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6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 86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45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 28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 m-w.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 46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15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7 06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 34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7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 97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6 96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36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 8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15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5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 09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em powi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05 05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 89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772 45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4 97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58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 46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 265 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 442 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Podsumowanie kosztów – nowego systemu gospodarowania odpadami komunalnymi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826920" y="1628640"/>
          <a:ext cx="7632720" cy="3594240"/>
        </p:xfrm>
        <a:graphic>
          <a:graphicData uri="http://schemas.openxmlformats.org/drawingml/2006/table">
            <a:tbl>
              <a:tblPr/>
              <a:tblGrid>
                <a:gridCol w="1927440"/>
                <a:gridCol w="961920"/>
                <a:gridCol w="992160"/>
                <a:gridCol w="992160"/>
                <a:gridCol w="690840"/>
                <a:gridCol w="688680"/>
                <a:gridCol w="690840"/>
                <a:gridCol w="688680"/>
              </a:tblGrid>
              <a:tr h="122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i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y administracyjne system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em Kosz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 jednostkowy zł/os/mc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 zł/M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 zł/m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 pojemnik 12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Koszty administacji, edukacji i punktów selektywnego gromadzenia /koszty całkowite 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.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642 7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3,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 2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 67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,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,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 2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9 25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,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1,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 2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9 71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5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,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7,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 m-w.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 0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77 09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,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7,4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 2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8 49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,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em powi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 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707 93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,6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Podsumowanie kosztów – nowego systemu gospodarowania odpadami komunalnymi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755640" y="1844640"/>
          <a:ext cx="7561440" cy="4646520"/>
        </p:xfrm>
        <a:graphic>
          <a:graphicData uri="http://schemas.openxmlformats.org/drawingml/2006/table">
            <a:tbl>
              <a:tblPr/>
              <a:tblGrid>
                <a:gridCol w="1079640"/>
                <a:gridCol w="1081080"/>
                <a:gridCol w="1079280"/>
                <a:gridCol w="1081080"/>
                <a:gridCol w="1079640"/>
                <a:gridCol w="1079640"/>
                <a:gridCol w="1081080"/>
              </a:tblGrid>
              <a:tr h="1738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ównanie kosztów - to nie jest cena usłu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Dzisiaj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Jutro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 jednostkowy zł/os/m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 zł/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 zł/m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 jednostkowy zł/os/m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 zł/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 zł/m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8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.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8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8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8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5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8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 m-w.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8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m.w.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41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em powi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879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ena = koszt + marża zysku 10% + VAT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7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71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775f55"/>
                </a:solidFill>
                <a:latin typeface="Lucida Sans Unicode"/>
              </a:rPr>
              <a:t>Podsumowanie kosztów – nowego systemu gospodarowania odpadami komunalnymi</a:t>
            </a:r>
            <a:endParaRPr b="0" lang="en-US" sz="2400" spc="-1" strike="noStrike">
              <a:solidFill>
                <a:srgbClr val="775f55"/>
              </a:solidFill>
              <a:latin typeface="Lucida Sans Unicode"/>
            </a:endParaRPr>
          </a:p>
        </p:txBody>
      </p:sp>
      <p:pic>
        <p:nvPicPr>
          <p:cNvPr id="562" name="Symbol zastępczy zawartości 7" descr=""/>
          <p:cNvPicPr/>
          <p:nvPr/>
        </p:nvPicPr>
        <p:blipFill>
          <a:blip r:embed="rId1"/>
          <a:stretch/>
        </p:blipFill>
        <p:spPr>
          <a:xfrm>
            <a:off x="615960" y="1603440"/>
            <a:ext cx="815004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System dualny 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dpady </a:t>
            </a:r>
            <a:r>
              <a:rPr b="0" lang="pl-PL" sz="2700" spc="-1" strike="noStrike">
                <a:solidFill>
                  <a:srgbClr val="ff0000"/>
                </a:solidFill>
                <a:latin typeface="Lucida Sans Unicode"/>
              </a:rPr>
              <a:t>„suche”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– głównie odpady opakowaniowe + gazety,  metale, drewno, tworzywa (nieopakowaniow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pady </a:t>
            </a:r>
            <a:r>
              <a:rPr b="0" lang="pl-PL" sz="2700" spc="-1" strike="noStrike">
                <a:solidFill>
                  <a:srgbClr val="ff0000"/>
                </a:solidFill>
                <a:latin typeface="Lucida Sans Unicode"/>
              </a:rPr>
              <a:t>„mokre”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– głównie odpady kuchenne biodegradowalne i ogrodowe.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Wyróżnia się podsystemy, w których wskazuje się, która z frakcji jest frakcją „resztkową” czyli do której należy wrzucić odpady niezdefiniowane (np. pieluchy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34A5-19AA-4D16-B18F-A30FDF99D641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Odpady – definicje 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Lucida Sans Unicode"/>
              </a:rPr>
              <a:t>Odpady komunalne </a:t>
            </a: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(art. 3 ustawy o odpadach – definicje)</a:t>
            </a: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- rozumie się przez to odpady powstające </a:t>
            </a:r>
            <a:r>
              <a:rPr b="1" lang="pl-PL" sz="2500" spc="-1" strike="noStrike">
                <a:solidFill>
                  <a:srgbClr val="000000"/>
                </a:solidFill>
                <a:latin typeface="Lucida Sans Unicode"/>
              </a:rPr>
              <a:t>w gospodarstwach domowych</a:t>
            </a: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, z wyłączeniem pojazdów wycofanych z eksploatacji, a także odpady </a:t>
            </a:r>
            <a:r>
              <a:rPr b="1" lang="pl-PL" sz="2500" spc="-1" strike="noStrike">
                <a:solidFill>
                  <a:srgbClr val="000000"/>
                </a:solidFill>
                <a:latin typeface="Lucida Sans Unicode"/>
              </a:rPr>
              <a:t>niezawierające odpadów niebezpiecznych pochodzące od innych wytwórców odpadów, które ze względu na swój charakter lub skład są podobne do odpadów powstających w gospodarstwach domowych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0000"/>
                </a:solidFill>
                <a:latin typeface="Lucida Sans Unicode"/>
              </a:rPr>
              <a:t>Kod 20 03 01 niesegregowane (zmieszane) odpady komunalne ( podgrupa inne odpady komunalne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BB6B-A13D-4B5D-89C2-FFB99ADED1B6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Opady - definicje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Lucida Sans Unicode"/>
              </a:rPr>
              <a:t>odpady zielone </a:t>
            </a:r>
            <a:r>
              <a:rPr b="0" lang="pl-PL" sz="1100" spc="-1" strike="noStrike">
                <a:solidFill>
                  <a:srgbClr val="000000"/>
                </a:solidFill>
                <a:latin typeface="Lucida Sans Unicode"/>
              </a:rPr>
              <a:t>(art. 3 ustawy o odpadach – definicje) </a:t>
            </a:r>
            <a:r>
              <a:rPr b="0" lang="pl-PL" sz="2700" spc="-1" strike="noStrike">
                <a:solidFill>
                  <a:srgbClr val="ff0000"/>
                </a:solidFill>
                <a:latin typeface="Lucida Sans Unicode"/>
              </a:rPr>
              <a:t>-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rozumie się przez to </a:t>
            </a:r>
            <a:r>
              <a:rPr b="1" lang="pl-PL" sz="2700" spc="-1" strike="noStrike">
                <a:solidFill>
                  <a:srgbClr val="000000"/>
                </a:solidFill>
                <a:latin typeface="Lucida Sans Unicode"/>
              </a:rPr>
              <a:t>stanowiące części roślin odpady komunalne pochodzące z pielęgnacji terenów zieleni oraz targowisk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, z wyjątkiem odpadów pochodzących z czyszczenia ulic i placów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Kody 20 03 02 – odpady z targowisk – część roślinna (podgrupa inne odpady komunalne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Kody 20 02 01 – odpady ulegające biodegradacji – część roślinna – (podgrupa odpady z ogrodów i parków w tym z cmentarzy)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5B91-3DDC-435A-8A8E-87DE3B38349F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Lucida Sans Unicode"/>
              </a:rPr>
              <a:t>Klasyfikacja odpadów </a:t>
            </a:r>
            <a:r>
              <a:rPr b="0" lang="pl-PL" sz="1400" spc="-1" strike="noStrike">
                <a:solidFill>
                  <a:srgbClr val="775f55"/>
                </a:solidFill>
                <a:latin typeface="Lucida Sans Unicode"/>
              </a:rPr>
              <a:t>(par 4 rozporządzenia w sprawie katalogu odpadów)</a:t>
            </a:r>
            <a:endParaRPr b="0" lang="en-US" sz="1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1. Odpady klasyfikuje się </a:t>
            </a:r>
            <a:r>
              <a:rPr b="1" lang="pl-PL" sz="1600" spc="-1" strike="noStrike">
                <a:solidFill>
                  <a:srgbClr val="000000"/>
                </a:solidFill>
                <a:latin typeface="Lucida Sans Unicode"/>
              </a:rPr>
              <a:t>według źródła powstawania</a:t>
            </a: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 w( grupach 01 do 12 lub 17 do 20, przypisując im odpowiedni kod sześciocyfrowy określający rodzaj odpadu (wyłączając kody kończące się na 99), z zastrzeżeniem ust. 5 i 6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2. W przypadku nieodnalezienia odpowiedniej pozycji w grupach 01 do 12 lub 17 do 20, odpady klasyfikuje się w grupach </a:t>
            </a:r>
            <a:r>
              <a:rPr b="1" lang="pl-PL" sz="1600" spc="-1" strike="noStrike">
                <a:solidFill>
                  <a:srgbClr val="000000"/>
                </a:solidFill>
                <a:latin typeface="Lucida Sans Unicode"/>
              </a:rPr>
              <a:t>13 (oleje), 14 (rozpuszczalniki)  i 15 (opakowaniowe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3. W przypadku nieodnalezienia odpowiedniej pozycji w grupach, o których mowa w ust. 2, odpady klasyfikuje się w grupie </a:t>
            </a:r>
            <a:r>
              <a:rPr b="1" lang="pl-PL" sz="1600" spc="-1" strike="noStrike">
                <a:solidFill>
                  <a:srgbClr val="000000"/>
                </a:solidFill>
                <a:latin typeface="Lucida Sans Unicode"/>
              </a:rPr>
              <a:t>16, (nie ujęte w innych podgrupach) </a:t>
            </a: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zawierającej odpady nieujęte w innych grupach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Lucida Sans Unicode"/>
              </a:rPr>
              <a:t>4. W przypadku nieodnalezienia odpowiedniej pozycji w grupie 16, odpady klasyfikuje się w grupie </a:t>
            </a:r>
            <a:r>
              <a:rPr b="1" lang="pl-PL" sz="1600" spc="-1" strike="noStrike">
                <a:solidFill>
                  <a:srgbClr val="ff0000"/>
                </a:solidFill>
                <a:latin typeface="Lucida Sans Unicode"/>
              </a:rPr>
              <a:t>według źródła powstawania</a:t>
            </a:r>
            <a:r>
              <a:rPr b="1" lang="pl-PL" sz="1600" spc="-1" strike="noStrike">
                <a:solidFill>
                  <a:srgbClr val="000000"/>
                </a:solidFill>
                <a:latin typeface="Lucida Sans Unicode"/>
              </a:rPr>
              <a:t>, przypisując im kod kończący się na </a:t>
            </a:r>
            <a:r>
              <a:rPr b="1" lang="pl-PL" sz="1600" spc="-1" strike="noStrike">
                <a:solidFill>
                  <a:srgbClr val="ff0000"/>
                </a:solidFill>
                <a:latin typeface="Lucida Sans Unicode"/>
              </a:rPr>
              <a:t>99</a:t>
            </a:r>
            <a:r>
              <a:rPr b="1" lang="pl-PL" sz="1600" spc="-1" strike="noStrike">
                <a:solidFill>
                  <a:srgbClr val="000000"/>
                </a:solidFill>
                <a:latin typeface="Lucida Sans Unicode"/>
              </a:rPr>
              <a:t> (inne niewymienione odpady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5. […] Odpady ze specyficznych gałęzi przemysłu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Lucida Sans Unicode"/>
              </a:rPr>
              <a:t>6. Odpady opakowaniowe będące odpadami komunalnymi, jeśli są zbierane selektywnie lub występują jako </a:t>
            </a:r>
            <a:r>
              <a:rPr b="1" lang="pl-PL" sz="1600" spc="-1" strike="noStrike">
                <a:solidFill>
                  <a:srgbClr val="ff0000"/>
                </a:solidFill>
                <a:latin typeface="Lucida Sans Unicode"/>
              </a:rPr>
              <a:t>zmieszane odpady opakowaniowe, klasyfikuje się w podgrupie 15 01</a:t>
            </a:r>
            <a:r>
              <a:rPr b="1" lang="pl-PL" sz="1600" spc="-1" strike="noStrike">
                <a:solidFill>
                  <a:srgbClr val="000000"/>
                </a:solidFill>
                <a:latin typeface="Lucida Sans Unicode"/>
              </a:rPr>
              <a:t>, a nie w 20 01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8267-0BED-48C0-9A60-15344B8E6C2E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Lucida Sans Unicode"/>
              </a:rPr>
              <a:t>System dualny -klasyfikacja odpadów</a:t>
            </a:r>
            <a:endParaRPr b="0" lang="en-US" sz="40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dpady </a:t>
            </a:r>
            <a:r>
              <a:rPr b="0" lang="pl-PL" sz="2700" spc="-1" strike="noStrike">
                <a:solidFill>
                  <a:srgbClr val="ff0000"/>
                </a:solidFill>
                <a:latin typeface="Lucida Sans Unicode"/>
              </a:rPr>
              <a:t>„suche”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– głównie odpady opakowaniowe + gazety,  metale, drewno, tworzywa (nieopakowaniow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1. zbierane selektywni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2. jak zaklasyfikować 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Lucida Sans Unicode"/>
              </a:rPr>
              <a:t>(6). Odpady opakowaniowe będące odpadami komunalnymi, jeśli są zbierane selektywnie lub występują jako zmieszane odpady opakowaniowe, klasyfikuje się w podgrupie 15 01, a nie w 20 01 – </a:t>
            </a:r>
            <a:r>
              <a:rPr b="1" lang="pl-PL" sz="1500" spc="-1" strike="noStrike">
                <a:solidFill>
                  <a:srgbClr val="000000"/>
                </a:solidFill>
                <a:latin typeface="Lucida Sans Unicode"/>
              </a:rPr>
              <a:t>odpady pomieszane opakowaniowe z innymi komunalnymi suchymi – czyli nie da się zaklasyfikować do 15.01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Lucida Sans Unicode"/>
              </a:rPr>
              <a:t>(4). W przypadku nieodnalezienia odpowiedniej pozycji w grupie 16, odpady klasyfikuje się w grupie </a:t>
            </a:r>
            <a:r>
              <a:rPr b="0" lang="pl-PL" sz="1500" spc="-1" strike="noStrike">
                <a:solidFill>
                  <a:srgbClr val="ff0000"/>
                </a:solidFill>
                <a:latin typeface="Lucida Sans Unicode"/>
              </a:rPr>
              <a:t>według źródła powstawania</a:t>
            </a:r>
            <a:r>
              <a:rPr b="0" lang="pl-PL" sz="1500" spc="-1" strike="noStrike">
                <a:solidFill>
                  <a:srgbClr val="000000"/>
                </a:solidFill>
                <a:latin typeface="Lucida Sans Unicode"/>
              </a:rPr>
              <a:t>, przypisując im kod kończący się na </a:t>
            </a:r>
            <a:r>
              <a:rPr b="0" lang="pl-PL" sz="1500" spc="-1" strike="noStrike">
                <a:solidFill>
                  <a:srgbClr val="ff0000"/>
                </a:solidFill>
                <a:latin typeface="Lucida Sans Unicode"/>
              </a:rPr>
              <a:t>99</a:t>
            </a:r>
            <a:r>
              <a:rPr b="0" lang="pl-PL" sz="1500" spc="-1" strike="noStrike">
                <a:solidFill>
                  <a:srgbClr val="000000"/>
                </a:solidFill>
                <a:latin typeface="Lucida Sans Unicode"/>
              </a:rPr>
              <a:t> (inne niewymienione odpady). </a:t>
            </a:r>
            <a:r>
              <a:rPr b="1" lang="pl-PL" sz="1500" spc="-1" strike="noStrike">
                <a:solidFill>
                  <a:srgbClr val="7030a0"/>
                </a:solidFill>
                <a:latin typeface="Lucida Sans Unicode"/>
              </a:rPr>
              <a:t>– klasyfikacja odpady komunalne segregowane i gromadzone selektywnie ( z wyłączeniem 15 01) – </a:t>
            </a:r>
            <a:r>
              <a:rPr b="1" lang="pl-PL" sz="1900" spc="-1" strike="noStrike">
                <a:solidFill>
                  <a:srgbClr val="7030a0"/>
                </a:solidFill>
                <a:latin typeface="Lucida Sans Unicode"/>
              </a:rPr>
              <a:t>20 01 99 – inne niewymienione frakcje zbierane selektywnie.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B052-415D-4122-BA43-74D101A171AE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Lucida Sans Unicode"/>
              </a:rPr>
              <a:t>Selektywne zbieranie odpadów </a:t>
            </a:r>
            <a:r>
              <a:rPr b="0" lang="pl-PL" sz="1400" spc="-1" strike="noStrike">
                <a:solidFill>
                  <a:srgbClr val="775f55"/>
                </a:solidFill>
                <a:latin typeface="Lucida Sans Unicode"/>
              </a:rPr>
              <a:t>(art. 3 ust 11 Dyrektywa 2008/98 )</a:t>
            </a:r>
            <a:endParaRPr b="0" lang="en-US" sz="1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„</a:t>
            </a: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selektywna zbiórka” </a:t>
            </a: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oznacza zbiórkę, w ramach której dany strumień odpadów obejmuje jedynie </a:t>
            </a: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odpady </a:t>
            </a:r>
            <a:r>
              <a:rPr b="1" lang="pl-PL" sz="2900" spc="-1" strike="noStrike" u="sng">
                <a:solidFill>
                  <a:srgbClr val="000000"/>
                </a:solidFill>
                <a:uFillTx/>
                <a:latin typeface="Lucida Sans Unicode"/>
              </a:rPr>
              <a:t>jednego rodzaju</a:t>
            </a: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 i o tym samym charakterze </a:t>
            </a: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w celu ułatwienia specyficznego przetwarzania;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3728-3A2D-4AE2-B9FE-9105C943E7FC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Lucida Sans Unicode"/>
              </a:rPr>
              <a:t>System dualny -klasyfikacja odpadów</a:t>
            </a:r>
            <a:endParaRPr b="0" lang="en-US" sz="40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pady </a:t>
            </a:r>
            <a:r>
              <a:rPr b="0" lang="pl-PL" sz="2700" spc="-1" strike="noStrike">
                <a:solidFill>
                  <a:srgbClr val="ff0000"/>
                </a:solidFill>
                <a:latin typeface="Lucida Sans Unicode"/>
              </a:rPr>
              <a:t>„mokre”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– głównie odpady kuchenne biodegradowalne i ogrodow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1. zbierane selektywni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2. jak zaklasyfikować 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0000"/>
                </a:solidFill>
                <a:latin typeface="Lucida Sans Unicode"/>
              </a:rPr>
              <a:t>20 01 08 </a:t>
            </a:r>
            <a:r>
              <a:rPr b="0" lang="pl-PL" sz="1500" spc="-1" strike="noStrike">
                <a:solidFill>
                  <a:srgbClr val="000000"/>
                </a:solidFill>
                <a:latin typeface="Lucida Sans Unicode"/>
              </a:rPr>
              <a:t>Odpady kuchenne ulegające biodegradacji (podgrupa odpady komunalne segregowane i gromadzone selektywnie) </a:t>
            </a:r>
            <a:r>
              <a:rPr b="0" lang="pl-PL" sz="1500" spc="-1" strike="noStrike">
                <a:solidFill>
                  <a:srgbClr val="ff0000"/>
                </a:solidFill>
                <a:latin typeface="Lucida Sans Unicode"/>
              </a:rPr>
              <a:t>+ 20 02 01 </a:t>
            </a:r>
            <a:r>
              <a:rPr b="0" lang="pl-PL" sz="1500" spc="-1" strike="noStrike">
                <a:solidFill>
                  <a:srgbClr val="000000"/>
                </a:solidFill>
                <a:latin typeface="Lucida Sans Unicode"/>
              </a:rPr>
              <a:t>Odpady ulegające biodegradacji (podgrupa odpady z ogrodów i parków w tym z cmentarzy) </a:t>
            </a:r>
            <a:r>
              <a:rPr b="1" lang="pl-PL" sz="1500" spc="-1" strike="noStrike">
                <a:solidFill>
                  <a:srgbClr val="000000"/>
                </a:solidFill>
                <a:latin typeface="Lucida Sans Unicode"/>
              </a:rPr>
              <a:t>– odpady pomieszane w dwóch podgrupach – czyli klasyfikujemy dalej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Lucida Sans Unicode"/>
              </a:rPr>
              <a:t>Jeśli wdrożono odrębny system zbierania dla kuchennych i odrębny dla ogrodowych to klasyfikujemy jak wyżej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Lucida Sans Unicode"/>
              </a:rPr>
              <a:t>(4). W przypadku nieodnalezienia odpowiedniej pozycji w grupie 16, odpady klasyfikuje się w grupie </a:t>
            </a:r>
            <a:r>
              <a:rPr b="0" lang="pl-PL" sz="1500" spc="-1" strike="noStrike">
                <a:solidFill>
                  <a:srgbClr val="ff0000"/>
                </a:solidFill>
                <a:latin typeface="Lucida Sans Unicode"/>
              </a:rPr>
              <a:t>według źródła powstawania</a:t>
            </a:r>
            <a:r>
              <a:rPr b="0" lang="pl-PL" sz="1500" spc="-1" strike="noStrike">
                <a:solidFill>
                  <a:srgbClr val="000000"/>
                </a:solidFill>
                <a:latin typeface="Lucida Sans Unicode"/>
              </a:rPr>
              <a:t>, przypisując im kod kończący się na </a:t>
            </a:r>
            <a:r>
              <a:rPr b="0" lang="pl-PL" sz="1500" spc="-1" strike="noStrike">
                <a:solidFill>
                  <a:srgbClr val="ff0000"/>
                </a:solidFill>
                <a:latin typeface="Lucida Sans Unicode"/>
              </a:rPr>
              <a:t>99</a:t>
            </a:r>
            <a:r>
              <a:rPr b="0" lang="pl-PL" sz="1500" spc="-1" strike="noStrike">
                <a:solidFill>
                  <a:srgbClr val="000000"/>
                </a:solidFill>
                <a:latin typeface="Lucida Sans Unicode"/>
              </a:rPr>
              <a:t> (inne niewymienione odpady). </a:t>
            </a:r>
            <a:r>
              <a:rPr b="1" lang="pl-PL" sz="1500" spc="-1" strike="noStrike">
                <a:solidFill>
                  <a:srgbClr val="7030a0"/>
                </a:solidFill>
                <a:latin typeface="Lucida Sans Unicode"/>
              </a:rPr>
              <a:t>– klasyfikacja Odpady komunalne segregowane i gromadzone selektywnie ( z wyłączeniem 15 01) – </a:t>
            </a:r>
            <a:r>
              <a:rPr b="1" lang="pl-PL" sz="2000" spc="-1" strike="noStrike">
                <a:solidFill>
                  <a:srgbClr val="7030a0"/>
                </a:solidFill>
                <a:latin typeface="Lucida Sans Unicode"/>
              </a:rPr>
              <a:t>20 01 99 – inne niewymienione frakcje zbierane selektywnie.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B4B4-5B91-4282-9B64-D08FB4FB7781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Lucida Sans Unicode"/>
              </a:rPr>
              <a:t>Szanse i zagrożenie systemu dualnego</a:t>
            </a:r>
            <a:endParaRPr b="0" lang="en-US" sz="40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Szanse :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wyższy poziom odzysku odpadów w wyniku segregacji mechanicznej (mniejsze zanieczyszczenie) oraz niższy koszt jednostkowy sortowania odpadów 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niższe koszty zbierania odpadów (tylko 2 pojemniki, zamiast np. 4 pojemników)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A85E-DA67-4130-8680-CDCE467932CA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Lucida Sans Unicode"/>
              </a:rPr>
              <a:t>Szanse i zagrożenie systemu dualnego</a:t>
            </a:r>
            <a:endParaRPr b="0" lang="en-US" sz="40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Zagrożenia: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To już nie jest odpad komunalny </a:t>
            </a:r>
            <a:r>
              <a:rPr b="0" lang="pl-PL" sz="2900" spc="-1" strike="noStrike" u="sng">
                <a:solidFill>
                  <a:srgbClr val="000000"/>
                </a:solidFill>
                <a:uFillTx/>
                <a:latin typeface="Lucida Sans Unicode"/>
              </a:rPr>
              <a:t>zmieszany</a:t>
            </a: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, może trafić do innych instalacji do przetwarzania odpadów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Przekierowanie strumienia odpadów do instalacji innych niż regionalne.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Naruszenie trwałości projektów dofinansowanych z UE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0B0B-B698-4E00-9579-0D8A2EEAAEAD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Przekazywanie zadań 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Obowiązki Gmin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Legislacyjne (nie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Akty prawa miejscowego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Administracyjne (nie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Wydanie decyzji administracyjnej o naliczeniu opłaty -w przypadku stwierdzenia że deklaracja jest niezłożona lub wątpliwa – wysokość opłaty ustalana w drodze decyzji np. na bazie średniej ilości odpadów komunalnych powstających na nieruchomościach o podobnym charakterze - przepisy ustawy z dnia 29 sierpnia 1997 r. - Ordynacja podatkowa, z tym że uprawnienia organów podatkowych przysługują wójtowi, burmistrzowi lub prezydentowi miasta)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Wydawanie decyzji o odroczeniu, rozłożeniu na raty, umorzeniu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Organizacyjne (tak)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przyjmowanie deklaracji, weryfikacja deklaracji, pobieranie opłat –windykacja , księgowość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993300"/>
                </a:solidFill>
                <a:latin typeface="Lucida Sans Unicode"/>
              </a:rPr>
              <a:t>Rozliczając mieszkańców według zużycia wody można skorzystać z narzędzi podmiotu zarządzającego wodociągami i kanalizacją, ale tylko w zakresie czynności organizacyjnych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993300"/>
                </a:solidFill>
                <a:latin typeface="Lucida Sans Unicode"/>
              </a:rPr>
              <a:t>Wodociągi informowałyby gminę o zaległościach, rozbieżnościach deklaracji itp., a gmina wydawałaby decyzje administracyjne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56E9-CF5E-4F0C-BDC6-091EE7CEB74A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Lucida Sans Unicode"/>
              </a:rPr>
              <a:t>Dziękuję za uwagę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Lucida Sans Unicode"/>
              </a:rPr>
              <a:t>Sabina Kowalska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Lucida Sans Unicode"/>
              </a:rPr>
              <a:t>Konsulting Inwestycyjny i Środowiskowy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Lucida Sans Unicode"/>
              </a:rPr>
              <a:t>Ul. Sikorskiego 34 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Lucida Sans Unicode"/>
              </a:rPr>
              <a:t>84-200 Wejherowo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Lucida Sans Unicode"/>
              </a:rPr>
              <a:t>sabina_kowalska@wp.p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Lucida Sans Unicode"/>
              </a:rPr>
              <a:t>Tel: 604 536 432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Lucida Sans Unicode"/>
              </a:rPr>
              <a:t>Fax: 58 333 13 26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1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35E3-CA2C-44A3-A315-4598F09D2B26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Lucida Sans Unicode"/>
              </a:rPr>
              <a:t>Selektywne zbieranie odpadów </a:t>
            </a:r>
            <a:r>
              <a:rPr b="0" lang="pl-PL" sz="1400" spc="-1" strike="noStrike">
                <a:solidFill>
                  <a:srgbClr val="775f55"/>
                </a:solidFill>
                <a:latin typeface="Lucida Sans Unicode"/>
              </a:rPr>
              <a:t>(art. 3 ust 3 pkt.15c ustawy o odpadach)</a:t>
            </a:r>
            <a:endParaRPr b="0" lang="en-US" sz="1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„</a:t>
            </a: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selektywne zbieranie” </a:t>
            </a:r>
            <a:r>
              <a:rPr b="0" lang="pl-PL" sz="2900" spc="-1" strike="noStrike">
                <a:solidFill>
                  <a:srgbClr val="000000"/>
                </a:solidFill>
                <a:latin typeface="Lucida Sans Unicode"/>
              </a:rPr>
              <a:t>- zbieranie, w ramach którego dany strumień odpadów, w celu ułatwienia określonego sposobu przetwarzania, </a:t>
            </a: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obejmuje jedynie rodzaje odpadów charakteryzujące się takimi samymi właściwościami i takim samym charakterem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8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6600"/>
                </a:solidFill>
                <a:latin typeface="Lucida Sans Unicode"/>
              </a:rPr>
              <a:t>System dualny i wielopojemnikowy – mieszczą się w tej definicj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Symbol zastępczy numeru slajdu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45D0-7126-4C13-B725-ACBCFC87D8E6}" type="slidenum">
              <a:rPr b="1" lang="pl-PL" sz="12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775f55"/>
                </a:solidFill>
                <a:latin typeface="Lucida Sans Unicode"/>
              </a:rPr>
              <a:t>Nowe obowiązki Gmin</a:t>
            </a:r>
            <a:r>
              <a:rPr b="0" lang="pl-PL" sz="1100" spc="-1" strike="noStrike">
                <a:solidFill>
                  <a:srgbClr val="775f55"/>
                </a:solidFill>
                <a:latin typeface="Lucida Sans Unicode"/>
              </a:rPr>
              <a:t>(ustawa o utrzymaniu czystości i porządku w gminach)</a:t>
            </a:r>
            <a:r>
              <a:rPr b="0" lang="pl-PL" sz="3400" spc="-1" strike="noStrike">
                <a:solidFill>
                  <a:srgbClr val="775f55"/>
                </a:solidFill>
                <a:latin typeface="Lucida Sans Unicode"/>
              </a:rPr>
              <a:t> </a:t>
            </a:r>
            <a:endParaRPr b="0" lang="en-US" sz="3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115640" y="1484280"/>
            <a:ext cx="7559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Nowe obowiązki gmin (2) art. 3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Lucida Sans Unicode"/>
              </a:rPr>
              <a:t>5) </a:t>
            </a:r>
            <a:r>
              <a:rPr b="1" lang="pl-PL" sz="2000" spc="-1" strike="noStrike">
                <a:solidFill>
                  <a:srgbClr val="002060"/>
                </a:solidFill>
                <a:latin typeface="Lucida Sans Unicode"/>
              </a:rPr>
              <a:t>ustanawiają selektywne zbieranie odpadów komunalnych </a:t>
            </a:r>
            <a:r>
              <a:rPr b="0" lang="pl-PL" sz="2000" spc="-1" strike="noStrike">
                <a:solidFill>
                  <a:srgbClr val="002060"/>
                </a:solidFill>
                <a:latin typeface="Lucida Sans Unicode"/>
              </a:rPr>
              <a:t>obejmujące co najmniej następujące frakcje odpadów: </a:t>
            </a:r>
            <a:r>
              <a:rPr b="1" lang="pl-PL" sz="2000" spc="-1" strike="noStrike">
                <a:solidFill>
                  <a:srgbClr val="0070c0"/>
                </a:solidFill>
                <a:latin typeface="Lucida Sans Unicode"/>
              </a:rPr>
              <a:t>papieru, metalu, tworzywa sztucznego, szkła i opakowań wielomateriałowych oraz odpadów komunalnych ulegających biodegradacji</a:t>
            </a:r>
            <a:r>
              <a:rPr b="0" lang="pl-PL" sz="2000" spc="-1" strike="noStrike">
                <a:solidFill>
                  <a:srgbClr val="0070c0"/>
                </a:solidFill>
                <a:latin typeface="Lucida Sans Unicode"/>
              </a:rPr>
              <a:t>, </a:t>
            </a:r>
            <a:r>
              <a:rPr b="0" lang="pl-PL" sz="2000" spc="-1" strike="noStrike">
                <a:solidFill>
                  <a:srgbClr val="002060"/>
                </a:solidFill>
                <a:latin typeface="Lucida Sans Unicode"/>
              </a:rPr>
              <a:t>w tym odpadów opakowaniowych ulegających biodegradacji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Lucida Sans Unicode"/>
              </a:rPr>
              <a:t>6) </a:t>
            </a:r>
            <a:r>
              <a:rPr b="1" lang="pl-PL" sz="2000" spc="-1" strike="noStrike">
                <a:solidFill>
                  <a:srgbClr val="002060"/>
                </a:solidFill>
                <a:latin typeface="Lucida Sans Unicode"/>
              </a:rPr>
              <a:t>tworzą punkty selektywnego zbierania odpadów komunalnych</a:t>
            </a:r>
            <a:r>
              <a:rPr b="0" lang="pl-PL" sz="2000" spc="-1" strike="noStrike">
                <a:solidFill>
                  <a:srgbClr val="002060"/>
                </a:solidFill>
                <a:latin typeface="Lucida Sans Unicode"/>
              </a:rPr>
              <a:t> w sposób zapewniający łatwy dostęp dla wszystkich mieszkańców gminy, w tym wskazują miejsca, w których mogą być prowadzone zbiórki zużytego sprzętu elektrycznego i elektronicznego pochodzącego z gospodarstw domowych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9FC4-078A-41D7-A4B8-CBB9B33EACD4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4" descr="MC900339254[2]"/>
          <p:cNvPicPr/>
          <p:nvPr/>
        </p:nvPicPr>
        <p:blipFill>
          <a:blip r:embed="rId1"/>
          <a:stretch/>
        </p:blipFill>
        <p:spPr>
          <a:xfrm>
            <a:off x="7740720" y="333360"/>
            <a:ext cx="9064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775f55"/>
                </a:solidFill>
                <a:latin typeface="Lucida Sans Unicode"/>
              </a:rPr>
              <a:t>Nowe obowiązki Gmin</a:t>
            </a:r>
            <a:r>
              <a:rPr b="0" lang="pl-PL" sz="1100" spc="-1" strike="noStrike">
                <a:solidFill>
                  <a:srgbClr val="775f55"/>
                </a:solidFill>
                <a:latin typeface="Lucida Sans Unicode"/>
              </a:rPr>
              <a:t>(ustawa o utrzymaniu czystości i porządku w gminach)</a:t>
            </a:r>
            <a:r>
              <a:rPr b="0" lang="pl-PL" sz="3400" spc="-1" strike="noStrike">
                <a:solidFill>
                  <a:srgbClr val="775f55"/>
                </a:solidFill>
                <a:latin typeface="Lucida Sans Unicode"/>
              </a:rPr>
              <a:t> </a:t>
            </a:r>
            <a:endParaRPr b="0" lang="en-US" sz="3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116000" y="1552320"/>
            <a:ext cx="757080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Lucida Sans Unicode"/>
              </a:rPr>
              <a:t>Nowe obowiązki gmin (3) art. 3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Lucida Sans Unicode"/>
              </a:rPr>
              <a:t>7) zapewniają </a:t>
            </a:r>
            <a:r>
              <a:rPr b="1" lang="pl-PL" sz="2000" spc="-1" strike="noStrike">
                <a:solidFill>
                  <a:srgbClr val="0070c0"/>
                </a:solidFill>
                <a:latin typeface="Lucida Sans Unicode"/>
              </a:rPr>
              <a:t>osiągnięcie odpowiednich poziomów recyklingu</a:t>
            </a:r>
            <a:r>
              <a:rPr b="0" lang="pl-PL" sz="2000" spc="-1" strike="noStrike">
                <a:solidFill>
                  <a:srgbClr val="0070c0"/>
                </a:solidFill>
                <a:latin typeface="Lucida Sans Unicode"/>
              </a:rPr>
              <a:t>, </a:t>
            </a:r>
            <a:r>
              <a:rPr b="0" lang="pl-PL" sz="2000" spc="-1" strike="noStrike">
                <a:solidFill>
                  <a:srgbClr val="002060"/>
                </a:solidFill>
                <a:latin typeface="Lucida Sans Unicode"/>
              </a:rPr>
              <a:t>przygotowania do ponownego użycia i odzysku innymi metodami oraz ograniczenia masy odpadów komunalnych ulegających biodegradacji przekazywanych do składowania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8) prowadzą działania 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informacyjne i edukacyjne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w zakresie prawidłowego gospodarowania odpadami komunalnymi, w szczególności w zakresie selektywnego zbierania odpadów komunalnych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D43D-14EB-4198-ACDA-B5ABC7426FCE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Picture 4" descr="MC900339254[2]"/>
          <p:cNvPicPr/>
          <p:nvPr/>
        </p:nvPicPr>
        <p:blipFill>
          <a:blip r:embed="rId1"/>
          <a:stretch/>
        </p:blipFill>
        <p:spPr>
          <a:xfrm>
            <a:off x="7667640" y="457200"/>
            <a:ext cx="9064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Lucida Sans Unicode"/>
              </a:rPr>
              <a:t>Dyrektywa ramowa 2008/98</a:t>
            </a:r>
            <a:endParaRPr b="0" lang="en-US" sz="44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Lucida Sans Unicode"/>
              </a:rPr>
              <a:t>Hierarchia postępowania z odpadami</a:t>
            </a:r>
            <a:r>
              <a:rPr b="0" lang="pl-PL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Lucida Sans Unicode"/>
              </a:rPr>
              <a:t>(zasada 5 kroków) (art 4): 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apobieganie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rzygotowywanie do ponownego użycia; (nowe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recykling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inne metody odzysku, np. odzysk energii; (spalanie odpadów komunalnych jest odzyskiem jeśli efektywność energetyczna &gt;0,65); </a:t>
            </a:r>
            <a:r>
              <a:rPr b="0" lang="pl-PL" sz="2700" spc="-1" strike="noStrike">
                <a:solidFill>
                  <a:srgbClr val="ff0000"/>
                </a:solidFill>
                <a:latin typeface="Lucida Sans Unicode"/>
              </a:rPr>
              <a:t>spalanie nie jest recyklingiem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unieszkodliwiani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Symbol zastępczy numeru slajdu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A3BF-0B96-4F3F-8439-5F5C94681869}" type="slidenum">
              <a:rPr b="1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Picture 4" descr="MC900339254[2]"/>
          <p:cNvPicPr/>
          <p:nvPr/>
        </p:nvPicPr>
        <p:blipFill>
          <a:blip r:embed="rId1"/>
          <a:stretch/>
        </p:blipFill>
        <p:spPr>
          <a:xfrm>
            <a:off x="7956720" y="262080"/>
            <a:ext cx="9061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2:23:40Z</dcterms:created>
  <dc:creator/>
  <dc:description/>
  <dc:language>en-US</dc:language>
  <cp:lastModifiedBy/>
  <dcterms:modified xsi:type="dcterms:W3CDTF">2012-05-10T14:02:0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202179990</vt:lpwstr>
  </property>
</Properties>
</file>