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gif" ContentType="image/gif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3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2.gif" ContentType="image/gi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26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F61B-3F8B-4462-9A0E-75756372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596-1D74-40E5-9C08-A3E40AFE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CEB0-FE64-4AFD-AB29-03F56B4C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4C1-888E-40DB-96D8-5316701F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9DE7-3034-4824-82A4-879A507B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886A-9C5A-4173-910B-E5CD5930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FDC9-2627-490E-8E82-AE894AE2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0146-4157-43FD-9F27-787D9CD3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75A4-C7B8-484A-AD94-79B9ABA3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341D-81DF-41A2-93D7-101EF97F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7517-EF1E-4491-953D-73B24C2B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0C0-121A-4F37-9581-B54384B7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3E15-98B0-475F-BFCC-BC4894A8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C5DB-1373-467B-AD45-97780700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E9CD-CEC1-4C43-8CAF-6D43504B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A6BF-1339-40BA-8A84-3C52CB63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3E26-A978-4522-ACD6-C6546CCE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59DFF-05D8-49B9-862C-D98DD03E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78786-B299-4FAF-95C2-A6C760AD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B25C9-0F9F-49F5-976B-34155E19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4EDAB7-5E02-45D0-ABA0-1D9612A6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39517-61B5-49D6-AC5C-4C11FA16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2B51-2488-4B2A-8C18-D5DDE885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C273F-5EEF-415E-9E7E-181DA5A2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9B541-31C1-4ECF-8476-6A8B825A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D0CF6-DA4B-47E1-BF69-B6369A7D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B5ABF-3F81-489D-BD08-322C0D24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496E6-F1E6-40B4-9288-A85CE0FB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FDE68-85FE-4765-B559-6FEC668F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B90CA-0325-4EC5-BF49-57D5B1D2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8E970B-66EA-4C2A-A362-D83A9894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17050F-ADF2-4F7F-B8CF-08C43DEB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337F04-C8D2-4B3C-AB9A-13B6B304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A80-07E2-449D-825D-B1E3BF63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2D8696-92F8-455F-8F1A-483014A0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74A0A9-985C-4E61-89D1-A0382CC5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7F3F1D-AB37-4737-9515-A1E9801E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A9D46-E70D-4E2D-A029-6C2CE724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C0CBEC-01F2-4FFD-94D8-053B4262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6E52BA-065D-4B8A-9D1F-CE9CC146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A9F964-8C8F-4D72-A54A-502C3527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830CED-2805-47A6-B92B-31F678B6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AB3386-B25E-4DE0-AE6C-001C31FD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CF02F6-4FE0-4B26-B15B-458F1F41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3D7-6B87-458B-AE49-4907852C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4E246-A37B-4EC7-B5D1-91A15141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2FE6A-4A1C-4C05-8A63-B4550C30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4A573C-1B58-4731-B5F5-90A0FC35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1CF405-68F7-4C70-A4E3-84BE8C4F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C75B9F-5B0A-41E4-A2C1-C3B9AF44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4D8C5-A84E-49E4-87E3-B6805FD3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E4213-8DDF-4584-87B0-D267C0F2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A0C32-0047-4A70-A5D1-04B65029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1398C-11C5-42DC-840E-FAB67AE5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FCDE9-39DB-48DD-8FB3-214E6ABE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5C3-F2BA-452E-9F45-1A0E7B8E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81E34-CDDD-439A-8DF8-04AF77C2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8F95A-9EA0-407B-B90C-200B0B8E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C6167-DAB1-4C94-8525-32AFEBCE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3E213-475E-4EC4-AD42-B0A2DA14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840E2-12CB-475C-8147-537BCA00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63414-421B-4B4C-A779-3E89AE31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49865-5C88-4F97-80EB-5A94B454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A755F-22D4-4528-BE2C-26D9654C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2AC5D-7E5A-444B-8AB6-4DF0752B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023E0-9D9D-443F-83A2-B6E1745E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BC6-9208-4BD1-96E9-1F1C5B12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594A1-5958-4E74-B1A5-27A026C8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ECF4F-E37C-4BAE-A471-952C574C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97A94-406E-413A-9A6D-6C479B52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E98F0A-A457-4AC5-9464-BED440DC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DEE301-10D2-4BA3-B82A-9A50E589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CA9FDA-D92E-4BFE-9842-FC590438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AC1578-798C-4CF2-835F-7D332B5F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465BE5-30A7-446D-8F6D-E5654C13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A22EF7-4D5F-47BE-82A2-62DA7AE1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31C359-3267-4DB2-B49A-6B1EF3D2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E85-54D1-4A47-8A07-190E181D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2C6188-2EA2-43B8-9722-6F06D212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98CBA1-B5DD-4810-AB76-B06A7723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8F8A82-FCA4-44F4-9308-061F4D74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A9F869-5A6C-4C16-BACE-A3182EAF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581C3D-655B-470A-A530-2924B85E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03B57-FD4D-4F0D-A41A-623A5E16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8600B-AC77-4BD9-A66B-BE777E4D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41A53-78D5-47FD-9412-DE85F849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C1D84-70F3-41DC-BCC3-56DE4641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C28F9-1957-4A00-85D2-FFA3E6F2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189-7417-4E81-8B07-96F011F4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CE768-D701-4C63-8AC5-107E21F0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30CED-5919-4C05-988F-E1E4518F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2A0C1-6F5F-4C13-8DB7-6E586E41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C253D-F63B-4766-8E96-316B0500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19809-AB81-4DD2-963C-23EDD2D6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90D29-2560-4EB7-87F2-B0096E7D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E77FF-90BA-497C-B365-82E1A18E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3D3D-EFBF-4543-8F6A-F7F9498E04C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2701-000B-49EB-8847-524A3A22F87C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8BA2-CE66-4695-8F37-E17E53130C26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4FB4-E305-471D-AFFC-E663AE713E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D341-9CC8-4313-AB6C-8C8F40DCD7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BBC8-570D-454B-9F84-38BEDE1FB02B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2521-1B3B-496C-8C0D-090DFCDE0348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9B83-E19D-407F-974C-2AD0149704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5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5.wmf"/><Relationship Id="rId11" Type="http://schemas.openxmlformats.org/officeDocument/2006/relationships/image" Target="../media/image12.gif"/><Relationship Id="rId12" Type="http://schemas.openxmlformats.org/officeDocument/2006/relationships/image" Target="../media/image13.png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image" Target="../media/image8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12.gif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14.wmf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24.wmf"/><Relationship Id="rId8" Type="http://schemas.openxmlformats.org/officeDocument/2006/relationships/image" Target="../media/image14.wmf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24.wmf"/><Relationship Id="rId8" Type="http://schemas.openxmlformats.org/officeDocument/2006/relationships/image" Target="../media/image14.wmf"/><Relationship Id="rId9" Type="http://schemas.openxmlformats.org/officeDocument/2006/relationships/image" Target="../media/image25.wmf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2133360"/>
            <a:ext cx="6476760" cy="37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ZASADY WDROŻENIA GOSPODARKI ODPADAMI KOMUNALNYMI W GMINIE – SELEKTYWNE ZBIERANIE ODPADÓW</a:t>
            </a:r>
            <a:endParaRPr b="0" lang="en-US" sz="4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Lucida Sans Unicode"/>
              </a:rPr>
              <a:t>Gdańsk, 11 maja 2012r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rzepisy dot. selektywnego zbierania odpadów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Art 4 Regulamin określa […]: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prowadzenie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we wskazanym zakresie selektywnego zbierania i odbierania odpadów komunalnych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, w tym powstających w gospodarstwach domowych </a:t>
            </a:r>
            <a:r>
              <a:rPr b="1" lang="pl-PL" sz="2400" spc="-1" strike="noStrike">
                <a:solidFill>
                  <a:srgbClr val="0070c0"/>
                </a:solidFill>
                <a:latin typeface="Lucida Sans Unicode"/>
              </a:rPr>
              <a:t>przeterminowanych leków i chemikaliów, zużytych baterii i akumulatorów, zużytego sprzętu elektrycznego i elektronicznego, mebli i innych odpadów wielkogabarytowych, odpadów budowlanych i rozbiórkowych oraz zużytych opon, a także odpadów zielonych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rzepisy dot. selektywnego zbierania odpadów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Art 4 Regulamin określa […]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rodzaju i minimalnej pojemności pojemników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przeznaczonych do zbierania odpadów komunalnych na terenie nieruchomości […]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warunków rozmieszczania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tych pojemników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utrzymania w odpowiednim stanie sanitarnym, porządkowym i technicznym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przy uwzględnieniu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średniej ilości odpadów komunalnych wytwarzanych w gospodarstwach domowych[…]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liczby osób korzystających z tych pojemników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częstotliwości i sposobu pozbywania się odpadów komunalnych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rzepisy dot. selektywnego zbierania odpadów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599840"/>
            <a:ext cx="81532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Art. 6.1.4. </a:t>
            </a:r>
            <a:r>
              <a:rPr b="0" lang="pl-PL" sz="2400" spc="-1" strike="noStrike">
                <a:solidFill>
                  <a:srgbClr val="0070c0"/>
                </a:solidFill>
                <a:latin typeface="Lucida Sans Unicode"/>
              </a:rPr>
              <a:t>(górne stawki opłat, gdzie gmina nie przejmuje obowiązków)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Rada gminy określając stawki opłat [..],stosuje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niższe stawki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, jeżeli odpady komunalne są zbierane i odbierane w sposób selektywn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Art. 6k.3. </a:t>
            </a:r>
            <a:r>
              <a:rPr b="0" lang="pl-PL" sz="2400" spc="-1" strike="noStrike">
                <a:solidFill>
                  <a:srgbClr val="0070c0"/>
                </a:solidFill>
                <a:latin typeface="Lucida Sans Unicode"/>
              </a:rPr>
              <a:t>(podstawowe stawki opłat, gdzie gmina przejmuje obowiązki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Rada gminy określi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niższe stawki opłaty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a gospodarowanie odpadami komunalnymi,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jeżeli odpady komunalne są zbierane i odbierane w sposób selektywny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rzepisy dot. selektywnego zbierania odpadów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599840"/>
            <a:ext cx="81532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Art. 9f.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 W przypadku niedopełniania przez właściciela nieruchomości obowiązku w zakresie selektywnego zbierania odpadów komunalnych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podmiot odbierający odpady komunalne przyjmuje je jako zmieszane odpady komunalne i powiadamia o tym gminę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Zadania 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Wdrożyć zbieranie selektywne odpadów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Uruchomić punkty selektywnego zbierania odpadów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Ustalić opłatę niższą , gdy odpady są zbierane selektywnie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„</a:t>
            </a: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Naprostować”  tych co nie zbierają selektywnie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Osiągnąć poziomy recyklingu w poszczególnych latach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775f55"/>
                </a:solidFill>
                <a:latin typeface="Lucida Sans Unicode"/>
              </a:rPr>
              <a:t>Jak to ma chodzić po rewolucji- </a:t>
            </a:r>
            <a:br>
              <a:rPr sz="3400"/>
            </a:br>
            <a:r>
              <a:rPr b="0" lang="pl-PL" sz="1300" spc="-1" strike="noStrike">
                <a:solidFill>
                  <a:srgbClr val="775f55"/>
                </a:solidFill>
                <a:latin typeface="Lucida Sans Unicode"/>
              </a:rPr>
              <a:t>gdy gmina przejmuje wszystkie obowiązki</a:t>
            </a:r>
            <a:r>
              <a:rPr b="0" lang="pl-PL" sz="3400" spc="-1" strike="noStrike">
                <a:solidFill>
                  <a:srgbClr val="775f55"/>
                </a:solidFill>
                <a:latin typeface="Lucida Sans Unicode"/>
              </a:rPr>
              <a:t> </a:t>
            </a:r>
            <a:endParaRPr b="0" lang="en-US" sz="3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94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8240-B5F9-4472-85E3-1F3214C481FE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4" descr="MC900056531[1]"/>
          <p:cNvPicPr/>
          <p:nvPr/>
        </p:nvPicPr>
        <p:blipFill>
          <a:blip r:embed="rId1"/>
          <a:stretch/>
        </p:blipFill>
        <p:spPr>
          <a:xfrm>
            <a:off x="1068480" y="1590840"/>
            <a:ext cx="1127160" cy="11300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MC900251189[1]"/>
          <p:cNvPicPr/>
          <p:nvPr/>
        </p:nvPicPr>
        <p:blipFill>
          <a:blip r:embed="rId2"/>
          <a:stretch/>
        </p:blipFill>
        <p:spPr>
          <a:xfrm>
            <a:off x="2916360" y="2573280"/>
            <a:ext cx="431640" cy="370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MC900344289[1]"/>
          <p:cNvPicPr/>
          <p:nvPr/>
        </p:nvPicPr>
        <p:blipFill>
          <a:blip r:embed="rId3"/>
          <a:stretch/>
        </p:blipFill>
        <p:spPr>
          <a:xfrm>
            <a:off x="3622680" y="2894040"/>
            <a:ext cx="1585800" cy="1463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MC900089336[1]"/>
          <p:cNvPicPr/>
          <p:nvPr/>
        </p:nvPicPr>
        <p:blipFill>
          <a:blip r:embed="rId4"/>
          <a:stretch/>
        </p:blipFill>
        <p:spPr>
          <a:xfrm>
            <a:off x="947880" y="3068640"/>
            <a:ext cx="1055520" cy="1152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7" descr="MC900089320[1]"/>
          <p:cNvPicPr/>
          <p:nvPr/>
        </p:nvPicPr>
        <p:blipFill>
          <a:blip r:embed="rId5"/>
          <a:stretch/>
        </p:blipFill>
        <p:spPr>
          <a:xfrm>
            <a:off x="973080" y="4437000"/>
            <a:ext cx="1440000" cy="12873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9" descr="MC900251189[1]"/>
          <p:cNvPicPr/>
          <p:nvPr/>
        </p:nvPicPr>
        <p:blipFill>
          <a:blip r:embed="rId6"/>
          <a:stretch/>
        </p:blipFill>
        <p:spPr>
          <a:xfrm>
            <a:off x="3303720" y="4253040"/>
            <a:ext cx="431640" cy="369720"/>
          </a:xfrm>
          <a:prstGeom prst="rect">
            <a:avLst/>
          </a:prstGeom>
          <a:ln w="0">
            <a:noFill/>
          </a:ln>
        </p:spPr>
      </p:pic>
      <p:grpSp>
        <p:nvGrpSpPr>
          <p:cNvPr id="401" name="Group 37"/>
          <p:cNvGrpSpPr/>
          <p:nvPr/>
        </p:nvGrpSpPr>
        <p:grpSpPr>
          <a:xfrm>
            <a:off x="4260960" y="1758960"/>
            <a:ext cx="1225440" cy="781200"/>
            <a:chOff x="4260960" y="1758960"/>
            <a:chExt cx="1225440" cy="781200"/>
          </a:xfrm>
        </p:grpSpPr>
        <p:pic>
          <p:nvPicPr>
            <p:cNvPr id="402" name="Picture 26" descr="MC900437503[1]"/>
            <p:cNvPicPr/>
            <p:nvPr/>
          </p:nvPicPr>
          <p:blipFill>
            <a:blip r:embed="rId7"/>
            <a:stretch/>
          </p:blipFill>
          <p:spPr>
            <a:xfrm>
              <a:off x="4260960" y="1959480"/>
              <a:ext cx="58680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31" descr="MC900215172[1]"/>
            <p:cNvPicPr/>
            <p:nvPr/>
          </p:nvPicPr>
          <p:blipFill>
            <a:blip r:embed="rId8"/>
            <a:stretch/>
          </p:blipFill>
          <p:spPr>
            <a:xfrm>
              <a:off x="4803840" y="1758960"/>
              <a:ext cx="452160" cy="3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32" descr="MC900250567[1]"/>
            <p:cNvPicPr/>
            <p:nvPr/>
          </p:nvPicPr>
          <p:blipFill>
            <a:blip r:embed="rId9"/>
            <a:stretch/>
          </p:blipFill>
          <p:spPr>
            <a:xfrm>
              <a:off x="4803840" y="2039400"/>
              <a:ext cx="682560" cy="50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WordArt 34"/>
          <p:cNvSpPr txBox="1"/>
          <p:nvPr/>
        </p:nvSpPr>
        <p:spPr>
          <a:xfrm>
            <a:off x="1476360" y="3284640"/>
            <a:ext cx="93672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chwał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WordArt 35"/>
          <p:cNvSpPr txBox="1"/>
          <p:nvPr/>
        </p:nvSpPr>
        <p:spPr>
          <a:xfrm>
            <a:off x="2195640" y="4508640"/>
            <a:ext cx="93636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chwał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7" name="Picture 28" descr="MC900251189[1]"/>
          <p:cNvPicPr/>
          <p:nvPr/>
        </p:nvPicPr>
        <p:blipFill>
          <a:blip r:embed="rId10"/>
          <a:stretch/>
        </p:blipFill>
        <p:spPr>
          <a:xfrm>
            <a:off x="2771640" y="3625920"/>
            <a:ext cx="432000" cy="369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1" descr="MM900282803[1]"/>
          <p:cNvPicPr/>
          <p:nvPr/>
        </p:nvPicPr>
        <p:blipFill>
          <a:blip r:embed="rId11"/>
          <a:stretch/>
        </p:blipFill>
        <p:spPr>
          <a:xfrm>
            <a:off x="3476520" y="45846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409" name="Prostokąt 1"/>
          <p:cNvSpPr/>
          <p:nvPr/>
        </p:nvSpPr>
        <p:spPr>
          <a:xfrm>
            <a:off x="5580000" y="1933560"/>
            <a:ext cx="3365640" cy="36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Obligatoryjne uchwały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regulamin utrzymania czystości i porządku w gminie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stawki opła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termin, częstotliwość i tryb uiszczania opłat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wzór deklaracji o wysokości opłat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szczegółowy sposób i zakres świadczenia usług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(ilość odpadów, częstotliwość odbioru, sposób świadczenia usług przez punkty selektywnego zbierania odpadów komunalnych)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WordArt 34" descr=""/>
          <p:cNvPicPr/>
          <p:nvPr/>
        </p:nvPicPr>
        <p:blipFill>
          <a:blip r:embed="rId12"/>
          <a:stretch/>
        </p:blipFill>
        <p:spPr>
          <a:xfrm>
            <a:off x="1828800" y="2193840"/>
            <a:ext cx="1085760" cy="8114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Users\Sabina Kowalska\AppData\Local\Microsoft\Windows\Temporary Internet Files\Content.IE5\WYT2V2DH\MC900029991[1].wmf"/>
          <p:cNvPicPr/>
          <p:nvPr/>
        </p:nvPicPr>
        <p:blipFill>
          <a:blip r:embed="rId13"/>
          <a:stretch/>
        </p:blipFill>
        <p:spPr>
          <a:xfrm>
            <a:off x="1476360" y="5157720"/>
            <a:ext cx="12207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75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75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775f55"/>
                </a:solidFill>
                <a:latin typeface="Lucida Sans Unicode"/>
              </a:rPr>
              <a:t>Jak to ma chodzić po rewolucji – </a:t>
            </a:r>
            <a:br>
              <a:rPr sz="3400"/>
            </a:br>
            <a:r>
              <a:rPr b="0" lang="pl-PL" sz="1300" spc="-1" strike="noStrike">
                <a:solidFill>
                  <a:srgbClr val="775f55"/>
                </a:solidFill>
                <a:latin typeface="Lucida Sans Unicode"/>
              </a:rPr>
              <a:t>gdy gmina nie przejmuje wszystkich obowiązków</a:t>
            </a:r>
            <a:r>
              <a:rPr b="0" lang="pl-PL" sz="3400" spc="-1" strike="noStrike">
                <a:solidFill>
                  <a:srgbClr val="775f55"/>
                </a:solidFill>
                <a:latin typeface="Lucida Sans Unicode"/>
              </a:rPr>
              <a:t> </a:t>
            </a:r>
            <a:endParaRPr b="0" lang="en-US" sz="3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13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E2CB-A974-438D-82E8-CB1B431DB93B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Picture 7" descr="MC900089336[1]"/>
          <p:cNvPicPr/>
          <p:nvPr/>
        </p:nvPicPr>
        <p:blipFill>
          <a:blip r:embed="rId1"/>
          <a:stretch/>
        </p:blipFill>
        <p:spPr>
          <a:xfrm>
            <a:off x="1068480" y="1747800"/>
            <a:ext cx="1055520" cy="11527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MC900290305[1]"/>
          <p:cNvPicPr/>
          <p:nvPr/>
        </p:nvPicPr>
        <p:blipFill>
          <a:blip r:embed="rId2"/>
          <a:stretch/>
        </p:blipFill>
        <p:spPr>
          <a:xfrm>
            <a:off x="6227640" y="2276640"/>
            <a:ext cx="1295640" cy="12301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9" descr="MC900241573[1]"/>
          <p:cNvPicPr/>
          <p:nvPr/>
        </p:nvPicPr>
        <p:blipFill>
          <a:blip r:embed="rId3"/>
          <a:stretch/>
        </p:blipFill>
        <p:spPr>
          <a:xfrm>
            <a:off x="6227640" y="3284640"/>
            <a:ext cx="1224000" cy="1120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MC900215192[1]"/>
          <p:cNvPicPr/>
          <p:nvPr/>
        </p:nvPicPr>
        <p:blipFill>
          <a:blip r:embed="rId4"/>
          <a:stretch/>
        </p:blipFill>
        <p:spPr>
          <a:xfrm>
            <a:off x="6227640" y="5229360"/>
            <a:ext cx="1224000" cy="1079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MP900437355[1]"/>
          <p:cNvPicPr/>
          <p:nvPr/>
        </p:nvPicPr>
        <p:blipFill>
          <a:blip r:embed="rId5"/>
          <a:stretch/>
        </p:blipFill>
        <p:spPr>
          <a:xfrm>
            <a:off x="6300720" y="436572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MC900089320[1]"/>
          <p:cNvPicPr/>
          <p:nvPr/>
        </p:nvPicPr>
        <p:blipFill>
          <a:blip r:embed="rId6"/>
          <a:stretch/>
        </p:blipFill>
        <p:spPr>
          <a:xfrm>
            <a:off x="1068480" y="3375000"/>
            <a:ext cx="1152360" cy="1030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3" descr="MC900251189[1]"/>
          <p:cNvPicPr/>
          <p:nvPr/>
        </p:nvPicPr>
        <p:blipFill>
          <a:blip r:embed="rId7"/>
          <a:stretch/>
        </p:blipFill>
        <p:spPr>
          <a:xfrm>
            <a:off x="2268360" y="3645000"/>
            <a:ext cx="432000" cy="369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2" descr="MC900251189[1]"/>
          <p:cNvPicPr/>
          <p:nvPr/>
        </p:nvPicPr>
        <p:blipFill>
          <a:blip r:embed="rId8"/>
          <a:stretch/>
        </p:blipFill>
        <p:spPr>
          <a:xfrm>
            <a:off x="2268360" y="2708280"/>
            <a:ext cx="432000" cy="369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3" descr="MM900282803[1]"/>
          <p:cNvPicPr/>
          <p:nvPr/>
        </p:nvPicPr>
        <p:blipFill>
          <a:blip r:embed="rId9"/>
          <a:stretch/>
        </p:blipFill>
        <p:spPr>
          <a:xfrm>
            <a:off x="6156360" y="141300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4" descr="MC900343573[1]"/>
          <p:cNvPicPr/>
          <p:nvPr/>
        </p:nvPicPr>
        <p:blipFill>
          <a:blip r:embed="rId10"/>
          <a:stretch/>
        </p:blipFill>
        <p:spPr>
          <a:xfrm>
            <a:off x="3348000" y="2349360"/>
            <a:ext cx="1773360" cy="175104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25"/>
          <p:cNvSpPr/>
          <p:nvPr/>
        </p:nvSpPr>
        <p:spPr>
          <a:xfrm>
            <a:off x="1403280" y="4581360"/>
            <a:ext cx="446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Jeśli gmina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ie podjęła uchwał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o przejęciu obowiązków od właścicieli nieruchomości innych niż zamieszkane przez mieszkańców, to za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zio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odzysku, recyklingu, redukcję biodegradowalnych odpowiada odbierający odpady (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firma wywozow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pl-PL" sz="1600" spc="-1" strike="noStrike">
                <a:solidFill>
                  <a:srgbClr val="0070c0"/>
                </a:solidFill>
                <a:latin typeface="Arial"/>
              </a:rPr>
              <a:t>Podmiot 9n ust 4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Poziomy recyklingu – projekt </a:t>
            </a:r>
            <a:br>
              <a:rPr sz="4000"/>
            </a:br>
            <a:r>
              <a:rPr b="0" lang="pl-PL" sz="2000" spc="-1" strike="noStrike">
                <a:solidFill>
                  <a:srgbClr val="775f55"/>
                </a:solidFill>
                <a:latin typeface="Lucida Sans Unicode"/>
              </a:rPr>
              <a:t>(21 marca 2012)</a:t>
            </a:r>
            <a:endParaRPr b="0" lang="en-US" sz="2000" spc="-1" strike="noStrike">
              <a:solidFill>
                <a:srgbClr val="775f55"/>
              </a:solidFill>
              <a:latin typeface="Lucida Sans Unicode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116000" y="2781360"/>
          <a:ext cx="7201080" cy="1762200"/>
        </p:xfrm>
        <a:graphic>
          <a:graphicData uri="http://schemas.openxmlformats.org/drawingml/2006/table">
            <a:tbl>
              <a:tblPr/>
              <a:tblGrid>
                <a:gridCol w="1677960"/>
                <a:gridCol w="614520"/>
                <a:gridCol w="612720"/>
                <a:gridCol w="614160"/>
                <a:gridCol w="613080"/>
                <a:gridCol w="614160"/>
                <a:gridCol w="612720"/>
                <a:gridCol w="614520"/>
                <a:gridCol w="612720"/>
                <a:gridCol w="614520"/>
              </a:tblGrid>
              <a:tr h="190440"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oziomy recyklingu, przygotowania do ponownego użycia i odzysku innymi metoda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7030a0"/>
                          </a:solidFill>
                          <a:latin typeface="Lucida Sans Unicode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7030a0"/>
                          </a:solidFill>
                          <a:latin typeface="Lucida Sans Unicode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7030a0"/>
                          </a:solidFill>
                          <a:latin typeface="Lucida Sans Unicode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7030a0"/>
                          </a:solidFill>
                          <a:latin typeface="Lucida Sans Unicode"/>
                        </a:rPr>
                        <a:t>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7030a0"/>
                          </a:solidFill>
                          <a:latin typeface="Lucida Sans Unicode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7030a0"/>
                          </a:solidFill>
                          <a:latin typeface="Lucida Sans Unicode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7030a0"/>
                          </a:solidFill>
                          <a:latin typeface="Lucida Sans Unicode"/>
                        </a:rPr>
                        <a:t>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7030a0"/>
                          </a:solidFill>
                          <a:latin typeface="Lucida Sans Unicode"/>
                        </a:rPr>
                        <a:t>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7030a0"/>
                          </a:solidFill>
                          <a:latin typeface="Lucida Sans Unicode"/>
                        </a:rPr>
                        <a:t>2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apier, metal, tworzywa sztuczne, szkł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71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ne niż niebezpieczne odpady </a:t>
                      </a: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udowlane i rozbiórk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sp>
        <p:nvSpPr>
          <p:cNvPr id="42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7D14-99D7-4CC9-964F-04B6FE25F3ED}" type="slidenum">
              <a:rPr b="1" lang="pl-PL" sz="11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Poziomy recyklingu – projekt </a:t>
            </a:r>
            <a:br>
              <a:rPr sz="4000"/>
            </a:br>
            <a:r>
              <a:rPr b="0" lang="pl-PL" sz="2000" spc="-1" strike="noStrike">
                <a:solidFill>
                  <a:srgbClr val="775f55"/>
                </a:solidFill>
                <a:latin typeface="Lucida Sans Unicode"/>
              </a:rPr>
              <a:t>(21 marca 2012)</a:t>
            </a:r>
            <a:endParaRPr b="0" lang="en-US" sz="2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2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7035-693C-48AB-8B26-7D2A9AF8EFEB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Symbol zastępczy zawartości 5" descr=""/>
          <p:cNvPicPr/>
          <p:nvPr/>
        </p:nvPicPr>
        <p:blipFill>
          <a:blip r:embed="rId1"/>
          <a:stretch/>
        </p:blipFill>
        <p:spPr>
          <a:xfrm>
            <a:off x="5291280" y="1847880"/>
            <a:ext cx="3571560" cy="3382920"/>
          </a:xfrm>
          <a:prstGeom prst="rect">
            <a:avLst/>
          </a:prstGeom>
          <a:ln w="0">
            <a:noFill/>
          </a:ln>
        </p:spPr>
      </p:pic>
      <p:pic>
        <p:nvPicPr>
          <p:cNvPr id="431" name="Wykres 6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396252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Poziomy recyklingu – projekt </a:t>
            </a:r>
            <a:br>
              <a:rPr sz="4400"/>
            </a:br>
            <a:r>
              <a:rPr b="0" lang="pl-PL" sz="2200" spc="-1" strike="noStrike">
                <a:solidFill>
                  <a:srgbClr val="775f55"/>
                </a:solidFill>
                <a:latin typeface="Lucida Sans Unicode"/>
              </a:rPr>
              <a:t>(21 marca 2012)</a:t>
            </a:r>
            <a:endParaRPr b="0" lang="en-US" sz="22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412640"/>
            <a:ext cx="8153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1) w przypadku gmin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900" spc="-1" strike="noStrike">
                <a:solidFill>
                  <a:srgbClr val="0070c0"/>
                </a:solidFill>
                <a:latin typeface="Lucida Sans Unicode"/>
              </a:rPr>
              <a:t>Mwptms=Lm*MwGUS*Umpmt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Lm – liczba mieszkańców gminy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MwGUS – masa wytworzonych odpadów komunalnych przez jednego mieszkańca na terenie województwa 4)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Umpmts – Udział łączny w składzie morfologicznym odpadów komunalnych odpadów papieru, metali, tworzyw sztucznych, szkła 5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Picture 11" descr="MC900344289[1]"/>
          <p:cNvPicPr/>
          <p:nvPr/>
        </p:nvPicPr>
        <p:blipFill>
          <a:blip r:embed="rId1"/>
          <a:stretch/>
        </p:blipFill>
        <p:spPr>
          <a:xfrm>
            <a:off x="7236000" y="2708280"/>
            <a:ext cx="15858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Dyrektywa ramowa 2008/98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42560" y="2097000"/>
            <a:ext cx="5977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Nowe zadania wynikające z dyrektywy 2008/98 (art. 11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do roku </a:t>
            </a:r>
            <a:r>
              <a:rPr b="1" lang="pl-PL" sz="2200" spc="-1" strike="noStrike">
                <a:solidFill>
                  <a:srgbClr val="ff0000"/>
                </a:solidFill>
                <a:latin typeface="Lucida Sans Unicode"/>
              </a:rPr>
              <a:t>2015</a:t>
            </a:r>
            <a:r>
              <a:rPr b="1" lang="pl-PL" sz="2200" spc="-1" strike="noStrike">
                <a:solidFill>
                  <a:srgbClr val="000000"/>
                </a:solidFill>
                <a:latin typeface="Lucida Sans Unicode"/>
              </a:rPr>
              <a:t> selektywna zbiórka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odpadów: </a:t>
            </a:r>
            <a:r>
              <a:rPr b="1" lang="pl-PL" sz="2200" spc="-1" strike="noStrike">
                <a:solidFill>
                  <a:srgbClr val="000000"/>
                </a:solidFill>
                <a:latin typeface="Lucida Sans Unicode"/>
              </a:rPr>
              <a:t>papieru, metalu, plastiku i szkła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do roku </a:t>
            </a:r>
            <a:r>
              <a:rPr b="1" lang="pl-PL" sz="2200" spc="-1" strike="noStrike">
                <a:solidFill>
                  <a:srgbClr val="ff0000"/>
                </a:solidFill>
                <a:latin typeface="Lucida Sans Unicode"/>
              </a:rPr>
              <a:t>2020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przygotowanie do ponownego wykorzystania i recyklingu materiałów odpadowych, przynajmniej: </a:t>
            </a:r>
            <a:r>
              <a:rPr b="1" lang="pl-PL" sz="2200" spc="-1" strike="noStrike">
                <a:solidFill>
                  <a:srgbClr val="000000"/>
                </a:solidFill>
                <a:latin typeface="Lucida Sans Unicode"/>
              </a:rPr>
              <a:t>papier, metal, plastik i szkło z </a:t>
            </a:r>
            <a:r>
              <a:rPr b="1" lang="pl-PL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gospodarstw domowych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do minimum </a:t>
            </a:r>
            <a:r>
              <a:rPr b="1" lang="pl-PL" sz="2200" spc="-1" strike="noStrike">
                <a:solidFill>
                  <a:srgbClr val="ff0000"/>
                </a:solidFill>
                <a:latin typeface="Lucida Sans Unicode"/>
              </a:rPr>
              <a:t>50 %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wagow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6ED7-FEC3-4E54-AD28-2EE9BD8D281D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5" name="Picture 4" descr="MP900437342[1]"/>
          <p:cNvPicPr/>
          <p:nvPr/>
        </p:nvPicPr>
        <p:blipFill>
          <a:blip r:embed="rId1"/>
          <a:stretch/>
        </p:blipFill>
        <p:spPr>
          <a:xfrm>
            <a:off x="7164360" y="2260440"/>
            <a:ext cx="1616040" cy="1212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MM900336318[1]"/>
          <p:cNvPicPr/>
          <p:nvPr/>
        </p:nvPicPr>
        <p:blipFill>
          <a:blip r:embed="rId2"/>
          <a:stretch/>
        </p:blipFill>
        <p:spPr>
          <a:xfrm>
            <a:off x="7451640" y="4292640"/>
            <a:ext cx="11718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Poziomy recyklingu – projekt </a:t>
            </a:r>
            <a:br>
              <a:rPr sz="4400"/>
            </a:br>
            <a:r>
              <a:rPr b="0" lang="pl-PL" sz="2200" spc="-1" strike="noStrike">
                <a:solidFill>
                  <a:srgbClr val="775f55"/>
                </a:solidFill>
                <a:latin typeface="Lucida Sans Unicode"/>
              </a:rPr>
              <a:t>(21 marca 2012)</a:t>
            </a:r>
            <a:endParaRPr b="0" lang="en-US" sz="22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599840"/>
            <a:ext cx="81532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w przypadku podmiotów, o których mowa w art. 9n ust. 4 ustawy z dnia 13 września 1996 r. o utrzymaniu czystości i porządku w gminach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900" spc="-1" strike="noStrike">
                <a:solidFill>
                  <a:srgbClr val="0070c0"/>
                </a:solidFill>
                <a:latin typeface="Lucida Sans Unicode"/>
              </a:rPr>
              <a:t>Mwptms=Mo*Umpmts,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Mo – łączna masa odebranych odpadów komunalnych od właścicieli nieruchomości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Umpmts – Udział łączny w składzie morfologicznym odpadów komunalnych odpadów papieru, metali, tworzyw sztucznych, szkła 5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Picture 24" descr="MC900343573[1]"/>
          <p:cNvPicPr/>
          <p:nvPr/>
        </p:nvPicPr>
        <p:blipFill>
          <a:blip r:embed="rId1"/>
          <a:stretch/>
        </p:blipFill>
        <p:spPr>
          <a:xfrm>
            <a:off x="7093080" y="2708280"/>
            <a:ext cx="17730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Poziomy recyklingu – projekt </a:t>
            </a:r>
            <a:br>
              <a:rPr sz="4400"/>
            </a:br>
            <a:r>
              <a:rPr b="0" lang="pl-PL" sz="2200" spc="-1" strike="noStrike">
                <a:solidFill>
                  <a:srgbClr val="775f55"/>
                </a:solidFill>
                <a:latin typeface="Lucida Sans Unicode"/>
              </a:rPr>
              <a:t>(21 marca 2012)</a:t>
            </a:r>
            <a:endParaRPr b="0" lang="en-US" sz="22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Gdzie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Lm – liczba mieszkańców gminy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Mw</a:t>
            </a:r>
            <a:r>
              <a:rPr b="1" lang="pl-PL" sz="1800" spc="-1" strike="noStrike">
                <a:solidFill>
                  <a:srgbClr val="000000"/>
                </a:solidFill>
                <a:latin typeface="Lucida Sans Unicode"/>
              </a:rPr>
              <a:t>GUS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 – masa wytworzonych odpadów komunalnych przez jednego mieszkańca na terenie województwa 4) </a:t>
            </a:r>
            <a:r>
              <a:rPr b="1" lang="pl-PL" sz="1800" spc="-1" strike="noStrike">
                <a:solidFill>
                  <a:srgbClr val="0070c0"/>
                </a:solidFill>
                <a:latin typeface="Lucida Sans Unicode"/>
              </a:rPr>
              <a:t>(GUS)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Mo – łączna masa odebranych odpadów komunalnych od właścicieli nieruchomości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Umpmts – Udział łączny w składzie morfologicznym odpadów komunalnych odpadów papieru, metali, tworzyw sztucznych, szkła 5) </a:t>
            </a:r>
            <a:r>
              <a:rPr b="0" lang="pl-PL" sz="1800" spc="-1" strike="noStrike">
                <a:solidFill>
                  <a:srgbClr val="0070c0"/>
                </a:solidFill>
                <a:latin typeface="Lucida Sans Unicode"/>
              </a:rPr>
              <a:t>(morfologia własna lub KPGO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Lucida Sans Unicode"/>
              </a:rPr>
              <a:t>Poziom recyklingu i przygotowania do ponownego użycia papieru, metali, tworzyw sztucznych i szkła, </a:t>
            </a:r>
            <a:r>
              <a:rPr b="1" lang="pl-PL" sz="1800" spc="-1" strike="noStrike" u="sng">
                <a:solidFill>
                  <a:srgbClr val="0070c0"/>
                </a:solidFill>
                <a:uFillTx/>
                <a:latin typeface="Lucida Sans Unicode"/>
              </a:rPr>
              <a:t>oblicza się łącznie </a:t>
            </a:r>
            <a:r>
              <a:rPr b="1" lang="pl-PL" sz="1800" spc="-1" strike="noStrike">
                <a:solidFill>
                  <a:srgbClr val="0070c0"/>
                </a:solidFill>
                <a:latin typeface="Lucida Sans Unicode"/>
              </a:rPr>
              <a:t>dla wszystkich podanych rodzajów odpadów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Poziomy recyklingu – projekt </a:t>
            </a:r>
            <a:br>
              <a:rPr sz="4400"/>
            </a:br>
            <a:r>
              <a:rPr b="0" lang="pl-PL" sz="2200" spc="-1" strike="noStrike">
                <a:solidFill>
                  <a:srgbClr val="775f55"/>
                </a:solidFill>
                <a:latin typeface="Lucida Sans Unicode"/>
              </a:rPr>
              <a:t>(21 marca 2012)</a:t>
            </a:r>
            <a:endParaRPr b="0" lang="en-US" sz="22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Należy brać pod uwagę odpady o kodach: 20 01 01, 15 01 01, 20 01 40, 15 01 04, 20 01 39, 15 01 02, 20 01 02, 15 01 07, 15 01 06, ex 20 01 99 odpady papieru, metalu, tworzyw sztucznych, szkła, zgodnie z rozporządzeniem Ministra Środowiska z dnia 27 września 2001 r. w sprawie katalogu odpadów (Dz. U. Nr 112, poz. 1206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4) Zgodnie z aktualnymi danymi publikowanymi przez </a:t>
            </a:r>
            <a:r>
              <a:rPr b="1" lang="pl-PL" sz="2000" spc="-1" strike="noStrike">
                <a:solidFill>
                  <a:srgbClr val="0070c0"/>
                </a:solidFill>
                <a:latin typeface="Lucida Sans Unicode"/>
              </a:rPr>
              <a:t>Główny Urząd Statystyczny</a:t>
            </a:r>
            <a:r>
              <a:rPr b="0" lang="pl-PL" sz="20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pl-PL" sz="2000" spc="-1" strike="noStrike">
                <a:solidFill>
                  <a:srgbClr val="0070c0"/>
                </a:solidFill>
                <a:latin typeface="Lucida Sans Unicode"/>
              </a:rPr>
              <a:t>(wytwarzanie/mieszkańca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5) Na podstawie aktualnego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Krajowego planu gospodarki odpadami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lub na podstawie badań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morfologii odpadów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komunalnych wykonanych </a:t>
            </a:r>
            <a:r>
              <a:rPr b="1" lang="pl-PL" sz="2000" spc="-1" strike="noStrike">
                <a:solidFill>
                  <a:srgbClr val="0070c0"/>
                </a:solidFill>
                <a:latin typeface="Lucida Sans Unicode"/>
              </a:rPr>
              <a:t>na zlecenie gminy lub podmiotu, o którym mowa w art. 9n ust. 4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ustawy z dnia 13 września 1996 r. o utrzymaniu czystości i porządku w gminach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795D-63FE-4399-9EA9-57BC51F92E7B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75f55"/>
                </a:solidFill>
                <a:latin typeface="Lucida Sans Unicode"/>
              </a:rPr>
              <a:t>Poziomy redukcji składowania odpadów ulegających biodegradacji – projekt </a:t>
            </a:r>
            <a:br>
              <a:rPr sz="2800"/>
            </a:br>
            <a:r>
              <a:rPr b="0" lang="pl-PL" sz="2000" spc="-1" strike="noStrike">
                <a:solidFill>
                  <a:srgbClr val="775f55"/>
                </a:solidFill>
                <a:latin typeface="Lucida Sans Unicode"/>
              </a:rPr>
              <a:t>(22 marca 2012) </a:t>
            </a:r>
            <a:endParaRPr b="0" lang="en-US" sz="2000" spc="-1" strike="noStrike">
              <a:solidFill>
                <a:srgbClr val="775f55"/>
              </a:solidFill>
              <a:latin typeface="Lucida Sans Unicode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684360" y="2565360"/>
          <a:ext cx="8075520" cy="1817640"/>
        </p:xfrm>
        <a:graphic>
          <a:graphicData uri="http://schemas.openxmlformats.org/drawingml/2006/table">
            <a:tbl>
              <a:tblPr/>
              <a:tblGrid>
                <a:gridCol w="1881000"/>
                <a:gridCol w="689040"/>
                <a:gridCol w="687240"/>
                <a:gridCol w="689040"/>
                <a:gridCol w="687600"/>
                <a:gridCol w="688680"/>
                <a:gridCol w="687600"/>
                <a:gridCol w="689040"/>
                <a:gridCol w="687240"/>
                <a:gridCol w="689040"/>
              </a:tblGrid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oziomy redukcji składowania odpadów ulegających biodegradacj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</a:tr>
              <a:tr h="31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</a:tr>
              <a:tr h="938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dukcja składowania odpadów ulegających biodegradacj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</a:tr>
            </a:tbl>
          </a:graphicData>
        </a:graphic>
      </p:graphicFrame>
      <p:sp>
        <p:nvSpPr>
          <p:cNvPr id="445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0905-72A1-4DD0-83AC-EA0114A2F81C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75f55"/>
                </a:solidFill>
                <a:latin typeface="Lucida Sans Unicode"/>
              </a:rPr>
              <a:t>Poziomy redukcji składowania odpadów ulegających biodegradacji – projekt </a:t>
            </a:r>
            <a:br>
              <a:rPr sz="2800"/>
            </a:br>
            <a:r>
              <a:rPr b="0" lang="pl-PL" sz="2000" spc="-1" strike="noStrike">
                <a:solidFill>
                  <a:srgbClr val="775f55"/>
                </a:solidFill>
                <a:latin typeface="Lucida Sans Unicode"/>
              </a:rPr>
              <a:t>(22 marca 2012) </a:t>
            </a:r>
            <a:endParaRPr b="0" lang="en-US" sz="2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4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7110-1C5F-4575-8D72-63FADD6B33B4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Symbol zastępczy zawartości 5" descr=""/>
          <p:cNvPicPr/>
          <p:nvPr/>
        </p:nvPicPr>
        <p:blipFill>
          <a:blip r:embed="rId1"/>
          <a:stretch/>
        </p:blipFill>
        <p:spPr>
          <a:xfrm>
            <a:off x="1432080" y="1450800"/>
            <a:ext cx="750384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75f55"/>
                </a:solidFill>
                <a:latin typeface="Lucida Sans Unicode"/>
              </a:rPr>
              <a:t>Poziomy redukcji składowania odpadów ulegających biodegradacji – projekt </a:t>
            </a:r>
            <a:br>
              <a:rPr sz="2800"/>
            </a:br>
            <a:r>
              <a:rPr b="0" lang="pl-PL" sz="2000" spc="-1" strike="noStrike">
                <a:solidFill>
                  <a:srgbClr val="775f55"/>
                </a:solidFill>
                <a:latin typeface="Lucida Sans Unicode"/>
              </a:rPr>
              <a:t>(22 marca 2012) </a:t>
            </a:r>
            <a:endParaRPr b="0" lang="en-US" sz="2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5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F0F1-E98D-4670-B511-9ED7A236F295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Masa odpadów ulegających biodegradacji wytworzoną w 1995 r.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900" spc="-1" strike="noStrike">
                <a:solidFill>
                  <a:srgbClr val="0070c0"/>
                </a:solidFill>
                <a:latin typeface="Lucida Sans Unicode"/>
              </a:rPr>
              <a:t>OUBR </a:t>
            </a:r>
            <a:r>
              <a:rPr b="1" i="1" lang="pl-PL" sz="1100" spc="-1" strike="noStrike">
                <a:solidFill>
                  <a:srgbClr val="0070c0"/>
                </a:solidFill>
                <a:latin typeface="Lucida Sans Unicode"/>
              </a:rPr>
              <a:t>1995</a:t>
            </a:r>
            <a:r>
              <a:rPr b="1" i="1" lang="pl-PL" sz="2900" spc="-1" strike="noStrike">
                <a:solidFill>
                  <a:srgbClr val="0070c0"/>
                </a:solidFill>
                <a:latin typeface="Lucida Sans Unicode"/>
              </a:rPr>
              <a:t>=0,155x Lm+0,047xLw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Lm - liczba mieszkańców miasta w 1995 r. na obszarze gminy wg GU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Lw - liczba mieszkańców wsi w 1995 r. na obszarze gminy wg GU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75f55"/>
                </a:solidFill>
                <a:latin typeface="Lucida Sans Unicode"/>
              </a:rPr>
              <a:t>Poziomy redukcji składowania odpadów ulegających biodegradacji – projekt </a:t>
            </a:r>
            <a:br>
              <a:rPr sz="2800"/>
            </a:br>
            <a:r>
              <a:rPr b="0" lang="pl-PL" sz="2000" spc="-1" strike="noStrike">
                <a:solidFill>
                  <a:srgbClr val="775f55"/>
                </a:solidFill>
                <a:latin typeface="Lucida Sans Unicode"/>
              </a:rPr>
              <a:t>(22 marca 2012) </a:t>
            </a:r>
            <a:endParaRPr b="0" lang="en-US" sz="2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5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3A9F-A3BD-470F-A72C-69251668F8EA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Masę odpadów ulegających biodegradacji zebranych ze strumienia odpadów komunalnych z terenu danej gminy w roku rozliczeniowym, przekazanych do składowania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70c0"/>
                </a:solidFill>
                <a:latin typeface="Lucida Sans Unicode"/>
              </a:rPr>
              <a:t>M</a:t>
            </a:r>
            <a:r>
              <a:rPr b="1" lang="pl-PL" sz="1400" spc="-1" strike="noStrike">
                <a:solidFill>
                  <a:srgbClr val="0070c0"/>
                </a:solidFill>
                <a:latin typeface="Lucida Sans Unicode"/>
              </a:rPr>
              <a:t>OUBR</a:t>
            </a:r>
            <a:r>
              <a:rPr b="1" lang="pl-PL" sz="2900" spc="-1" strike="noStrike">
                <a:solidFill>
                  <a:srgbClr val="0070c0"/>
                </a:solidFill>
                <a:latin typeface="Lucida Sans Unicode"/>
              </a:rPr>
              <a:t>=(M</a:t>
            </a:r>
            <a:r>
              <a:rPr b="1" lang="pl-PL" sz="1400" spc="-1" strike="noStrike">
                <a:solidFill>
                  <a:srgbClr val="0070c0"/>
                </a:solidFill>
                <a:latin typeface="Lucida Sans Unicode"/>
              </a:rPr>
              <a:t>MR </a:t>
            </a:r>
            <a:r>
              <a:rPr b="1" lang="pl-PL" sz="2900" spc="-1" strike="noStrike">
                <a:solidFill>
                  <a:srgbClr val="0070c0"/>
                </a:solidFill>
                <a:latin typeface="Lucida Sans Unicode"/>
              </a:rPr>
              <a:t>x0,57) + (M</a:t>
            </a:r>
            <a:r>
              <a:rPr b="1" lang="pl-PL" sz="1400" spc="-1" strike="noStrike">
                <a:solidFill>
                  <a:srgbClr val="0070c0"/>
                </a:solidFill>
                <a:latin typeface="Lucida Sans Unicode"/>
              </a:rPr>
              <a:t>MW</a:t>
            </a:r>
            <a:r>
              <a:rPr b="1" lang="pl-PL" sz="2900" spc="-1" strike="noStrike">
                <a:solidFill>
                  <a:srgbClr val="0070c0"/>
                </a:solidFill>
                <a:latin typeface="Lucida Sans Unicode"/>
              </a:rPr>
              <a:t> x </a:t>
            </a:r>
            <a:r>
              <a:rPr b="1" lang="pl-PL" sz="2900" spc="-1" strike="noStrike">
                <a:solidFill>
                  <a:srgbClr val="ff0000"/>
                </a:solidFill>
                <a:latin typeface="Lucida Sans Unicode"/>
              </a:rPr>
              <a:t>0,48) + (M</a:t>
            </a:r>
            <a:r>
              <a:rPr b="1" lang="pl-PL" sz="1400" spc="-1" strike="noStrike">
                <a:solidFill>
                  <a:srgbClr val="ff0000"/>
                </a:solidFill>
                <a:latin typeface="Lucida Sans Unicode"/>
              </a:rPr>
              <a:t>SR</a:t>
            </a:r>
            <a:r>
              <a:rPr b="1" lang="pl-PL" sz="2900" spc="-1" strike="noStrike">
                <a:solidFill>
                  <a:srgbClr val="ff0000"/>
                </a:solidFill>
                <a:latin typeface="Lucida Sans Unicode"/>
              </a:rPr>
              <a:t> x U</a:t>
            </a:r>
            <a:r>
              <a:rPr b="1" lang="pl-PL" sz="1400" spc="-1" strike="noStrike">
                <a:solidFill>
                  <a:srgbClr val="ff0000"/>
                </a:solidFill>
                <a:latin typeface="Lucida Sans Unicode"/>
              </a:rPr>
              <a:t>S</a:t>
            </a:r>
            <a:r>
              <a:rPr b="1" lang="pl-PL" sz="2900" spc="-1" strike="noStrike">
                <a:solidFill>
                  <a:srgbClr val="ff0000"/>
                </a:solidFill>
                <a:latin typeface="Lucida Sans Unicode"/>
              </a:rPr>
              <a:t>) </a:t>
            </a:r>
            <a:r>
              <a:rPr b="1" lang="pl-PL" sz="29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pl-PL" sz="2900" spc="-1" strike="noStrike">
                <a:solidFill>
                  <a:srgbClr val="ff0000"/>
                </a:solidFill>
                <a:latin typeface="Lucida Sans Unicode"/>
              </a:rPr>
              <a:t>+ (M</a:t>
            </a:r>
            <a:r>
              <a:rPr b="1" lang="pl-PL" sz="1400" spc="-1" strike="noStrike">
                <a:solidFill>
                  <a:srgbClr val="ff0000"/>
                </a:solidFill>
                <a:latin typeface="Lucida Sans Unicode"/>
              </a:rPr>
              <a:t>BR</a:t>
            </a:r>
            <a:r>
              <a:rPr b="1" lang="pl-PL" sz="2900" spc="-1" strike="noStrike">
                <a:solidFill>
                  <a:srgbClr val="ff0000"/>
                </a:solidFill>
                <a:latin typeface="Lucida Sans Unicode"/>
              </a:rPr>
              <a:t> x 0,52)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Objaśnienie liniowe 1 6"/>
          <p:cNvSpPr/>
          <p:nvPr/>
        </p:nvSpPr>
        <p:spPr>
          <a:xfrm>
            <a:off x="2484360" y="2982960"/>
            <a:ext cx="2448000" cy="576360"/>
          </a:xfrm>
          <a:prstGeom prst="borderCallout1">
            <a:avLst>
              <a:gd name="adj1" fmla="val 18750"/>
              <a:gd name="adj2" fmla="val -8333"/>
              <a:gd name="adj3" fmla="val 229898"/>
              <a:gd name="adj4" fmla="val 6796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Zmieszane – miasto (20 03 01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Objaśnienie liniowe 1 8"/>
          <p:cNvSpPr/>
          <p:nvPr/>
        </p:nvSpPr>
        <p:spPr>
          <a:xfrm>
            <a:off x="5651640" y="2982960"/>
            <a:ext cx="2449440" cy="576360"/>
          </a:xfrm>
          <a:prstGeom prst="borderCallout1">
            <a:avLst>
              <a:gd name="adj1" fmla="val 18750"/>
              <a:gd name="adj2" fmla="val -8333"/>
              <a:gd name="adj3" fmla="val 213361"/>
              <a:gd name="adj4" fmla="val -19268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Zmieszane wieś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(20 03 01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Objaśnienie liniowe 1 9"/>
          <p:cNvSpPr/>
          <p:nvPr/>
        </p:nvSpPr>
        <p:spPr>
          <a:xfrm>
            <a:off x="6227640" y="5373720"/>
            <a:ext cx="2448000" cy="863640"/>
          </a:xfrm>
          <a:prstGeom prst="borderCallout1">
            <a:avLst>
              <a:gd name="adj1" fmla="val 18750"/>
              <a:gd name="adj2" fmla="val -8333"/>
              <a:gd name="adj3" fmla="val -91425"/>
              <a:gd name="adj4" fmla="val 58930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Selektywnie zebrane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( np.20 01 01, 20 01 08, 20 01 25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Objaśnienie liniowe 1 10"/>
          <p:cNvSpPr/>
          <p:nvPr/>
        </p:nvSpPr>
        <p:spPr>
          <a:xfrm>
            <a:off x="2268360" y="5456160"/>
            <a:ext cx="2880000" cy="1212840"/>
          </a:xfrm>
          <a:prstGeom prst="borderCallout1">
            <a:avLst>
              <a:gd name="adj1" fmla="val 18750"/>
              <a:gd name="adj2" fmla="val -8333"/>
              <a:gd name="adj3" fmla="val -6550"/>
              <a:gd name="adj4" fmla="val 35587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Po MBP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(19 12 12 – nie spełniające wymagań rozp. o MBP 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75f55"/>
                </a:solidFill>
                <a:latin typeface="Lucida Sans Unicode"/>
              </a:rPr>
              <a:t>Poziomy redukcji składowania odpadów ulegających biodegradacji – projekt </a:t>
            </a:r>
            <a:br>
              <a:rPr sz="2800"/>
            </a:br>
            <a:r>
              <a:rPr b="0" lang="pl-PL" sz="2000" spc="-1" strike="noStrike">
                <a:solidFill>
                  <a:srgbClr val="775f55"/>
                </a:solidFill>
                <a:latin typeface="Lucida Sans Unicode"/>
              </a:rPr>
              <a:t>(22 marca 2012) </a:t>
            </a:r>
            <a:endParaRPr b="0" lang="en-US" sz="2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OUBR</a:t>
            </a: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- masa odpadów ulegających biodegradacji zebranych ze strumienia odpadów komunalnych z terenu danej gminy w roku rozliczeniowym, przekazanych do składowania, [Mg]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MR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– masa zmieszanych odpadów komunalnych o kodzie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20 03 01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zebranych na obszarze miast w roku rozliczeniowym, przekazanych do składowania, [Mg]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WR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- masa zmieszanych odpadów komunalnych o kodzie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20 03 01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zebranych na obszarze wsi w roku rozliczeniowym, przekazanych do składowania, [Mg]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U</a:t>
            </a: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– udział odpadów ulegających biodegradacji w masie zmieszanych odpadów komunalnych dla miast wynoszący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0,57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U</a:t>
            </a: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W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– udział odpadów ulegających biodegradacji w masie zmieszanych odpadów komunalnych dla wsi wynoszący </a:t>
            </a:r>
            <a:r>
              <a:rPr b="1" lang="pl-PL" sz="2000" spc="-1" strike="noStrike">
                <a:solidFill>
                  <a:srgbClr val="ff0000"/>
                </a:solidFill>
                <a:latin typeface="Lucida Sans Unicode"/>
              </a:rPr>
              <a:t>0,48;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75f55"/>
                </a:solidFill>
                <a:latin typeface="Lucida Sans Unicode"/>
              </a:rPr>
              <a:t>Poziomy redukcji składowania odpadów ulegających biodegradacji – projekt </a:t>
            </a:r>
            <a:br>
              <a:rPr sz="2800"/>
            </a:br>
            <a:r>
              <a:rPr b="0" lang="pl-PL" sz="2000" spc="-1" strike="noStrike">
                <a:solidFill>
                  <a:srgbClr val="775f55"/>
                </a:solidFill>
                <a:latin typeface="Lucida Sans Unicode"/>
              </a:rPr>
              <a:t>(22 marca 2012) </a:t>
            </a:r>
            <a:endParaRPr b="0" lang="en-US" sz="2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12720" y="1599840"/>
            <a:ext cx="81532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Us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– udział odpadów ulegających biodegradacji w masie selektywnie zebranych odpadów ulegających biodegradacji ze strumienia odpadów komunalnych wynoszący dla poszczególnych rodzajów odpadów wg kodu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20 01 01 – 1,0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20 01 08 – 1,0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20 01 10 – 0,5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20 01 11 – 0,5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20 01 25 – 1,0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20 01 38 – 0,5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20 02 01 – 1,0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20 03 02 – 1,0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15 01 01 – 1,0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15 01 03 – 1,0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ex 15 01 09 z włókien naturalnych – 0,5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ex 15 01 06 w części zawierającej papier, tekturę, drewno i tekstylia z włókien naturalnych – 0,50; 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Wybrane modele selektywnego zbierania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pic>
        <p:nvPicPr>
          <p:cNvPr id="464" name="Picture 4" descr="MP900437342[1]"/>
          <p:cNvPicPr/>
          <p:nvPr/>
        </p:nvPicPr>
        <p:blipFill>
          <a:blip r:embed="rId1"/>
          <a:stretch/>
        </p:blipFill>
        <p:spPr>
          <a:xfrm>
            <a:off x="2863800" y="4035600"/>
            <a:ext cx="1616040" cy="12128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MC900056531[1]"/>
          <p:cNvPicPr/>
          <p:nvPr/>
        </p:nvPicPr>
        <p:blipFill>
          <a:blip r:embed="rId2"/>
          <a:stretch/>
        </p:blipFill>
        <p:spPr>
          <a:xfrm>
            <a:off x="879480" y="1482840"/>
            <a:ext cx="1127160" cy="1130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4" descr="MC900089336[1]"/>
          <p:cNvPicPr/>
          <p:nvPr/>
        </p:nvPicPr>
        <p:blipFill>
          <a:blip r:embed="rId3"/>
          <a:stretch/>
        </p:blipFill>
        <p:spPr>
          <a:xfrm>
            <a:off x="914400" y="2751120"/>
            <a:ext cx="1055520" cy="1152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6" descr="MC900437503[1]"/>
          <p:cNvPicPr/>
          <p:nvPr/>
        </p:nvPicPr>
        <p:blipFill>
          <a:blip r:embed="rId4"/>
          <a:stretch/>
        </p:blipFill>
        <p:spPr>
          <a:xfrm>
            <a:off x="6402240" y="3044880"/>
            <a:ext cx="1513080" cy="12110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1" descr="MC900215172[1]"/>
          <p:cNvPicPr/>
          <p:nvPr/>
        </p:nvPicPr>
        <p:blipFill>
          <a:blip r:embed="rId5"/>
          <a:stretch/>
        </p:blipFill>
        <p:spPr>
          <a:xfrm>
            <a:off x="7451640" y="3387600"/>
            <a:ext cx="1300320" cy="11415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2" descr="MC900250567[1]"/>
          <p:cNvPicPr/>
          <p:nvPr/>
        </p:nvPicPr>
        <p:blipFill>
          <a:blip r:embed="rId6"/>
          <a:stretch/>
        </p:blipFill>
        <p:spPr>
          <a:xfrm>
            <a:off x="7159680" y="2610000"/>
            <a:ext cx="1415880" cy="1039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C:\Users\Sabina Kowalska\AppData\Local\Microsoft\Windows\Temporary Internet Files\Content.IE5\6BWPRNPK\MC900434451[1].wmf"/>
          <p:cNvPicPr/>
          <p:nvPr/>
        </p:nvPicPr>
        <p:blipFill>
          <a:blip r:embed="rId7"/>
          <a:stretch/>
        </p:blipFill>
        <p:spPr>
          <a:xfrm>
            <a:off x="3059280" y="1582560"/>
            <a:ext cx="925200" cy="10717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C:\Users\Sabina Kowalska\AppData\Local\Microsoft\Windows\Temporary Internet Files\Content.IE5\6BWPRNPK\MC900415470[1].wmf"/>
          <p:cNvPicPr/>
          <p:nvPr/>
        </p:nvPicPr>
        <p:blipFill>
          <a:blip r:embed="rId8"/>
          <a:stretch/>
        </p:blipFill>
        <p:spPr>
          <a:xfrm>
            <a:off x="568440" y="3903840"/>
            <a:ext cx="1627200" cy="1388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C:\Users\Sabina Kowalska\AppData\Local\Microsoft\Windows\Temporary Internet Files\Content.IE5\WYT2V2DH\MC900029991[1].wmf"/>
          <p:cNvPicPr/>
          <p:nvPr/>
        </p:nvPicPr>
        <p:blipFill>
          <a:blip r:embed="rId9"/>
          <a:stretch/>
        </p:blipFill>
        <p:spPr>
          <a:xfrm>
            <a:off x="623880" y="5229360"/>
            <a:ext cx="1685880" cy="1304640"/>
          </a:xfrm>
          <a:prstGeom prst="rect">
            <a:avLst/>
          </a:prstGeom>
          <a:ln w="0">
            <a:noFill/>
          </a:ln>
        </p:spPr>
      </p:pic>
      <p:sp>
        <p:nvSpPr>
          <p:cNvPr id="473" name="Nawias klamrowy zamykający 10"/>
          <p:cNvSpPr/>
          <p:nvPr/>
        </p:nvSpPr>
        <p:spPr>
          <a:xfrm>
            <a:off x="2432160" y="3327480"/>
            <a:ext cx="411120" cy="3206520"/>
          </a:xfrm>
          <a:custGeom>
            <a:avLst/>
            <a:gdLst>
              <a:gd name="textAreaLeft" fmla="*/ 0 w 411120"/>
              <a:gd name="textAreaRight" fmla="*/ 148320 w 411120"/>
              <a:gd name="textAreaTop" fmla="*/ 10440 h 3206520"/>
              <a:gd name="textAreaBottom" fmla="*/ 3196080 h 320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16200" y="10800"/>
                  <a:pt x="21600" y="10800"/>
                </a:cubicBezTo>
                <a:cubicBezTo>
                  <a:pt x="162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4b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Nawias klamrowy zamykający 11"/>
          <p:cNvSpPr/>
          <p:nvPr/>
        </p:nvSpPr>
        <p:spPr>
          <a:xfrm>
            <a:off x="2535120" y="1482840"/>
            <a:ext cx="120600" cy="1130040"/>
          </a:xfrm>
          <a:custGeom>
            <a:avLst/>
            <a:gdLst>
              <a:gd name="textAreaLeft" fmla="*/ 0 w 120600"/>
              <a:gd name="textAreaRight" fmla="*/ 43560 w 120600"/>
              <a:gd name="textAreaTop" fmla="*/ 2880 h 1130040"/>
              <a:gd name="textAreaBottom" fmla="*/ 1127160 h 11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"/>
                  <a:pt x="10800" y="193"/>
                </a:cubicBezTo>
                <a:lnTo>
                  <a:pt x="10800" y="10607"/>
                </a:lnTo>
                <a:cubicBezTo>
                  <a:pt x="10800" y="10704"/>
                  <a:pt x="16200" y="10800"/>
                  <a:pt x="21600" y="10800"/>
                </a:cubicBezTo>
                <a:cubicBezTo>
                  <a:pt x="16200" y="10800"/>
                  <a:pt x="10800" y="10897"/>
                  <a:pt x="10800" y="10993"/>
                </a:cubicBezTo>
                <a:lnTo>
                  <a:pt x="10800" y="21407"/>
                </a:lnTo>
                <a:cubicBezTo>
                  <a:pt x="10800" y="2150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4b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Picture 18" descr="C:\Users\Sabina Kowalska\AppData\Local\Microsoft\Windows\Temporary Internet Files\Content.IE5\WYT2V2DH\MC900305241[1].wmf"/>
          <p:cNvPicPr/>
          <p:nvPr/>
        </p:nvPicPr>
        <p:blipFill>
          <a:blip r:embed="rId10"/>
          <a:stretch/>
        </p:blipFill>
        <p:spPr>
          <a:xfrm>
            <a:off x="10766520" y="7061040"/>
            <a:ext cx="1050840" cy="1258920"/>
          </a:xfrm>
          <a:prstGeom prst="rect">
            <a:avLst/>
          </a:prstGeom>
          <a:ln w="0">
            <a:noFill/>
          </a:ln>
        </p:spPr>
      </p:pic>
      <p:sp>
        <p:nvSpPr>
          <p:cNvPr id="476" name="pole tekstowe 12"/>
          <p:cNvSpPr/>
          <p:nvPr/>
        </p:nvSpPr>
        <p:spPr>
          <a:xfrm>
            <a:off x="4211640" y="177336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makulatura, szkło, tworzywa, </a:t>
            </a:r>
            <a:r>
              <a:rPr b="0" lang="pl-PL" sz="1800" spc="-1" strike="noStrike">
                <a:solidFill>
                  <a:srgbClr val="00b050"/>
                </a:solidFill>
                <a:latin typeface="Lucida Sans Unicode"/>
              </a:rPr>
              <a:t>zielone,wielkiegabaryty, budowlane: jako usługa dodatkowa, lub dostarczanie do PS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ole tekstowe 14"/>
          <p:cNvSpPr/>
          <p:nvPr/>
        </p:nvSpPr>
        <p:spPr>
          <a:xfrm>
            <a:off x="5904000" y="4573440"/>
            <a:ext cx="309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Leki, chemikalia, baterie, akumulatory, zseie, wielkiegabaryty, budowlane, opony, zielone+ makulatura, szkło, tworzywa, metale, wielomateriałow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ole tekstowe 34"/>
          <p:cNvSpPr/>
          <p:nvPr/>
        </p:nvSpPr>
        <p:spPr>
          <a:xfrm>
            <a:off x="1914480" y="494028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makulatura, szkło, tworzywa, </a:t>
            </a:r>
            <a:r>
              <a:rPr b="0" lang="pl-PL" sz="1800" spc="-1" strike="noStrike">
                <a:solidFill>
                  <a:srgbClr val="00b050"/>
                </a:solidFill>
                <a:latin typeface="Lucida Sans Unicode"/>
              </a:rPr>
              <a:t>zielone, wielkiegabaryty, budowlane: jako usługa dodatkowa, lub dostarczanie do PS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ole tekstowe 16"/>
          <p:cNvSpPr/>
          <p:nvPr/>
        </p:nvSpPr>
        <p:spPr>
          <a:xfrm>
            <a:off x="2735280" y="3243240"/>
            <a:ext cx="33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Pojemniki dla nieruchomości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lub zespołu nieruchomości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Dyrektywa ramowa 2008/98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1988640"/>
            <a:ext cx="61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Nowe zadania wynikające z dyrektywy 2008/98 (art. 11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do roku </a:t>
            </a:r>
            <a:r>
              <a:rPr b="1" lang="pl-PL" sz="2200" spc="-1" strike="noStrike">
                <a:solidFill>
                  <a:srgbClr val="ff0000"/>
                </a:solidFill>
                <a:latin typeface="Lucida Sans Unicode"/>
              </a:rPr>
              <a:t>2020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przygotowanie do ponownego wykorzystania, recyklingu i innych sposobów odzyskiwania materiałów, w tym wypełniania wyrobisk, </a:t>
            </a:r>
            <a:r>
              <a:rPr b="1" lang="pl-PL" sz="2200" spc="-1" strike="noStrike">
                <a:solidFill>
                  <a:srgbClr val="000000"/>
                </a:solidFill>
                <a:latin typeface="Lucida Sans Unicode"/>
              </a:rPr>
              <a:t>odpadów budowlanych i rozbiórkowych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, do minimum </a:t>
            </a:r>
            <a:r>
              <a:rPr b="1" lang="pl-PL" sz="2200" spc="-1" strike="noStrike">
                <a:solidFill>
                  <a:srgbClr val="ff0000"/>
                </a:solidFill>
                <a:latin typeface="Lucida Sans Unicode"/>
              </a:rPr>
              <a:t>70 %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wagow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993300"/>
                </a:solidFill>
                <a:latin typeface="Lucida Sans Unicode"/>
              </a:rPr>
              <a:t>Zadania nałożono na gminy – ustawą o utrzymaniu czystości i porządku (UCP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5A48-CD90-4D80-8927-677B74AC655E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60" name="Picture 4" descr="MP900437342[1]"/>
          <p:cNvPicPr/>
          <p:nvPr/>
        </p:nvPicPr>
        <p:blipFill>
          <a:blip r:embed="rId1"/>
          <a:stretch/>
        </p:blipFill>
        <p:spPr>
          <a:xfrm>
            <a:off x="7451640" y="2276640"/>
            <a:ext cx="1616040" cy="12128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MM900336318[1]"/>
          <p:cNvPicPr/>
          <p:nvPr/>
        </p:nvPicPr>
        <p:blipFill>
          <a:blip r:embed="rId2"/>
          <a:stretch/>
        </p:blipFill>
        <p:spPr>
          <a:xfrm>
            <a:off x="7674120" y="4292640"/>
            <a:ext cx="117144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Wybrane modele selektywnego zbierania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pic>
        <p:nvPicPr>
          <p:cNvPr id="481" name="Picture 4" descr="MP900437342[1]"/>
          <p:cNvPicPr/>
          <p:nvPr/>
        </p:nvPicPr>
        <p:blipFill>
          <a:blip r:embed="rId1"/>
          <a:stretch/>
        </p:blipFill>
        <p:spPr>
          <a:xfrm>
            <a:off x="2890800" y="3295800"/>
            <a:ext cx="1616040" cy="1214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" descr="MC900056531[1]"/>
          <p:cNvPicPr/>
          <p:nvPr/>
        </p:nvPicPr>
        <p:blipFill>
          <a:blip r:embed="rId2"/>
          <a:stretch/>
        </p:blipFill>
        <p:spPr>
          <a:xfrm>
            <a:off x="879480" y="1482840"/>
            <a:ext cx="1127160" cy="11300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4" descr="MC900089336[1]"/>
          <p:cNvPicPr/>
          <p:nvPr/>
        </p:nvPicPr>
        <p:blipFill>
          <a:blip r:embed="rId3"/>
          <a:stretch/>
        </p:blipFill>
        <p:spPr>
          <a:xfrm>
            <a:off x="914400" y="2751120"/>
            <a:ext cx="1055520" cy="11527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6" descr="MC900437503[1]"/>
          <p:cNvPicPr/>
          <p:nvPr/>
        </p:nvPicPr>
        <p:blipFill>
          <a:blip r:embed="rId4"/>
          <a:stretch/>
        </p:blipFill>
        <p:spPr>
          <a:xfrm>
            <a:off x="6402240" y="3044880"/>
            <a:ext cx="1513080" cy="12110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1" descr="MC900215172[1]"/>
          <p:cNvPicPr/>
          <p:nvPr/>
        </p:nvPicPr>
        <p:blipFill>
          <a:blip r:embed="rId5"/>
          <a:stretch/>
        </p:blipFill>
        <p:spPr>
          <a:xfrm>
            <a:off x="7451640" y="3387600"/>
            <a:ext cx="1300320" cy="11415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2" descr="MC900250567[1]"/>
          <p:cNvPicPr/>
          <p:nvPr/>
        </p:nvPicPr>
        <p:blipFill>
          <a:blip r:embed="rId6"/>
          <a:stretch/>
        </p:blipFill>
        <p:spPr>
          <a:xfrm>
            <a:off x="7159680" y="2610000"/>
            <a:ext cx="1415880" cy="10396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0" descr="C:\Users\Sabina Kowalska\AppData\Local\Microsoft\Windows\Temporary Internet Files\Content.IE5\6BWPRNPK\MC900415470[1].wmf"/>
          <p:cNvPicPr/>
          <p:nvPr/>
        </p:nvPicPr>
        <p:blipFill>
          <a:blip r:embed="rId7"/>
          <a:stretch/>
        </p:blipFill>
        <p:spPr>
          <a:xfrm>
            <a:off x="568440" y="3903840"/>
            <a:ext cx="1627200" cy="13888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C:\Users\Sabina Kowalska\AppData\Local\Microsoft\Windows\Temporary Internet Files\Content.IE5\WYT2V2DH\MC900029991[1].wmf"/>
          <p:cNvPicPr/>
          <p:nvPr/>
        </p:nvPicPr>
        <p:blipFill>
          <a:blip r:embed="rId8"/>
          <a:stretch/>
        </p:blipFill>
        <p:spPr>
          <a:xfrm>
            <a:off x="623880" y="5229360"/>
            <a:ext cx="1685880" cy="1304640"/>
          </a:xfrm>
          <a:prstGeom prst="rect">
            <a:avLst/>
          </a:prstGeom>
          <a:ln w="0">
            <a:noFill/>
          </a:ln>
        </p:spPr>
      </p:pic>
      <p:sp>
        <p:nvSpPr>
          <p:cNvPr id="489" name="Nawias klamrowy zamykający 10"/>
          <p:cNvSpPr/>
          <p:nvPr/>
        </p:nvSpPr>
        <p:spPr>
          <a:xfrm>
            <a:off x="2432160" y="1482840"/>
            <a:ext cx="411120" cy="4933800"/>
          </a:xfrm>
          <a:custGeom>
            <a:avLst/>
            <a:gdLst>
              <a:gd name="textAreaLeft" fmla="*/ 0 w 411120"/>
              <a:gd name="textAreaRight" fmla="*/ 148320 w 411120"/>
              <a:gd name="textAreaTop" fmla="*/ 0 h 4933800"/>
              <a:gd name="textAreaBottom" fmla="*/ 4934160 h 493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4b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Picture 18" descr="C:\Users\Sabina Kowalska\AppData\Local\Microsoft\Windows\Temporary Internet Files\Content.IE5\WYT2V2DH\MC900305241[1].wmf"/>
          <p:cNvPicPr/>
          <p:nvPr/>
        </p:nvPicPr>
        <p:blipFill>
          <a:blip r:embed="rId9"/>
          <a:stretch/>
        </p:blipFill>
        <p:spPr>
          <a:xfrm>
            <a:off x="10766520" y="7061040"/>
            <a:ext cx="1050840" cy="1258920"/>
          </a:xfrm>
          <a:prstGeom prst="rect">
            <a:avLst/>
          </a:prstGeom>
          <a:ln w="0">
            <a:noFill/>
          </a:ln>
        </p:spPr>
      </p:pic>
      <p:sp>
        <p:nvSpPr>
          <p:cNvPr id="491" name="pole tekstowe 14"/>
          <p:cNvSpPr/>
          <p:nvPr/>
        </p:nvSpPr>
        <p:spPr>
          <a:xfrm>
            <a:off x="5904000" y="4573440"/>
            <a:ext cx="309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Leki, chemikalia, baterie, akumulatory, zseie, wielkiegabaryty, budowlane, opony, zielone+ makulatura, szkło, tworzywa, metale, wielomateriałow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ole tekstowe 34"/>
          <p:cNvSpPr/>
          <p:nvPr/>
        </p:nvSpPr>
        <p:spPr>
          <a:xfrm>
            <a:off x="2637000" y="156852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makulatura, szkło, tworzywa, </a:t>
            </a:r>
            <a:r>
              <a:rPr b="0" lang="pl-PL" sz="1800" spc="-1" strike="noStrike">
                <a:solidFill>
                  <a:srgbClr val="00b050"/>
                </a:solidFill>
                <a:latin typeface="Lucida Sans Unicode"/>
              </a:rPr>
              <a:t>zielone, wielkiegabaryty, budowlane: jako usługa dodatkowa, lub dostarczanie do PS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ole tekstowe 2"/>
          <p:cNvSpPr/>
          <p:nvPr/>
        </p:nvSpPr>
        <p:spPr>
          <a:xfrm>
            <a:off x="2771640" y="44118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Pojemniki ogólnodostępn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Wybrane modele selektywnego zbierania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pic>
        <p:nvPicPr>
          <p:cNvPr id="495" name="Picture 4" descr="MP900437342[1]"/>
          <p:cNvPicPr/>
          <p:nvPr/>
        </p:nvPicPr>
        <p:blipFill>
          <a:blip r:embed="rId1"/>
          <a:stretch/>
        </p:blipFill>
        <p:spPr>
          <a:xfrm>
            <a:off x="5365800" y="4929120"/>
            <a:ext cx="1617480" cy="10699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" descr="MC900056531[1]"/>
          <p:cNvPicPr/>
          <p:nvPr/>
        </p:nvPicPr>
        <p:blipFill>
          <a:blip r:embed="rId2"/>
          <a:stretch/>
        </p:blipFill>
        <p:spPr>
          <a:xfrm>
            <a:off x="879480" y="1482840"/>
            <a:ext cx="1127160" cy="11300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4" descr="MC900089336[1]"/>
          <p:cNvPicPr/>
          <p:nvPr/>
        </p:nvPicPr>
        <p:blipFill>
          <a:blip r:embed="rId3"/>
          <a:stretch/>
        </p:blipFill>
        <p:spPr>
          <a:xfrm>
            <a:off x="914400" y="2751120"/>
            <a:ext cx="1055520" cy="11527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6" descr="MC900437503[1]"/>
          <p:cNvPicPr/>
          <p:nvPr/>
        </p:nvPicPr>
        <p:blipFill>
          <a:blip r:embed="rId4"/>
          <a:stretch/>
        </p:blipFill>
        <p:spPr>
          <a:xfrm>
            <a:off x="6622920" y="3327480"/>
            <a:ext cx="1710000" cy="13683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1" descr="MC900215172[1]"/>
          <p:cNvPicPr/>
          <p:nvPr/>
        </p:nvPicPr>
        <p:blipFill>
          <a:blip r:embed="rId5"/>
          <a:stretch/>
        </p:blipFill>
        <p:spPr>
          <a:xfrm>
            <a:off x="7093080" y="1946160"/>
            <a:ext cx="1573200" cy="13813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2" descr="MC900250567[1]"/>
          <p:cNvPicPr/>
          <p:nvPr/>
        </p:nvPicPr>
        <p:blipFill>
          <a:blip r:embed="rId6"/>
          <a:stretch/>
        </p:blipFill>
        <p:spPr>
          <a:xfrm>
            <a:off x="5867280" y="2392200"/>
            <a:ext cx="1511280" cy="11080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0" descr="C:\Users\Sabina Kowalska\AppData\Local\Microsoft\Windows\Temporary Internet Files\Content.IE5\6BWPRNPK\MC900415470[1].wmf"/>
          <p:cNvPicPr/>
          <p:nvPr/>
        </p:nvPicPr>
        <p:blipFill>
          <a:blip r:embed="rId7"/>
          <a:stretch/>
        </p:blipFill>
        <p:spPr>
          <a:xfrm>
            <a:off x="568440" y="3903840"/>
            <a:ext cx="1863720" cy="15890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Users\Sabina Kowalska\AppData\Local\Microsoft\Windows\Temporary Internet Files\Content.IE5\WYT2V2DH\MC900029991[1].wmf"/>
          <p:cNvPicPr/>
          <p:nvPr/>
        </p:nvPicPr>
        <p:blipFill>
          <a:blip r:embed="rId8"/>
          <a:stretch/>
        </p:blipFill>
        <p:spPr>
          <a:xfrm>
            <a:off x="623880" y="5229360"/>
            <a:ext cx="1685880" cy="13046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8" descr="C:\Users\Sabina Kowalska\AppData\Local\Microsoft\Windows\Temporary Internet Files\Content.IE5\WYT2V2DH\MC900305241[1].wmf"/>
          <p:cNvPicPr/>
          <p:nvPr/>
        </p:nvPicPr>
        <p:blipFill>
          <a:blip r:embed="rId9"/>
          <a:stretch/>
        </p:blipFill>
        <p:spPr>
          <a:xfrm>
            <a:off x="10766520" y="7061040"/>
            <a:ext cx="1050840" cy="1258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C:\Users\Sabina Kowalska\AppData\Local\Microsoft\Windows\Temporary Internet Files\Content.IE5\6BWPRNPK\MC900318432[1].wmf"/>
          <p:cNvPicPr/>
          <p:nvPr/>
        </p:nvPicPr>
        <p:blipFill>
          <a:blip r:embed="rId10"/>
          <a:stretch/>
        </p:blipFill>
        <p:spPr>
          <a:xfrm>
            <a:off x="3068640" y="29894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05" name="Nawias klamrowy zamykający 6"/>
          <p:cNvSpPr/>
          <p:nvPr/>
        </p:nvSpPr>
        <p:spPr>
          <a:xfrm>
            <a:off x="2309760" y="1557360"/>
            <a:ext cx="749520" cy="4911840"/>
          </a:xfrm>
          <a:custGeom>
            <a:avLst/>
            <a:gdLst>
              <a:gd name="textAreaLeft" fmla="*/ 0 w 749520"/>
              <a:gd name="textAreaRight" fmla="*/ 270720 w 749520"/>
              <a:gd name="textAreaTop" fmla="*/ 19440 h 4911840"/>
              <a:gd name="textAreaBottom" fmla="*/ 4892400 h 491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8"/>
                  <a:pt x="10800" y="275"/>
                </a:cubicBezTo>
                <a:lnTo>
                  <a:pt x="10800" y="10525"/>
                </a:lnTo>
                <a:cubicBezTo>
                  <a:pt x="10800" y="10663"/>
                  <a:pt x="16200" y="10800"/>
                  <a:pt x="21600" y="10800"/>
                </a:cubicBezTo>
                <a:cubicBezTo>
                  <a:pt x="16200" y="10800"/>
                  <a:pt x="10800" y="10938"/>
                  <a:pt x="10800" y="11075"/>
                </a:cubicBezTo>
                <a:lnTo>
                  <a:pt x="10800" y="21325"/>
                </a:lnTo>
                <a:cubicBezTo>
                  <a:pt x="10800" y="2146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4b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ole tekstowe 13"/>
          <p:cNvSpPr/>
          <p:nvPr/>
        </p:nvSpPr>
        <p:spPr>
          <a:xfrm>
            <a:off x="3059280" y="1746360"/>
            <a:ext cx="21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System dualny „suche” , „mokre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Nawias klamrowy zamykający 14"/>
          <p:cNvSpPr/>
          <p:nvPr/>
        </p:nvSpPr>
        <p:spPr>
          <a:xfrm>
            <a:off x="5076720" y="1746360"/>
            <a:ext cx="503280" cy="4722840"/>
          </a:xfrm>
          <a:custGeom>
            <a:avLst/>
            <a:gdLst>
              <a:gd name="textAreaLeft" fmla="*/ 0 w 503280"/>
              <a:gd name="textAreaRight" fmla="*/ 181800 w 503280"/>
              <a:gd name="textAreaTop" fmla="*/ 12960 h 4722840"/>
              <a:gd name="textAreaBottom" fmla="*/ 4709880 h 472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6"/>
                  <a:pt x="10800" y="192"/>
                </a:cubicBezTo>
                <a:lnTo>
                  <a:pt x="10800" y="10608"/>
                </a:lnTo>
                <a:cubicBezTo>
                  <a:pt x="10800" y="10704"/>
                  <a:pt x="16200" y="10800"/>
                  <a:pt x="21600" y="10800"/>
                </a:cubicBezTo>
                <a:cubicBezTo>
                  <a:pt x="16200" y="10800"/>
                  <a:pt x="10800" y="10896"/>
                  <a:pt x="10800" y="10992"/>
                </a:cubicBezTo>
                <a:lnTo>
                  <a:pt x="10800" y="21408"/>
                </a:lnTo>
                <a:cubicBezTo>
                  <a:pt x="10800" y="2150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4b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ole tekstowe 15"/>
          <p:cNvSpPr/>
          <p:nvPr/>
        </p:nvSpPr>
        <p:spPr>
          <a:xfrm>
            <a:off x="6227640" y="5823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Pojemniki ogólnodostępn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Właściciel nieruchomości</a:t>
            </a:r>
            <a:endParaRPr b="0" lang="en-US" sz="3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041120" y="2491920"/>
            <a:ext cx="67705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Lucida Sans Unicode"/>
              </a:rPr>
              <a:t>Właściciele nieruchomości w rozumieniu ustawy u.c.p. </a:t>
            </a: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to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właściciele, współwłaściciele,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użytkownicy wieczyści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jednostki organizacyjn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osoby posiadające nieruchomości w zarządzie lub użytkowaniu,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a także inne podmioty władające nieruchomością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C802-E776-4CCC-9DE3-8197D3D81DCA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2" name="Picture 4" descr="MC900056531[1]"/>
          <p:cNvPicPr/>
          <p:nvPr/>
        </p:nvPicPr>
        <p:blipFill>
          <a:blip r:embed="rId1"/>
          <a:stretch/>
        </p:blipFill>
        <p:spPr>
          <a:xfrm>
            <a:off x="2987640" y="1231920"/>
            <a:ext cx="1008000" cy="10112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4" descr="MC900089336[1]"/>
          <p:cNvPicPr/>
          <p:nvPr/>
        </p:nvPicPr>
        <p:blipFill>
          <a:blip r:embed="rId2"/>
          <a:stretch/>
        </p:blipFill>
        <p:spPr>
          <a:xfrm>
            <a:off x="4788000" y="1138320"/>
            <a:ext cx="1055520" cy="11523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7" descr="MC900089320[1]"/>
          <p:cNvPicPr/>
          <p:nvPr/>
        </p:nvPicPr>
        <p:blipFill>
          <a:blip r:embed="rId3"/>
          <a:stretch/>
        </p:blipFill>
        <p:spPr>
          <a:xfrm>
            <a:off x="6372360" y="1179360"/>
            <a:ext cx="1104840" cy="9874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1" descr="MC900344289[1]"/>
          <p:cNvPicPr/>
          <p:nvPr/>
        </p:nvPicPr>
        <p:blipFill>
          <a:blip r:embed="rId4"/>
          <a:stretch/>
        </p:blipFill>
        <p:spPr>
          <a:xfrm>
            <a:off x="1403280" y="1179360"/>
            <a:ext cx="115272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Właściciel nieruchomości</a:t>
            </a:r>
            <a:endParaRPr b="0" lang="en-US" sz="3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332000" y="2565360"/>
            <a:ext cx="6480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Właściciele nieruchomości zapewniają utrzymanie czystości i porządku przez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Lucida Sans Unicode"/>
              </a:rPr>
              <a:t>wyposażenie nieruchomości w pojemniki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służące do zbierania odpadów komunalnych oraz utrzymywanie tych pojemników w odpowiednim stanie sanitarnym, porządkowym i technicznym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Lucida Sans Unicode"/>
              </a:rPr>
              <a:t>zbieranie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powstałych na terenie nieruchomości odpadów komunalnych </a:t>
            </a:r>
            <a:r>
              <a:rPr b="1" lang="pl-PL" sz="2200" spc="-1" strike="noStrike">
                <a:solidFill>
                  <a:srgbClr val="000000"/>
                </a:solidFill>
                <a:latin typeface="Lucida Sans Unicode"/>
              </a:rPr>
              <a:t>zgodnie z wymaganiami określonymi w regulaminie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2CD8-C2A2-4604-B7FC-B288FED3D723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9" name="Picture 4" descr="MC900056531[1]"/>
          <p:cNvPicPr/>
          <p:nvPr/>
        </p:nvPicPr>
        <p:blipFill>
          <a:blip r:embed="rId1"/>
          <a:stretch/>
        </p:blipFill>
        <p:spPr>
          <a:xfrm>
            <a:off x="3263760" y="1206360"/>
            <a:ext cx="1008360" cy="1011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4" descr="MC900089336[1]"/>
          <p:cNvPicPr/>
          <p:nvPr/>
        </p:nvPicPr>
        <p:blipFill>
          <a:blip r:embed="rId2"/>
          <a:stretch/>
        </p:blipFill>
        <p:spPr>
          <a:xfrm>
            <a:off x="4788000" y="1135080"/>
            <a:ext cx="1055520" cy="1152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7" descr="MC900089320[1]"/>
          <p:cNvPicPr/>
          <p:nvPr/>
        </p:nvPicPr>
        <p:blipFill>
          <a:blip r:embed="rId3"/>
          <a:stretch/>
        </p:blipFill>
        <p:spPr>
          <a:xfrm>
            <a:off x="6372360" y="1141560"/>
            <a:ext cx="1104840" cy="9871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1" descr="MC900344289[1]"/>
          <p:cNvPicPr/>
          <p:nvPr/>
        </p:nvPicPr>
        <p:blipFill>
          <a:blip r:embed="rId4"/>
          <a:stretch/>
        </p:blipFill>
        <p:spPr>
          <a:xfrm>
            <a:off x="1619280" y="1179360"/>
            <a:ext cx="115236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17440"/>
            <a:ext cx="814716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Deklaracja -</a:t>
            </a:r>
            <a:r>
              <a:rPr b="0" lang="pl-PL" sz="40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pl-PL" sz="1000" spc="-1" strike="noStrike">
                <a:solidFill>
                  <a:srgbClr val="ff0000"/>
                </a:solidFill>
                <a:latin typeface="Lucida Sans Unicode"/>
              </a:rPr>
              <a:t>Dokument który może być jednocześnie – zamówieniem usług</a:t>
            </a:r>
            <a:endParaRPr b="0" lang="en-US" sz="1000" spc="-1" strike="noStrike">
              <a:solidFill>
                <a:srgbClr val="775f55"/>
              </a:solidFill>
              <a:latin typeface="Lucida Sans Unicode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539640" y="981000"/>
          <a:ext cx="8153640" cy="5780160"/>
        </p:xfrm>
        <a:graphic>
          <a:graphicData uri="http://schemas.openxmlformats.org/drawingml/2006/table">
            <a:tbl>
              <a:tblPr/>
              <a:tblGrid>
                <a:gridCol w="2266920"/>
                <a:gridCol w="1809720"/>
                <a:gridCol w="2038680"/>
                <a:gridCol w="2038320"/>
              </a:tblGrid>
              <a:tr h="126000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Liczba osób przebywająca na terenie nieruchomośc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posób zbierania odpad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Opłata jednostkow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Opł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76140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Wpisać liczbę osó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Wybrać rodzaj zbierania odpad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ok 2013 (wg uchwały Rady Gminy z dnia …… Nr ……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Przemnożyć liczbę osób przez opłatę jednostkow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0663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elektywny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makulatura, szkło, tworzywa, met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tawka z uchwały (z VAT)  osobę/miesią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……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zł/miesią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7896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 dotyc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miesz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tawka z uchwały (z VA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2014200">
                <a:tc gridSpan="4"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Usługi dodatkowe 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starczenie pojemnika : 120 l…..zł /mc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ycie pojemnika 120 l (1 x miesiąc) ….. zł/m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dbiór odpadów zielonych  120l (2 x miesiąc )…..zł/mc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stępne są inne usługi dodatkow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dbiór odpadów wielkogabarytowych  ….. zł/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dbiór odpadów budowlanych ….zł/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5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3C3C-E30D-47B4-A93A-71DA418AD8F6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rostokąt zaokrąglony 5"/>
          <p:cNvSpPr/>
          <p:nvPr/>
        </p:nvSpPr>
        <p:spPr>
          <a:xfrm>
            <a:off x="7164360" y="5311800"/>
            <a:ext cx="216000" cy="1443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424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rostokąt zaokrąglony 7"/>
          <p:cNvSpPr/>
          <p:nvPr/>
        </p:nvSpPr>
        <p:spPr>
          <a:xfrm>
            <a:off x="7151760" y="5664240"/>
            <a:ext cx="216000" cy="1443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424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rostokąt zaokrąglony 9"/>
          <p:cNvSpPr/>
          <p:nvPr/>
        </p:nvSpPr>
        <p:spPr>
          <a:xfrm>
            <a:off x="7164360" y="5013360"/>
            <a:ext cx="216000" cy="1443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424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Deklaracje </a:t>
            </a:r>
            <a:r>
              <a:rPr b="0" lang="pl-PL" sz="1200" spc="-1" strike="noStrike">
                <a:solidFill>
                  <a:srgbClr val="775f55"/>
                </a:solidFill>
                <a:latin typeface="Lucida Sans Unicode"/>
              </a:rPr>
              <a:t>(ustawa o utrzymaniu czystości i porządku w gminach)</a:t>
            </a: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 </a:t>
            </a:r>
            <a:endParaRPr b="0" lang="en-US" sz="3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249192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B5F7-DA3A-4486-9857-FBFB2F661CD9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2" name="Picture 4" descr="MC900344289[1]"/>
          <p:cNvPicPr/>
          <p:nvPr/>
        </p:nvPicPr>
        <p:blipFill>
          <a:blip r:embed="rId1"/>
          <a:stretch/>
        </p:blipFill>
        <p:spPr>
          <a:xfrm>
            <a:off x="7631280" y="765000"/>
            <a:ext cx="1225440" cy="1130400"/>
          </a:xfrm>
          <a:prstGeom prst="rect">
            <a:avLst/>
          </a:prstGeom>
          <a:ln w="0">
            <a:noFill/>
          </a:ln>
        </p:spPr>
      </p:pic>
      <p:sp>
        <p:nvSpPr>
          <p:cNvPr id="533" name="Prostokąt 1"/>
          <p:cNvSpPr/>
          <p:nvPr/>
        </p:nvSpPr>
        <p:spPr>
          <a:xfrm>
            <a:off x="1116000" y="2476440"/>
            <a:ext cx="691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eklaracje </a:t>
            </a:r>
            <a:r>
              <a:rPr b="0" lang="pl-PL" sz="2400" spc="-1" strike="noStrike">
                <a:solidFill>
                  <a:srgbClr val="0070c0"/>
                </a:solidFill>
                <a:latin typeface="Lucida Sans Unicode"/>
              </a:rPr>
              <a:t>(wzór uchwała Rady Gminy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łaściciel nieruchomości składa deklarację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o wysokości opłaty za gospodarowanie odpadami komunalnymi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 w terminie </a:t>
            </a: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14 dni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d dnia zamieszkania na danej nieruchomości pierwszego mieszkańca lub powstania na danej nieruchomości odpadów komunalnych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miana danych (np. liczba osób zamieszkujących) – nowa deklaracja </a:t>
            </a: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(14 dn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4" name="Picture 19" descr="MC900297161[1]"/>
          <p:cNvPicPr/>
          <p:nvPr/>
        </p:nvPicPr>
        <p:blipFill>
          <a:blip r:embed="rId2"/>
          <a:stretch/>
        </p:blipFill>
        <p:spPr>
          <a:xfrm>
            <a:off x="7885080" y="1978200"/>
            <a:ext cx="86364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Deklaracje </a:t>
            </a:r>
            <a:r>
              <a:rPr b="0" lang="pl-PL" sz="1200" spc="-1" strike="noStrike">
                <a:solidFill>
                  <a:srgbClr val="775f55"/>
                </a:solidFill>
                <a:latin typeface="Lucida Sans Unicode"/>
              </a:rPr>
              <a:t>(ustawa o utrzymaniu czystości i porządku w gminach)</a:t>
            </a: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 </a:t>
            </a:r>
            <a:endParaRPr b="0" lang="en-US" sz="3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68360" y="24206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FB79-AC8C-4FCC-9A01-0F7FB61C485D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8" name="Picture 4" descr="MC900344289[1]"/>
          <p:cNvPicPr/>
          <p:nvPr/>
        </p:nvPicPr>
        <p:blipFill>
          <a:blip r:embed="rId1"/>
          <a:stretch/>
        </p:blipFill>
        <p:spPr>
          <a:xfrm>
            <a:off x="7236000" y="1271520"/>
            <a:ext cx="1223640" cy="1130400"/>
          </a:xfrm>
          <a:prstGeom prst="rect">
            <a:avLst/>
          </a:prstGeom>
          <a:ln w="0">
            <a:noFill/>
          </a:ln>
        </p:spPr>
      </p:pic>
      <p:sp>
        <p:nvSpPr>
          <p:cNvPr id="539" name="Prostokąt 1"/>
          <p:cNvSpPr/>
          <p:nvPr/>
        </p:nvSpPr>
        <p:spPr>
          <a:xfrm>
            <a:off x="1084320" y="2421000"/>
            <a:ext cx="7088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Wzór deklaracji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-objaśnienie dotyczące sposobu jej wypełnienia, terminy i miejsce składania deklaracj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-deklaracja stanowi podstawę do wystawienia tytułu wykonawczeg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Lucida Sans Unicode"/>
              </a:rPr>
              <a:t>Rada Gminy może określić wykaz dokumentów potwierdzających dane zawarte w deklaracji </a:t>
            </a: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(weryfikacja prawdziwości złożonej deklaracji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0" name="Picture 19" descr="MC900297161[1]"/>
          <p:cNvPicPr/>
          <p:nvPr/>
        </p:nvPicPr>
        <p:blipFill>
          <a:blip r:embed="rId2"/>
          <a:stretch/>
        </p:blipFill>
        <p:spPr>
          <a:xfrm>
            <a:off x="6084720" y="1484280"/>
            <a:ext cx="8636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Deklaracje </a:t>
            </a:r>
            <a:r>
              <a:rPr b="0" lang="pl-PL" sz="1200" spc="-1" strike="noStrike">
                <a:solidFill>
                  <a:srgbClr val="775f55"/>
                </a:solidFill>
                <a:latin typeface="Lucida Sans Unicode"/>
              </a:rPr>
              <a:t>(ustawa o utrzymaniu czystości i porządku w gminach)</a:t>
            </a: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 </a:t>
            </a:r>
            <a:endParaRPr b="0" lang="en-US" sz="3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249192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2D5A-C553-4881-AAB0-E4F3E3BAC0CE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4" name="Picture 4" descr="MC900344289[1]"/>
          <p:cNvPicPr/>
          <p:nvPr/>
        </p:nvPicPr>
        <p:blipFill>
          <a:blip r:embed="rId1"/>
          <a:stretch/>
        </p:blipFill>
        <p:spPr>
          <a:xfrm>
            <a:off x="7596360" y="260280"/>
            <a:ext cx="1223640" cy="1130400"/>
          </a:xfrm>
          <a:prstGeom prst="rect">
            <a:avLst/>
          </a:prstGeom>
          <a:ln w="0">
            <a:noFill/>
          </a:ln>
        </p:spPr>
      </p:pic>
      <p:sp>
        <p:nvSpPr>
          <p:cNvPr id="545" name="Prostokąt 1"/>
          <p:cNvSpPr/>
          <p:nvPr/>
        </p:nvSpPr>
        <p:spPr>
          <a:xfrm>
            <a:off x="1101600" y="155736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eklaracje cd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eklaracja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niezłożona lub wątpliwa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– wysokość opłaty ustalana w drodze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decyzji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(np. na bazie średniej ilości odpadów komunalnych powstających na nieruchomościach o podobnym charakterze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płata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nie wniesiona lub za niska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– decyzja jak dla zaległośc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 sprawach dotyczących opłat - stosuje się przepisy 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ustawy z dnia 29 sierpnia 1997 r. -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Ordynacja podatkowa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, z tym że uprawnienia organów podatkowych przysługują wójtowi, burmistrzowi lub prezydentowi miast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Opłaty </a:t>
            </a:r>
            <a:r>
              <a:rPr b="0" lang="pl-PL" sz="1200" spc="-1" strike="noStrike">
                <a:solidFill>
                  <a:srgbClr val="775f55"/>
                </a:solidFill>
                <a:latin typeface="Lucida Sans Unicode"/>
              </a:rPr>
              <a:t>(ustawa o utrzymaniu czystości i porządku w gminach)</a:t>
            </a: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 </a:t>
            </a:r>
            <a:endParaRPr b="0" lang="en-US" sz="3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249192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B79D-E7D6-4CBF-927C-CBA74C87D9F4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9" name="Picture 4" descr="MC900344289[1]"/>
          <p:cNvPicPr/>
          <p:nvPr/>
        </p:nvPicPr>
        <p:blipFill>
          <a:blip r:embed="rId1"/>
          <a:stretch/>
        </p:blipFill>
        <p:spPr>
          <a:xfrm>
            <a:off x="7164360" y="620640"/>
            <a:ext cx="1224000" cy="1130400"/>
          </a:xfrm>
          <a:prstGeom prst="rect">
            <a:avLst/>
          </a:prstGeom>
          <a:ln w="0">
            <a:noFill/>
          </a:ln>
        </p:spPr>
      </p:pic>
      <p:sp>
        <p:nvSpPr>
          <p:cNvPr id="550" name="Prostokąt 1"/>
          <p:cNvSpPr/>
          <p:nvPr/>
        </p:nvSpPr>
        <p:spPr>
          <a:xfrm>
            <a:off x="1042920" y="1989000"/>
            <a:ext cx="741672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Koszty systemu gospodarowania odpadami komunalnymi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koszty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dbierania, transportu, zbierania, odzysku i unieszkodliwiania odpadów komunalnych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tworzenia i utrzymania punktów selektywnego zbierania odpadów komunalnych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obsługi administracyjnej tego systemu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unkty selektywnego zbierania odpadów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476360" y="1557360"/>
          <a:ext cx="4711680" cy="5029200"/>
        </p:xfrm>
        <a:graphic>
          <a:graphicData uri="http://schemas.openxmlformats.org/drawingml/2006/table">
            <a:tbl>
              <a:tblPr/>
              <a:tblGrid>
                <a:gridCol w="3141720"/>
                <a:gridCol w="1569960"/>
              </a:tblGrid>
              <a:tr h="43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kt selektywnego zbierania odpadó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kłady inwestycyj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 1000 m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wardzeni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grodzeni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świetleni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da- przyłącze, kanalizacja- przyłącze lub szamb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enery na odpady (6 szt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ener -dozorcówka + pojemniki na odpady niebezpiecz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zty operacyj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yzacj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ługa (1 osoba 2 x tydzień po 6 godzin/dzień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wanie odpadów (odzysk unieszkodliwianie, transport) </a:t>
                      </a:r>
                      <a:r>
                        <a:rPr b="1" lang="pl-PL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% w tym ziel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94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336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Dyrektywa 1999/31 </a:t>
            </a: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składowiskowa 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63800" y="1988640"/>
            <a:ext cx="72165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Zapewnianie warunków </a:t>
            </a: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ograniczenia</a:t>
            </a: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 masy odpadów komunalnych ulegających </a:t>
            </a: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biodegradacji kierowanych do składowania</a:t>
            </a: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b) do dnia 16 lipca </a:t>
            </a:r>
            <a:r>
              <a:rPr b="0" lang="pl-PL" sz="2000" spc="-1" strike="noStrike">
                <a:solidFill>
                  <a:srgbClr val="ff0000"/>
                </a:solidFill>
                <a:latin typeface="Lucida Sans Unicode"/>
              </a:rPr>
              <a:t>2013 r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. - do nie więcej niż </a:t>
            </a:r>
            <a:r>
              <a:rPr b="0" lang="pl-PL" sz="2000" spc="-1" strike="noStrike">
                <a:solidFill>
                  <a:srgbClr val="ff0000"/>
                </a:solidFill>
                <a:latin typeface="Lucida Sans Unicode"/>
              </a:rPr>
              <a:t>50 % wagowo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całkowitej masy odpadów komunalnych ulegających biodegradacji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c) do dnia 16 lipca </a:t>
            </a:r>
            <a:r>
              <a:rPr b="0" lang="pl-PL" sz="2000" spc="-1" strike="noStrike">
                <a:solidFill>
                  <a:srgbClr val="ff0000"/>
                </a:solidFill>
                <a:latin typeface="Lucida Sans Unicode"/>
              </a:rPr>
              <a:t>2020 r.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- do nie więcej niż </a:t>
            </a:r>
            <a:r>
              <a:rPr b="0" lang="pl-PL" sz="2000" spc="-1" strike="noStrike">
                <a:solidFill>
                  <a:srgbClr val="ff0000"/>
                </a:solidFill>
                <a:latin typeface="Lucida Sans Unicode"/>
              </a:rPr>
              <a:t>35 % wagowo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całkowitej masy odpadów komunalnych ulegających biodegradacj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w stosunku do masy tych odpadów wytworzonych w 1995 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6FBF-54E5-44AE-B747-55899874978F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odsumowanie kosztów – nowego systemu gospodarowania odpadami komunalnymi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1258920" y="1773360"/>
          <a:ext cx="6481800" cy="3249360"/>
        </p:xfrm>
        <a:graphic>
          <a:graphicData uri="http://schemas.openxmlformats.org/drawingml/2006/table">
            <a:tbl>
              <a:tblPr/>
              <a:tblGrid>
                <a:gridCol w="2162160"/>
                <a:gridCol w="1081080"/>
                <a:gridCol w="1081080"/>
                <a:gridCol w="1081080"/>
                <a:gridCol w="1076400"/>
              </a:tblGrid>
              <a:tr h="2682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i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e wejściow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mieszkańców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gromadzenie kg/os/ r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ość odpadów od mieszkańców (bez usług i turystów)Mg/r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ość odpadów od mieszkańców zbierana selektywnie -surowc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.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27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48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62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33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 m-w.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7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6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67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em powi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 94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09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odsumowanie kosztów – nowego systemu gospodarowania odpadami komunalnymi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39640" y="1916280"/>
          <a:ext cx="8064720" cy="3349440"/>
        </p:xfrm>
        <a:graphic>
          <a:graphicData uri="http://schemas.openxmlformats.org/drawingml/2006/table">
            <a:tbl>
              <a:tblPr/>
              <a:tblGrid>
                <a:gridCol w="2017800"/>
                <a:gridCol w="1008000"/>
                <a:gridCol w="1008000"/>
                <a:gridCol w="1009800"/>
                <a:gridCol w="1008000"/>
                <a:gridCol w="1008000"/>
                <a:gridCol w="1005120"/>
              </a:tblGrid>
              <a:tr h="2570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i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y - odpady zmieszan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y - odpady selektywnie zebran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bieranie zł/r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port zł/r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eszkodliwianie zł/r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bieranie i przetwarzanie zł/r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port zł/r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kty selektywnego zbiarania odpad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.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42 96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 45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684 81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 08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11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 75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3 68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99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 67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72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 73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 45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36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 22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20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3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62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 50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6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 86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45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 28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 m-w.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 46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15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7 06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 34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7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 97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6 96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36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 8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15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5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 09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em powi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05 05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 89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772 45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4 97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58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 46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 265 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 442 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odsumowanie kosztów – nowego systemu gospodarowania odpadami komunalnymi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826920" y="1628640"/>
          <a:ext cx="7632720" cy="3594240"/>
        </p:xfrm>
        <a:graphic>
          <a:graphicData uri="http://schemas.openxmlformats.org/drawingml/2006/table">
            <a:tbl>
              <a:tblPr/>
              <a:tblGrid>
                <a:gridCol w="1927440"/>
                <a:gridCol w="961920"/>
                <a:gridCol w="992160"/>
                <a:gridCol w="992160"/>
                <a:gridCol w="690840"/>
                <a:gridCol w="688680"/>
                <a:gridCol w="690840"/>
                <a:gridCol w="688680"/>
              </a:tblGrid>
              <a:tr h="122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i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y administracyjne system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em Kosz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jednostkowy zł/os/mc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zł/M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zł/m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pojemnik 12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Koszty administacji, edukacji i punktów selektywnego gromadzenia /koszty całkowite 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.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642 7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,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 2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 67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,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,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 2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9 25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,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1,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 2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9 71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5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,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7,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 m-w.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 0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77 09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,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7,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 2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8 49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,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em powi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707 93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,6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odsumowanie kosztów – nowego systemu gospodarowania odpadami komunalnymi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755640" y="1844640"/>
          <a:ext cx="7561440" cy="4646520"/>
        </p:xfrm>
        <a:graphic>
          <a:graphicData uri="http://schemas.openxmlformats.org/drawingml/2006/table">
            <a:tbl>
              <a:tblPr/>
              <a:tblGrid>
                <a:gridCol w="1079640"/>
                <a:gridCol w="1081080"/>
                <a:gridCol w="1079280"/>
                <a:gridCol w="1081080"/>
                <a:gridCol w="1079640"/>
                <a:gridCol w="1079640"/>
                <a:gridCol w="1081080"/>
              </a:tblGrid>
              <a:tr h="1738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ównanie kosztów - to nie jest cena usłu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Dzisiaj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Jutro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jednostkowy zł/os/m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zł/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zł/m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jednostkowy zł/os/m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zł/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zł/m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8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.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8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8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8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5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8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 m-w.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8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41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em pow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879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ena = koszt + marża zysku 10% + VAT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7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1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odsumowanie kosztów – nowego systemu gospodarowania odpadami komunalnymi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pic>
        <p:nvPicPr>
          <p:cNvPr id="562" name="Symbol zastępczy zawartości 7" descr=""/>
          <p:cNvPicPr/>
          <p:nvPr/>
        </p:nvPicPr>
        <p:blipFill>
          <a:blip r:embed="rId1"/>
          <a:stretch/>
        </p:blipFill>
        <p:spPr>
          <a:xfrm>
            <a:off x="615960" y="1603440"/>
            <a:ext cx="815004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System dualny 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dpady </a:t>
            </a:r>
            <a:r>
              <a:rPr b="0" lang="pl-PL" sz="2700" spc="-1" strike="noStrike">
                <a:solidFill>
                  <a:srgbClr val="ff0000"/>
                </a:solidFill>
                <a:latin typeface="Lucida Sans Unicode"/>
              </a:rPr>
              <a:t>„suche”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– głównie odpady opakowaniowe + gazety,  metale, drewno, tworzywa (nieopakowaniow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pady </a:t>
            </a:r>
            <a:r>
              <a:rPr b="0" lang="pl-PL" sz="2700" spc="-1" strike="noStrike">
                <a:solidFill>
                  <a:srgbClr val="ff0000"/>
                </a:solidFill>
                <a:latin typeface="Lucida Sans Unicode"/>
              </a:rPr>
              <a:t>„mokre”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– głównie odpady kuchenne biodegradowalne i ogrodowe.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yróżnia się podsystemy, w których wskazuje się, która z frakcji jest frakcją „resztkową” czyli do której należy wrzucić odpady niezdefiniowane (np. pieluchy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2F5B-D380-454D-979D-49527B8DD33C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Odpady – definicje 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Lucida Sans Unicode"/>
              </a:rPr>
              <a:t>Odpady komunalne </a:t>
            </a: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(art. 3 ustawy o odpadach – definicje)</a:t>
            </a: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- rozumie się przez to odpady powstające </a:t>
            </a:r>
            <a:r>
              <a:rPr b="1" lang="pl-PL" sz="2500" spc="-1" strike="noStrike">
                <a:solidFill>
                  <a:srgbClr val="000000"/>
                </a:solidFill>
                <a:latin typeface="Lucida Sans Unicode"/>
              </a:rPr>
              <a:t>w gospodarstwach domowych</a:t>
            </a: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, z wyłączeniem pojazdów wycofanych z eksploatacji, a także odpady </a:t>
            </a:r>
            <a:r>
              <a:rPr b="1" lang="pl-PL" sz="2500" spc="-1" strike="noStrike">
                <a:solidFill>
                  <a:srgbClr val="000000"/>
                </a:solidFill>
                <a:latin typeface="Lucida Sans Unicode"/>
              </a:rPr>
              <a:t>niezawierające odpadów niebezpiecznych pochodzące od innych wytwórców odpadów, które ze względu na swój charakter lub skład są podobne do odpadów powstających w gospodarstwach domowych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0000"/>
                </a:solidFill>
                <a:latin typeface="Lucida Sans Unicode"/>
              </a:rPr>
              <a:t>Kod 20 03 01 niesegregowane (zmieszane) odpady komunalne ( podgrupa inne odpady komunalne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29FE-F7E9-4981-85D4-3BB55E934495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Opady - definicje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Lucida Sans Unicode"/>
              </a:rPr>
              <a:t>odpady zielone </a:t>
            </a:r>
            <a:r>
              <a:rPr b="0" lang="pl-PL" sz="1100" spc="-1" strike="noStrike">
                <a:solidFill>
                  <a:srgbClr val="000000"/>
                </a:solidFill>
                <a:latin typeface="Lucida Sans Unicode"/>
              </a:rPr>
              <a:t>(art. 3 ustawy o odpadach – definicje) </a:t>
            </a:r>
            <a:r>
              <a:rPr b="0" lang="pl-PL" sz="2700" spc="-1" strike="noStrike">
                <a:solidFill>
                  <a:srgbClr val="ff0000"/>
                </a:solidFill>
                <a:latin typeface="Lucida Sans Unicode"/>
              </a:rPr>
              <a:t>-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rozumie się przez to </a:t>
            </a:r>
            <a:r>
              <a:rPr b="1" lang="pl-PL" sz="2700" spc="-1" strike="noStrike">
                <a:solidFill>
                  <a:srgbClr val="000000"/>
                </a:solidFill>
                <a:latin typeface="Lucida Sans Unicode"/>
              </a:rPr>
              <a:t>stanowiące części roślin odpady komunalne pochodzące z pielęgnacji terenów zieleni oraz targowisk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, z wyjątkiem odpadów pochodzących z czyszczenia ulic i placów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Kody 20 03 02 – odpady z targowisk – część roślinna (podgrupa inne odpady komunalne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Kody 20 02 01 – odpady ulegające biodegradacji – część roślinna – (podgrupa odpady z ogrodów i parków w tym z cmentarzy)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7718-B8A7-4150-AA93-A6D192256306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Klasyfikacja odpadów </a:t>
            </a:r>
            <a:r>
              <a:rPr b="0" lang="pl-PL" sz="1400" spc="-1" strike="noStrike">
                <a:solidFill>
                  <a:srgbClr val="775f55"/>
                </a:solidFill>
                <a:latin typeface="Lucida Sans Unicode"/>
              </a:rPr>
              <a:t>(par 4 rozporządzenia w sprawie katalogu odpadów)</a:t>
            </a:r>
            <a:endParaRPr b="0" lang="en-US" sz="1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1. Odpady klasyfikuje się </a:t>
            </a:r>
            <a:r>
              <a:rPr b="1" lang="pl-PL" sz="1600" spc="-1" strike="noStrike">
                <a:solidFill>
                  <a:srgbClr val="000000"/>
                </a:solidFill>
                <a:latin typeface="Lucida Sans Unicode"/>
              </a:rPr>
              <a:t>według źródła powstawania</a:t>
            </a: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 w( grupach 01 do 12 lub 17 do 20, przypisując im odpowiedni kod sześciocyfrowy określający rodzaj odpadu (wyłączając kody kończące się na 99), z zastrzeżeniem ust. 5 i 6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2. W przypadku nieodnalezienia odpowiedniej pozycji w grupach 01 do 12 lub 17 do 20, odpady klasyfikuje się w grupach </a:t>
            </a:r>
            <a:r>
              <a:rPr b="1" lang="pl-PL" sz="1600" spc="-1" strike="noStrike">
                <a:solidFill>
                  <a:srgbClr val="000000"/>
                </a:solidFill>
                <a:latin typeface="Lucida Sans Unicode"/>
              </a:rPr>
              <a:t>13 (oleje), 14 (rozpuszczalniki)  i 15 (opakowaniowe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3. W przypadku nieodnalezienia odpowiedniej pozycji w grupach, o których mowa w ust. 2, odpady klasyfikuje się w grupie </a:t>
            </a:r>
            <a:r>
              <a:rPr b="1" lang="pl-PL" sz="1600" spc="-1" strike="noStrike">
                <a:solidFill>
                  <a:srgbClr val="000000"/>
                </a:solidFill>
                <a:latin typeface="Lucida Sans Unicode"/>
              </a:rPr>
              <a:t>16, (nie ujęte w innych podgrupach) </a:t>
            </a: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zawierającej odpady nieujęte w innych grupach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Lucida Sans Unicode"/>
              </a:rPr>
              <a:t>4. W przypadku nieodnalezienia odpowiedniej pozycji w grupie 16, odpady klasyfikuje się w grupie </a:t>
            </a:r>
            <a:r>
              <a:rPr b="1" lang="pl-PL" sz="1600" spc="-1" strike="noStrike">
                <a:solidFill>
                  <a:srgbClr val="ff0000"/>
                </a:solidFill>
                <a:latin typeface="Lucida Sans Unicode"/>
              </a:rPr>
              <a:t>według źródła powstawania</a:t>
            </a:r>
            <a:r>
              <a:rPr b="1" lang="pl-PL" sz="1600" spc="-1" strike="noStrike">
                <a:solidFill>
                  <a:srgbClr val="000000"/>
                </a:solidFill>
                <a:latin typeface="Lucida Sans Unicode"/>
              </a:rPr>
              <a:t>, przypisując im kod kończący się na </a:t>
            </a:r>
            <a:r>
              <a:rPr b="1" lang="pl-PL" sz="1600" spc="-1" strike="noStrike">
                <a:solidFill>
                  <a:srgbClr val="ff0000"/>
                </a:solidFill>
                <a:latin typeface="Lucida Sans Unicode"/>
              </a:rPr>
              <a:t>99</a:t>
            </a:r>
            <a:r>
              <a:rPr b="1" lang="pl-PL" sz="1600" spc="-1" strike="noStrike">
                <a:solidFill>
                  <a:srgbClr val="000000"/>
                </a:solidFill>
                <a:latin typeface="Lucida Sans Unicode"/>
              </a:rPr>
              <a:t> (inne niewymienione odpady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5. […] Odpady ze specyficznych gałęzi przemysłu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Lucida Sans Unicode"/>
              </a:rPr>
              <a:t>6. Odpady opakowaniowe będące odpadami komunalnymi, jeśli są zbierane selektywnie lub występują jako </a:t>
            </a:r>
            <a:r>
              <a:rPr b="1" lang="pl-PL" sz="1600" spc="-1" strike="noStrike">
                <a:solidFill>
                  <a:srgbClr val="ff0000"/>
                </a:solidFill>
                <a:latin typeface="Lucida Sans Unicode"/>
              </a:rPr>
              <a:t>zmieszane odpady opakowaniowe, klasyfikuje się w podgrupie 15 01</a:t>
            </a:r>
            <a:r>
              <a:rPr b="1" lang="pl-PL" sz="1600" spc="-1" strike="noStrike">
                <a:solidFill>
                  <a:srgbClr val="000000"/>
                </a:solidFill>
                <a:latin typeface="Lucida Sans Unicode"/>
              </a:rPr>
              <a:t>, a nie w 20 01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A096-8C25-4216-9648-FBB95A6D5FC0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System dualny -klasyfikacja odpadów</a:t>
            </a:r>
            <a:endParaRPr b="0" lang="en-US" sz="4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dpady </a:t>
            </a:r>
            <a:r>
              <a:rPr b="0" lang="pl-PL" sz="2700" spc="-1" strike="noStrike">
                <a:solidFill>
                  <a:srgbClr val="ff0000"/>
                </a:solidFill>
                <a:latin typeface="Lucida Sans Unicode"/>
              </a:rPr>
              <a:t>„suche”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– głównie odpady opakowaniowe + gazety,  metale, drewno, tworzywa (nieopakowaniow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1. zbierane selektywni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2. jak zaklasyfikować 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Lucida Sans Unicode"/>
              </a:rPr>
              <a:t>(6). Odpady opakowaniowe będące odpadami komunalnymi, jeśli są zbierane selektywnie lub występują jako zmieszane odpady opakowaniowe, klasyfikuje się w podgrupie 15 01, a nie w 20 01 – </a:t>
            </a:r>
            <a:r>
              <a:rPr b="1" lang="pl-PL" sz="1500" spc="-1" strike="noStrike">
                <a:solidFill>
                  <a:srgbClr val="000000"/>
                </a:solidFill>
                <a:latin typeface="Lucida Sans Unicode"/>
              </a:rPr>
              <a:t>odpady pomieszane opakowaniowe z innymi komunalnymi suchymi – czyli nie da się zaklasyfikować do 15.01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Lucida Sans Unicode"/>
              </a:rPr>
              <a:t>(4). W przypadku nieodnalezienia odpowiedniej pozycji w grupie 16, odpady klasyfikuje się w grupie </a:t>
            </a:r>
            <a:r>
              <a:rPr b="0" lang="pl-PL" sz="1500" spc="-1" strike="noStrike">
                <a:solidFill>
                  <a:srgbClr val="ff0000"/>
                </a:solidFill>
                <a:latin typeface="Lucida Sans Unicode"/>
              </a:rPr>
              <a:t>według źródła powstawania</a:t>
            </a:r>
            <a:r>
              <a:rPr b="0" lang="pl-PL" sz="1500" spc="-1" strike="noStrike">
                <a:solidFill>
                  <a:srgbClr val="000000"/>
                </a:solidFill>
                <a:latin typeface="Lucida Sans Unicode"/>
              </a:rPr>
              <a:t>, przypisując im kod kończący się na </a:t>
            </a:r>
            <a:r>
              <a:rPr b="0" lang="pl-PL" sz="1500" spc="-1" strike="noStrike">
                <a:solidFill>
                  <a:srgbClr val="ff0000"/>
                </a:solidFill>
                <a:latin typeface="Lucida Sans Unicode"/>
              </a:rPr>
              <a:t>99</a:t>
            </a:r>
            <a:r>
              <a:rPr b="0" lang="pl-PL" sz="1500" spc="-1" strike="noStrike">
                <a:solidFill>
                  <a:srgbClr val="000000"/>
                </a:solidFill>
                <a:latin typeface="Lucida Sans Unicode"/>
              </a:rPr>
              <a:t> (inne niewymienione odpady). </a:t>
            </a:r>
            <a:r>
              <a:rPr b="1" lang="pl-PL" sz="1500" spc="-1" strike="noStrike">
                <a:solidFill>
                  <a:srgbClr val="7030a0"/>
                </a:solidFill>
                <a:latin typeface="Lucida Sans Unicode"/>
              </a:rPr>
              <a:t>– klasyfikacja odpady komunalne segregowane i gromadzone selektywnie ( z wyłączeniem 15 01) – </a:t>
            </a:r>
            <a:r>
              <a:rPr b="1" lang="pl-PL" sz="1900" spc="-1" strike="noStrike">
                <a:solidFill>
                  <a:srgbClr val="7030a0"/>
                </a:solidFill>
                <a:latin typeface="Lucida Sans Unicode"/>
              </a:rPr>
              <a:t>20 01 99 – inne niewymienione frakcje zbierane selektywnie.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F107-C262-494A-A9A3-CE1114475EFE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Selektywne zbieranie odpadów </a:t>
            </a:r>
            <a:r>
              <a:rPr b="0" lang="pl-PL" sz="1400" spc="-1" strike="noStrike">
                <a:solidFill>
                  <a:srgbClr val="775f55"/>
                </a:solidFill>
                <a:latin typeface="Lucida Sans Unicode"/>
              </a:rPr>
              <a:t>(art. 3 ust 11 Dyrektywa 2008/98 )</a:t>
            </a:r>
            <a:endParaRPr b="0" lang="en-US" sz="1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„</a:t>
            </a: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selektywna zbiórka” </a:t>
            </a: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oznacza zbiórkę, w ramach której dany strumień odpadów obejmuje jedynie </a:t>
            </a: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odpady </a:t>
            </a:r>
            <a:r>
              <a:rPr b="1" lang="pl-PL" sz="2900" spc="-1" strike="noStrike" u="sng">
                <a:solidFill>
                  <a:srgbClr val="000000"/>
                </a:solidFill>
                <a:uFillTx/>
                <a:latin typeface="Lucida Sans Unicode"/>
              </a:rPr>
              <a:t>jednego rodzaju</a:t>
            </a: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 i o tym samym charakterze </a:t>
            </a: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w celu ułatwienia specyficznego przetwarzania;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5E1C-AD9C-42EC-A21B-C4B791DFEE3B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System dualny -klasyfikacja odpadów</a:t>
            </a:r>
            <a:endParaRPr b="0" lang="en-US" sz="4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pady </a:t>
            </a:r>
            <a:r>
              <a:rPr b="0" lang="pl-PL" sz="2700" spc="-1" strike="noStrike">
                <a:solidFill>
                  <a:srgbClr val="ff0000"/>
                </a:solidFill>
                <a:latin typeface="Lucida Sans Unicode"/>
              </a:rPr>
              <a:t>„mokre”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– głównie odpady kuchenne biodegradowalne i ogrodow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1. zbierane selektywni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2. jak zaklasyfikować 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0000"/>
                </a:solidFill>
                <a:latin typeface="Lucida Sans Unicode"/>
              </a:rPr>
              <a:t>20 01 08 </a:t>
            </a:r>
            <a:r>
              <a:rPr b="0" lang="pl-PL" sz="1500" spc="-1" strike="noStrike">
                <a:solidFill>
                  <a:srgbClr val="000000"/>
                </a:solidFill>
                <a:latin typeface="Lucida Sans Unicode"/>
              </a:rPr>
              <a:t>Odpady kuchenne ulegające biodegradacji (podgrupa odpady komunalne segregowane i gromadzone selektywnie) </a:t>
            </a:r>
            <a:r>
              <a:rPr b="0" lang="pl-PL" sz="1500" spc="-1" strike="noStrike">
                <a:solidFill>
                  <a:srgbClr val="ff0000"/>
                </a:solidFill>
                <a:latin typeface="Lucida Sans Unicode"/>
              </a:rPr>
              <a:t>+ 20 02 01 </a:t>
            </a:r>
            <a:r>
              <a:rPr b="0" lang="pl-PL" sz="1500" spc="-1" strike="noStrike">
                <a:solidFill>
                  <a:srgbClr val="000000"/>
                </a:solidFill>
                <a:latin typeface="Lucida Sans Unicode"/>
              </a:rPr>
              <a:t>Odpady ulegające biodegradacji (podgrupa odpady z ogrodów i parków w tym z cmentarzy) </a:t>
            </a:r>
            <a:r>
              <a:rPr b="1" lang="pl-PL" sz="1500" spc="-1" strike="noStrike">
                <a:solidFill>
                  <a:srgbClr val="000000"/>
                </a:solidFill>
                <a:latin typeface="Lucida Sans Unicode"/>
              </a:rPr>
              <a:t>– odpady pomieszane w dwóch podgrupach – czyli klasyfikujemy dalej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Lucida Sans Unicode"/>
              </a:rPr>
              <a:t>Jeśli wdrożono odrębny system zbierania dla kuchennych i odrębny dla ogrodowych to klasyfikujemy jak wyżej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Lucida Sans Unicode"/>
              </a:rPr>
              <a:t>(4). W przypadku nieodnalezienia odpowiedniej pozycji w grupie 16, odpady klasyfikuje się w grupie </a:t>
            </a:r>
            <a:r>
              <a:rPr b="0" lang="pl-PL" sz="1500" spc="-1" strike="noStrike">
                <a:solidFill>
                  <a:srgbClr val="ff0000"/>
                </a:solidFill>
                <a:latin typeface="Lucida Sans Unicode"/>
              </a:rPr>
              <a:t>według źródła powstawania</a:t>
            </a:r>
            <a:r>
              <a:rPr b="0" lang="pl-PL" sz="1500" spc="-1" strike="noStrike">
                <a:solidFill>
                  <a:srgbClr val="000000"/>
                </a:solidFill>
                <a:latin typeface="Lucida Sans Unicode"/>
              </a:rPr>
              <a:t>, przypisując im kod kończący się na </a:t>
            </a:r>
            <a:r>
              <a:rPr b="0" lang="pl-PL" sz="1500" spc="-1" strike="noStrike">
                <a:solidFill>
                  <a:srgbClr val="ff0000"/>
                </a:solidFill>
                <a:latin typeface="Lucida Sans Unicode"/>
              </a:rPr>
              <a:t>99</a:t>
            </a:r>
            <a:r>
              <a:rPr b="0" lang="pl-PL" sz="1500" spc="-1" strike="noStrike">
                <a:solidFill>
                  <a:srgbClr val="000000"/>
                </a:solidFill>
                <a:latin typeface="Lucida Sans Unicode"/>
              </a:rPr>
              <a:t> (inne niewymienione odpady). </a:t>
            </a:r>
            <a:r>
              <a:rPr b="1" lang="pl-PL" sz="1500" spc="-1" strike="noStrike">
                <a:solidFill>
                  <a:srgbClr val="7030a0"/>
                </a:solidFill>
                <a:latin typeface="Lucida Sans Unicode"/>
              </a:rPr>
              <a:t>– klasyfikacja Odpady komunalne segregowane i gromadzone selektywnie ( z wyłączeniem 15 01) – </a:t>
            </a:r>
            <a:r>
              <a:rPr b="1" lang="pl-PL" sz="2000" spc="-1" strike="noStrike">
                <a:solidFill>
                  <a:srgbClr val="7030a0"/>
                </a:solidFill>
                <a:latin typeface="Lucida Sans Unicode"/>
              </a:rPr>
              <a:t>20 01 99 – inne niewymienione frakcje zbierane selektywnie.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2E5F-A9FC-4942-A694-FFABEF70E114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Szanse i zagrożenie systemu dualnego</a:t>
            </a:r>
            <a:endParaRPr b="0" lang="en-US" sz="4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Szanse :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wyższy poziom odzysku odpadów w wyniku segregacji mechanicznej (mniejsze zanieczyszczenie) oraz niższy koszt jednostkowy sortowania odpadów 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niższe koszty zbierania odpadów (tylko 2 pojemniki, zamiast np. 4 pojemników)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3230-D324-41C0-8B28-B667E8F5967F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Szanse i zagrożenie systemu dualnego</a:t>
            </a:r>
            <a:endParaRPr b="0" lang="en-US" sz="4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Zagrożenia: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To już nie jest odpad komunalny </a:t>
            </a:r>
            <a:r>
              <a:rPr b="0" lang="pl-PL" sz="2900" spc="-1" strike="noStrike" u="sng">
                <a:solidFill>
                  <a:srgbClr val="000000"/>
                </a:solidFill>
                <a:uFillTx/>
                <a:latin typeface="Lucida Sans Unicode"/>
              </a:rPr>
              <a:t>zmieszany</a:t>
            </a: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, może trafić do innych instalacji do przetwarzania odpadów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Przekierowanie strumienia odpadów do instalacji innych niż regionalne.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Naruszenie trwałości projektów dofinansowanych z UE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DBFF-C411-4134-8CED-F07E6A3CCF7F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Przekazywanie zadań 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Obowiązki Gmin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Legislacyjne (nie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Akty prawa miejscowego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Administracyjne (nie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Wydanie decyzji administracyjnej o naliczeniu opłaty -w przypadku stwierdzenia że deklaracja jest niezłożona lub wątpliwa – wysokość opłaty ustalana w drodze decyzji np. na bazie średniej ilości odpadów komunalnych powstających na nieruchomościach o podobnym charakterze - przepisy ustawy z dnia 29 sierpnia 1997 r. - Ordynacja podatkowa, z tym że uprawnienia organów podatkowych przysługują wójtowi, burmistrzowi lub prezydentowi miasta)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Wydawanie decyzji o odroczeniu, rozłożeniu na raty, umorzeniu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Organizacyjne (tak)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przyjmowanie deklaracji, weryfikacja deklaracji, pobieranie opłat –windykacja , księgowość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993300"/>
                </a:solidFill>
                <a:latin typeface="Lucida Sans Unicode"/>
              </a:rPr>
              <a:t>Rozliczając mieszkańców według zużycia wody można skorzystać z narzędzi podmiotu zarządzającego wodociągami i kanalizacją, ale tylko w zakresie czynności organizacyjnych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993300"/>
                </a:solidFill>
                <a:latin typeface="Lucida Sans Unicode"/>
              </a:rPr>
              <a:t>Wodociągi informowałyby gminę o zaległościach, rozbieżnościach deklaracji itp., a gmina wydawałaby decyzje administracyjne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F7FE-CD0D-4240-B561-24173D95CAE1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Lucida Sans Unicode"/>
              </a:rPr>
              <a:t>Dziękuję za uwagę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Lucida Sans Unicode"/>
              </a:rPr>
              <a:t>Sabina Kowalska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Lucida Sans Unicode"/>
              </a:rPr>
              <a:t>Konsulting Inwestycyjny i Środowiskowy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Lucida Sans Unicode"/>
              </a:rPr>
              <a:t>Ul. Sikorskiego 34 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Lucida Sans Unicode"/>
              </a:rPr>
              <a:t>84-200 Wejherowo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Lucida Sans Unicode"/>
              </a:rPr>
              <a:t>sabina_kowalska@wp.p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Lucida Sans Unicode"/>
              </a:rPr>
              <a:t>Tel: 604 536 432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Lucida Sans Unicode"/>
              </a:rPr>
              <a:t>Fax: 58 333 13 26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1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89EF-CDD0-4F28-B4BF-5BFC1670AA7C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Selektywne zbieranie odpadów </a:t>
            </a:r>
            <a:r>
              <a:rPr b="0" lang="pl-PL" sz="1400" spc="-1" strike="noStrike">
                <a:solidFill>
                  <a:srgbClr val="775f55"/>
                </a:solidFill>
                <a:latin typeface="Lucida Sans Unicode"/>
              </a:rPr>
              <a:t>(art. 3 ust 3 pkt.15c ustawy o odpadach)</a:t>
            </a:r>
            <a:endParaRPr b="0" lang="en-US" sz="1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„</a:t>
            </a: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selektywne zbieranie” </a:t>
            </a: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- zbieranie, w ramach którego dany strumień odpadów, w celu ułatwienia określonego sposobu przetwarzania, </a:t>
            </a: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obejmuje jedynie rodzaje odpadów charakteryzujące się takimi samymi właściwościami i takim samym charakterem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6600"/>
                </a:solidFill>
                <a:latin typeface="Lucida Sans Unicode"/>
              </a:rPr>
              <a:t>System dualny i wielopojemnikowy – mieszczą się w tej definicj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9B17-EBC3-481C-B09B-B11DFEA0913B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775f55"/>
                </a:solidFill>
                <a:latin typeface="Lucida Sans Unicode"/>
              </a:rPr>
              <a:t>Nowe obowiązki Gmin</a:t>
            </a:r>
            <a:r>
              <a:rPr b="0" lang="pl-PL" sz="1100" spc="-1" strike="noStrike">
                <a:solidFill>
                  <a:srgbClr val="775f55"/>
                </a:solidFill>
                <a:latin typeface="Lucida Sans Unicode"/>
              </a:rPr>
              <a:t>(ustawa o utrzymaniu czystości i porządku w gminach)</a:t>
            </a:r>
            <a:r>
              <a:rPr b="0" lang="pl-PL" sz="3400" spc="-1" strike="noStrike">
                <a:solidFill>
                  <a:srgbClr val="775f55"/>
                </a:solidFill>
                <a:latin typeface="Lucida Sans Unicode"/>
              </a:rPr>
              <a:t> </a:t>
            </a:r>
            <a:endParaRPr b="0" lang="en-US" sz="3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115640" y="1484280"/>
            <a:ext cx="7559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Nowe obowiązki gmin (2) art. 3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Lucida Sans Unicode"/>
              </a:rPr>
              <a:t>5) </a:t>
            </a:r>
            <a:r>
              <a:rPr b="1" lang="pl-PL" sz="2000" spc="-1" strike="noStrike">
                <a:solidFill>
                  <a:srgbClr val="002060"/>
                </a:solidFill>
                <a:latin typeface="Lucida Sans Unicode"/>
              </a:rPr>
              <a:t>ustanawiają selektywne zbieranie odpadów komunalnych </a:t>
            </a:r>
            <a:r>
              <a:rPr b="0" lang="pl-PL" sz="2000" spc="-1" strike="noStrike">
                <a:solidFill>
                  <a:srgbClr val="002060"/>
                </a:solidFill>
                <a:latin typeface="Lucida Sans Unicode"/>
              </a:rPr>
              <a:t>obejmujące co najmniej następujące frakcje odpadów: </a:t>
            </a:r>
            <a:r>
              <a:rPr b="1" lang="pl-PL" sz="2000" spc="-1" strike="noStrike">
                <a:solidFill>
                  <a:srgbClr val="0070c0"/>
                </a:solidFill>
                <a:latin typeface="Lucida Sans Unicode"/>
              </a:rPr>
              <a:t>papieru, metalu, tworzywa sztucznego, szkła i opakowań wielomateriałowych oraz odpadów komunalnych ulegających biodegradacji</a:t>
            </a:r>
            <a:r>
              <a:rPr b="0" lang="pl-PL" sz="2000" spc="-1" strike="noStrike">
                <a:solidFill>
                  <a:srgbClr val="0070c0"/>
                </a:solidFill>
                <a:latin typeface="Lucida Sans Unicode"/>
              </a:rPr>
              <a:t>, </a:t>
            </a:r>
            <a:r>
              <a:rPr b="0" lang="pl-PL" sz="2000" spc="-1" strike="noStrike">
                <a:solidFill>
                  <a:srgbClr val="002060"/>
                </a:solidFill>
                <a:latin typeface="Lucida Sans Unicode"/>
              </a:rPr>
              <a:t>w tym odpadów opakowaniowych ulegających biodegradacji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Lucida Sans Unicode"/>
              </a:rPr>
              <a:t>6) </a:t>
            </a:r>
            <a:r>
              <a:rPr b="1" lang="pl-PL" sz="2000" spc="-1" strike="noStrike">
                <a:solidFill>
                  <a:srgbClr val="002060"/>
                </a:solidFill>
                <a:latin typeface="Lucida Sans Unicode"/>
              </a:rPr>
              <a:t>tworzą punkty selektywnego zbierania odpadów komunalnych</a:t>
            </a:r>
            <a:r>
              <a:rPr b="0" lang="pl-PL" sz="2000" spc="-1" strike="noStrike">
                <a:solidFill>
                  <a:srgbClr val="002060"/>
                </a:solidFill>
                <a:latin typeface="Lucida Sans Unicode"/>
              </a:rPr>
              <a:t> w sposób zapewniający łatwy dostęp dla wszystkich mieszkańców gminy, w tym wskazują miejsca, w których mogą być prowadzone zbiórki zużytego sprzętu elektrycznego i elektronicznego pochodzącego z gospodarstw domowych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9CA0-D1F4-49F8-A9ED-9D442627DD7E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4" descr="MC900339254[2]"/>
          <p:cNvPicPr/>
          <p:nvPr/>
        </p:nvPicPr>
        <p:blipFill>
          <a:blip r:embed="rId1"/>
          <a:stretch/>
        </p:blipFill>
        <p:spPr>
          <a:xfrm>
            <a:off x="7740720" y="333360"/>
            <a:ext cx="9064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775f55"/>
                </a:solidFill>
                <a:latin typeface="Lucida Sans Unicode"/>
              </a:rPr>
              <a:t>Nowe obowiązki Gmin</a:t>
            </a:r>
            <a:r>
              <a:rPr b="0" lang="pl-PL" sz="1100" spc="-1" strike="noStrike">
                <a:solidFill>
                  <a:srgbClr val="775f55"/>
                </a:solidFill>
                <a:latin typeface="Lucida Sans Unicode"/>
              </a:rPr>
              <a:t>(ustawa o utrzymaniu czystości i porządku w gminach)</a:t>
            </a:r>
            <a:r>
              <a:rPr b="0" lang="pl-PL" sz="3400" spc="-1" strike="noStrike">
                <a:solidFill>
                  <a:srgbClr val="775f55"/>
                </a:solidFill>
                <a:latin typeface="Lucida Sans Unicode"/>
              </a:rPr>
              <a:t> </a:t>
            </a:r>
            <a:endParaRPr b="0" lang="en-US" sz="3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116000" y="1552320"/>
            <a:ext cx="75708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Nowe obowiązki gmin (3) art. 3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Lucida Sans Unicode"/>
              </a:rPr>
              <a:t>7) zapewniają </a:t>
            </a:r>
            <a:r>
              <a:rPr b="1" lang="pl-PL" sz="2000" spc="-1" strike="noStrike">
                <a:solidFill>
                  <a:srgbClr val="0070c0"/>
                </a:solidFill>
                <a:latin typeface="Lucida Sans Unicode"/>
              </a:rPr>
              <a:t>osiągnięcie odpowiednich poziomów recyklingu</a:t>
            </a:r>
            <a:r>
              <a:rPr b="0" lang="pl-PL" sz="2000" spc="-1" strike="noStrike">
                <a:solidFill>
                  <a:srgbClr val="0070c0"/>
                </a:solidFill>
                <a:latin typeface="Lucida Sans Unicode"/>
              </a:rPr>
              <a:t>, </a:t>
            </a:r>
            <a:r>
              <a:rPr b="0" lang="pl-PL" sz="2000" spc="-1" strike="noStrike">
                <a:solidFill>
                  <a:srgbClr val="002060"/>
                </a:solidFill>
                <a:latin typeface="Lucida Sans Unicode"/>
              </a:rPr>
              <a:t>przygotowania do ponownego użycia i odzysku innymi metodami oraz ograniczenia masy odpadów komunalnych ulegających biodegradacji przekazywanych do składowania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8) prowadzą działania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informacyjne i edukacyjne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w zakresie prawidłowego gospodarowania odpadami komunalnymi, w szczególności w zakresie selektywnego zbierania odpadów komunalnych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6635-15C9-4FF6-9F04-47ABC7359F68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Picture 4" descr="MC900339254[2]"/>
          <p:cNvPicPr/>
          <p:nvPr/>
        </p:nvPicPr>
        <p:blipFill>
          <a:blip r:embed="rId1"/>
          <a:stretch/>
        </p:blipFill>
        <p:spPr>
          <a:xfrm>
            <a:off x="7667640" y="457200"/>
            <a:ext cx="9064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Dyrektywa ramowa 2008/98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Lucida Sans Unicode"/>
              </a:rPr>
              <a:t>Hierarchia postępowania z odpadami</a:t>
            </a:r>
            <a:r>
              <a:rPr b="0" lang="pl-PL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Lucida Sans Unicode"/>
              </a:rPr>
              <a:t>(zasada 5 kroków) (art 4): 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pobieganie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rzygotowywanie do ponownego użycia; (nowe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recykling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inne metody odzysku, np. odzysk energii; (spalanie odpadów komunalnych jest odzyskiem jeśli efektywność energetyczna &gt;0,65); </a:t>
            </a:r>
            <a:r>
              <a:rPr b="0" lang="pl-PL" sz="2700" spc="-1" strike="noStrike">
                <a:solidFill>
                  <a:srgbClr val="ff0000"/>
                </a:solidFill>
                <a:latin typeface="Lucida Sans Unicode"/>
              </a:rPr>
              <a:t>spalanie nie jest recyklingie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unieszkodliwiani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FDD7-9E32-45CD-BA1B-54E0C96B181A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4" descr="MC900339254[2]"/>
          <p:cNvPicPr/>
          <p:nvPr/>
        </p:nvPicPr>
        <p:blipFill>
          <a:blip r:embed="rId1"/>
          <a:stretch/>
        </p:blipFill>
        <p:spPr>
          <a:xfrm>
            <a:off x="7956720" y="262080"/>
            <a:ext cx="9061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2:23:40Z</dcterms:created>
  <dc:creator/>
  <dc:description/>
  <dc:language>en-US</dc:language>
  <cp:lastModifiedBy/>
  <dcterms:modified xsi:type="dcterms:W3CDTF">2012-05-10T14:02:0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202179990</vt:lpwstr>
  </property>
</Properties>
</file>