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7BFB-F93F-4931-8441-C49DFCD7D0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667-8BEB-4B4E-A7A0-F8D494EA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E40-A69C-4875-92F1-F10A57FA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A9E-6ABC-4BED-8F78-CE903AC8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937-5E13-476C-B992-6E2617FF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BC9-8D38-46D7-A8CF-8F5CFC69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7A8-7E19-4D7B-9043-548221EB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9FD-1867-4E61-829D-D0E2B496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24C-1223-4FD7-9EA6-F7DF7007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AD6-20C1-4876-A056-C2D5FAE3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F64-0A96-42B3-A990-BD7DAB2F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961-4603-4AA9-9FF7-04E3771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4D8-F755-4D8F-AD4F-32E9D0B7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C358-4126-488C-AD9F-26A2D398454D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CF6B-44D6-4A8D-A1FF-BB6244775A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ffff00"/>
                </a:solidFill>
                <a:latin typeface="Calibri"/>
              </a:rPr>
              <a:t>Uporządkowanie gospodarki wodno-ściekowej na terenie miasta Helu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alibri"/>
              </a:rPr>
              <a:t>Projekt dofinansowany z Programu Operacyjnego Infrastruktura i Środowisko – instytucja wdrażająca: Wojewódzki Fundusz Ochrony Środowiska i Gospodarki Wodnej w Gdańs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51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7" descr="POIiŚ-NSS"/>
          <p:cNvPicPr/>
          <p:nvPr/>
        </p:nvPicPr>
        <p:blipFill>
          <a:blip r:embed="rId4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97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99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6" descr=""/>
          <p:cNvPicPr/>
          <p:nvPr/>
        </p:nvPicPr>
        <p:blipFill>
          <a:blip r:embed="rId4"/>
          <a:stretch/>
        </p:blipFill>
        <p:spPr>
          <a:xfrm>
            <a:off x="971640" y="1484280"/>
            <a:ext cx="70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EFEKT EKOLOGICZ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Wzrost RLM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(równoważnej liczby mieszkańców) w wyniku zakończenia realizacji przedsięwzięcia „Uporządkowanie gospodarki wodno-ściekowej na terenie miasta Helu” w 2012 roku wyniesie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768,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w ty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Calibri"/>
              </a:rPr>
              <a:t>RLM od klientów indywidualnych – 168. Do sieci kanalizacji sanitarnej zostaną podłączeni nowi mieszkańcy Helu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Calibri"/>
              </a:rPr>
              <a:t>RLM od klientów pozostałych – 600 tj. Podłączenie obiektów usług turystycznych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INANSOWANI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AŁKOWITY KOSZT PROJEKTU – 35 mln z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gram Operacyjny Infrastruktura i Środowisko – dofinansowanie ze środków UE                         – 69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ojewódzki Fundusz Ochrony Środowiska i Gospodarki Wodnej w Gdańsku – pożyczka    – 21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mina Hel – środki własne                                 – 1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08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1"/>
          <p:cNvSpPr/>
          <p:nvPr/>
        </p:nvSpPr>
        <p:spPr>
          <a:xfrm>
            <a:off x="3635280" y="260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ole tekstowe 2"/>
          <p:cNvSpPr/>
          <p:nvPr/>
        </p:nvSpPr>
        <p:spPr>
          <a:xfrm>
            <a:off x="4427640" y="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ole tekstowe 3"/>
          <p:cNvSpPr/>
          <p:nvPr/>
        </p:nvSpPr>
        <p:spPr>
          <a:xfrm>
            <a:off x="2411280" y="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06728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4788000" y="2997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6"/>
          <p:cNvSpPr/>
          <p:nvPr/>
        </p:nvSpPr>
        <p:spPr>
          <a:xfrm>
            <a:off x="7956720" y="5516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6"/>
          <p:cNvSpPr/>
          <p:nvPr/>
        </p:nvSpPr>
        <p:spPr>
          <a:xfrm>
            <a:off x="3132000" y="105264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6"/>
          <p:cNvSpPr/>
          <p:nvPr/>
        </p:nvSpPr>
        <p:spPr>
          <a:xfrm>
            <a:off x="5003640" y="1268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ole tekstowe 6"/>
          <p:cNvSpPr/>
          <p:nvPr/>
        </p:nvSpPr>
        <p:spPr>
          <a:xfrm>
            <a:off x="637236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0"/>
          <p:cNvSpPr/>
          <p:nvPr/>
        </p:nvSpPr>
        <p:spPr>
          <a:xfrm>
            <a:off x="250920" y="5877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Kolejność realizacji robót budowla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UTRUDNI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łopoty z parkowaniem samochod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resowe wyłączenia dostaw wody i odbioru ście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trudnienia w realizacji dostaw do punktów usługowych i sklep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grożenia w poruszaniu się po mieś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ałas i oddziaływanie na infrastruktur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7" descr="POIiŚ-NSS"/>
          <p:cNvPicPr/>
          <p:nvPr/>
        </p:nvPicPr>
        <p:blipFill>
          <a:blip r:embed="rId2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23" name="Obraz 8" descr="herb helu"/>
          <p:cNvPicPr/>
          <p:nvPr/>
        </p:nvPicPr>
        <p:blipFill>
          <a:blip r:embed="rId3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Obraz 9" descr="Flaga Unii Europejskiej (mała)"/>
          <p:cNvPicPr/>
          <p:nvPr/>
        </p:nvPicPr>
        <p:blipFill>
          <a:blip r:embed="rId4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ULICA WIEJSKA PO INWESTY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owa nawierzchnia ulicy i chodni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unięte chore drzewa i nasadzone n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zdobne ażurowe osłony pni drz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zdobne ażurowe kraty wokół drz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az 7" descr="POIiŚ-NSS"/>
          <p:cNvPicPr/>
          <p:nvPr/>
        </p:nvPicPr>
        <p:blipFill>
          <a:blip r:embed="rId2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28" name="Obraz 8" descr="herb helu"/>
          <p:cNvPicPr/>
          <p:nvPr/>
        </p:nvPicPr>
        <p:blipFill>
          <a:blip r:embed="rId3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Flaga Unii Europejskiej (mała)"/>
          <p:cNvPicPr/>
          <p:nvPr/>
        </p:nvPicPr>
        <p:blipFill>
          <a:blip r:embed="rId4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ŁONY DRZEW (ul. Wiejsk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269568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269568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3564000" y="1628640"/>
            <a:ext cx="2911320" cy="386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5724360" y="1773360"/>
            <a:ext cx="303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924360" y="404640"/>
            <a:ext cx="3887640" cy="388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5148360" y="3141720"/>
            <a:ext cx="3168720" cy="3166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WIERZCHNIA ULICY WIEJ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1"/>
          <p:cNvSpPr/>
          <p:nvPr/>
        </p:nvSpPr>
        <p:spPr>
          <a:xfrm>
            <a:off x="2540880" y="2349360"/>
            <a:ext cx="4743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DZIĘKUJĘ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ZA UWAG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55700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Główne cele strategiczne przedsięwzięc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Poprawa jakości środowiska 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oprzez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Ochronę wód powierzchniowych, gruntowych i gruntu przed zanieczyszczeniem ściekami (likwidacja zbiorników bezodpływowych i nieszczelności sieci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Ograniczenie napływu wód infiltracyjnych do kanalizacji sanitarnej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Ochronę wód powierzchniowych i gruntu przed zanieczyszczeniami spływającymi z utwardzonych nawierzchni dróg i placów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oprawę niezawodność systemu dystrybucji wod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56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Realizacja celów strategicznych poprzez inwestycj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Budowa sieci kanalizacji sanitarnej na dotychczas nieskanalizowanych obszarach zurbanizowanyc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rzebudowa istniejącej kanalizacji ściekowej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Budowę systemu odbioru i podczyszczania wód opadowyc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rzebudowa awaryjnych odcinków sieci i przyłączy wodociągowych oraz dozbrojenie sieci wodociągowej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61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63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66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68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raz 6" descr=""/>
          <p:cNvPicPr/>
          <p:nvPr/>
        </p:nvPicPr>
        <p:blipFill>
          <a:blip r:embed="rId4"/>
          <a:stretch/>
        </p:blipFill>
        <p:spPr>
          <a:xfrm>
            <a:off x="1187280" y="1995480"/>
            <a:ext cx="6985080" cy="4170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468360" y="1389600"/>
            <a:ext cx="81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lkość  dopływu ścieków do oczyszczalni w odniesieniu do stanu wody w Zatoce Pucki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48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Budowa i modernizacja kanalizacji sanitarnej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i wymiana istniejących grawitacyjnych kanałów ściekow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8 035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i przebudowa istniejących przewodów tłoczn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3 341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i wymiana istniejących przewodów kanalizacyjn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3 287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przepompowni ścieków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3 sz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Modernizacja przepompowni ścieków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2 sz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7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7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78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79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11" descr="C:\Users\JRP-01\Desktop\Przechwytywanie 2.JPG"/>
          <p:cNvPicPr/>
          <p:nvPr/>
        </p:nvPicPr>
        <p:blipFill>
          <a:blip r:embed="rId4"/>
          <a:stretch/>
        </p:blipFill>
        <p:spPr>
          <a:xfrm>
            <a:off x="1258920" y="1341360"/>
            <a:ext cx="6697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Budowa kanalizacji deszczowej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kanałów deszczowych grawitacyjn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5 603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przewodów tłocznych przepompowni deszczow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614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przepompowni z podczyszczalnią wód opadowych i zbiornikiem  retencyjnym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3 sz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przepompowni sztormowej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1 sz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8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8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87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88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89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raz 11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6912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odernizacja sieci wodociągow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przewodów wodociągowych  1 918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Wymiana istniejących wodociągów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3 0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i wymiana istniejących przewodów wodociągow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3 929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Likwidacja zbędnych odcinków sieci                       4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9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9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6:45:03Z</dcterms:created>
  <dc:creator>Ciężkowski Cezary</dc:creator>
  <dc:description/>
  <dc:language>en-US</dc:language>
  <cp:lastModifiedBy>Ciężkowski Cezary</cp:lastModifiedBy>
  <dcterms:modified xsi:type="dcterms:W3CDTF">2010-09-07T16:46:38Z</dcterms:modified>
  <cp:revision>24</cp:revision>
  <dc:subject/>
  <dc:title>            </dc:title>
</cp:coreProperties>
</file>