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F53A-FDCD-4408-BF9A-6121F03775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151-CEE9-44B0-8AD0-CE50ED7B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0D9-C108-447A-9B57-E6B77337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B6F-7FFC-4940-ABBA-2897658C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F20-757F-4E7A-BA2A-93A6115D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928-15B3-4C90-B8EC-CA6E8F9F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BE2-E928-4FC4-9009-1F8CF2D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9DA-309B-4782-BDE5-B77855FE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FCD-AC36-46BB-9FF6-E99AEC8C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121-DEFD-4F3A-BB76-1BB5B26B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CB0-2AFE-444B-A8FA-8332F764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B97-0947-49C2-A808-C577A401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F0B-A1A8-4FF6-8465-3B1B088B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2E06-8A84-4B97-8A36-494B48AFB98E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3D33-67B4-4B7D-9F7D-682ED236AF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ffff00"/>
                </a:solidFill>
                <a:latin typeface="Calibri"/>
              </a:rPr>
              <a:t>Uporządkowanie gospodarki wodno-ściekowej na terenie miasta Helu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alibri"/>
              </a:rPr>
              <a:t>Projekt dofinansowany z Programu Operacyjnego Infrastruktura i Środowisko – instytucja wdrażająca: Wojewódzki Fundusz Ochrony Środowiska i Gospodarki Wodnej w Gdańs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51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7" descr="POIiŚ-NSS"/>
          <p:cNvPicPr/>
          <p:nvPr/>
        </p:nvPicPr>
        <p:blipFill>
          <a:blip r:embed="rId4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97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99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6" descr=""/>
          <p:cNvPicPr/>
          <p:nvPr/>
        </p:nvPicPr>
        <p:blipFill>
          <a:blip r:embed="rId4"/>
          <a:stretch/>
        </p:blipFill>
        <p:spPr>
          <a:xfrm>
            <a:off x="971640" y="1484280"/>
            <a:ext cx="70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EFEKT EKOLOGICZ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Wzrost RLM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(równoważnej liczby mieszkańców) w wyniku zakończenia realizacji przedsięwzięcia „Uporządkowanie gospodarki wodno-ściekowej na terenie miasta Helu” w 2012 roku wyniesie </a:t>
            </a: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768,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w ty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Calibri"/>
              </a:rPr>
              <a:t>RLM od klientów indywidualnych – 168. Do sieci kanalizacji sanitarnej zostaną podłączeni nowi mieszkańcy Helu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Calibri"/>
              </a:rPr>
              <a:t>RLM od klientów pozostałych – 600 tj. Podłączenie obiektów usług turystycznych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INANSOWANI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AŁKOWITY KOSZT PROJEKTU – 35 mln z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gram Operacyjny Infrastruktura i Środowisko – dofinansowanie ze środków UE                         – 69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ojewódzki Fundusz Ochrony Środowiska i Gospodarki Wodnej w Gdańsku – pożyczka    – 21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mina Hel – środki własne                                 – 1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08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1"/>
          <p:cNvSpPr/>
          <p:nvPr/>
        </p:nvSpPr>
        <p:spPr>
          <a:xfrm>
            <a:off x="3635280" y="260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ole tekstowe 2"/>
          <p:cNvSpPr/>
          <p:nvPr/>
        </p:nvSpPr>
        <p:spPr>
          <a:xfrm>
            <a:off x="4427640" y="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ole tekstowe 3"/>
          <p:cNvSpPr/>
          <p:nvPr/>
        </p:nvSpPr>
        <p:spPr>
          <a:xfrm>
            <a:off x="2411280" y="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06728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4788000" y="2997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6"/>
          <p:cNvSpPr/>
          <p:nvPr/>
        </p:nvSpPr>
        <p:spPr>
          <a:xfrm>
            <a:off x="7956720" y="5516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6"/>
          <p:cNvSpPr/>
          <p:nvPr/>
        </p:nvSpPr>
        <p:spPr>
          <a:xfrm>
            <a:off x="3132000" y="105264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6"/>
          <p:cNvSpPr/>
          <p:nvPr/>
        </p:nvSpPr>
        <p:spPr>
          <a:xfrm>
            <a:off x="5003640" y="1268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ole tekstowe 6"/>
          <p:cNvSpPr/>
          <p:nvPr/>
        </p:nvSpPr>
        <p:spPr>
          <a:xfrm>
            <a:off x="637236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0"/>
          <p:cNvSpPr/>
          <p:nvPr/>
        </p:nvSpPr>
        <p:spPr>
          <a:xfrm>
            <a:off x="250920" y="5877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Kolejność realizacji robót budowla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UTRUDNI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łopoty z parkowaniem samochod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resowe wyłączenia dostaw wody i odbioru ście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trudnienia w realizacji dostaw do punktów usługowych i sklep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grożenia w poruszaniu się po mieś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ałas i oddziaływanie na infrastruktur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7" descr="POIiŚ-NSS"/>
          <p:cNvPicPr/>
          <p:nvPr/>
        </p:nvPicPr>
        <p:blipFill>
          <a:blip r:embed="rId2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23" name="Obraz 8" descr="herb helu"/>
          <p:cNvPicPr/>
          <p:nvPr/>
        </p:nvPicPr>
        <p:blipFill>
          <a:blip r:embed="rId3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Obraz 9" descr="Flaga Unii Europejskiej (mała)"/>
          <p:cNvPicPr/>
          <p:nvPr/>
        </p:nvPicPr>
        <p:blipFill>
          <a:blip r:embed="rId4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ULICA WIEJSKA PO INWESTY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owa nawierzchnia ulicy i chodni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unięte chore drzewa i nasadzone n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zdobne ażurowe osłony pni drz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zdobne ażurowe kraty wokół drz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az 7" descr="POIiŚ-NSS"/>
          <p:cNvPicPr/>
          <p:nvPr/>
        </p:nvPicPr>
        <p:blipFill>
          <a:blip r:embed="rId2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128" name="Obraz 8" descr="herb helu"/>
          <p:cNvPicPr/>
          <p:nvPr/>
        </p:nvPicPr>
        <p:blipFill>
          <a:blip r:embed="rId3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Flaga Unii Europejskiej (mała)"/>
          <p:cNvPicPr/>
          <p:nvPr/>
        </p:nvPicPr>
        <p:blipFill>
          <a:blip r:embed="rId4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130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ŁONY DRZEW (ul. Wiejsk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269568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269568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3564000" y="1628640"/>
            <a:ext cx="2911320" cy="386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5724360" y="1773360"/>
            <a:ext cx="303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924360" y="404640"/>
            <a:ext cx="3887640" cy="388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5148360" y="3141720"/>
            <a:ext cx="3168720" cy="3166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WIERZCHNIA ULICY WIEJ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1"/>
          <p:cNvSpPr/>
          <p:nvPr/>
        </p:nvSpPr>
        <p:spPr>
          <a:xfrm>
            <a:off x="2540880" y="2349360"/>
            <a:ext cx="4743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DZIĘKUJĘ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ZA UWAG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55700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Główne cele strategiczne przedsięwzięc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Poprawa jakości środowiska 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oprzez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Ochronę wód powierzchniowych, gruntowych i gruntu przed zanieczyszczeniem ściekami (likwidacja zbiorników bezodpływowych i nieszczelności sieci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Ograniczenie napływu wód infiltracyjnych do kanalizacji sanitarnej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Ochronę wód powierzchniowych i gruntu przed zanieczyszczeniami spływającymi z utwardzonych nawierzchni dróg i placów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oprawę niezawodność systemu dystrybucji wod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56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Realizacja celów strategicznych poprzez inwestycj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Budowa sieci kanalizacji sanitarnej na dotychczas nieskanalizowanych obszarach zurbanizowanyc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rzebudowa istniejącej kanalizacji ściekowej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Budowę systemu odbioru i podczyszczania wód opadowyc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Przebudowa awaryjnych odcinków sieci i przyłączy wodociągowych oraz dozbrojenie sieci wodociągowej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61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63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66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68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raz 6" descr=""/>
          <p:cNvPicPr/>
          <p:nvPr/>
        </p:nvPicPr>
        <p:blipFill>
          <a:blip r:embed="rId4"/>
          <a:stretch/>
        </p:blipFill>
        <p:spPr>
          <a:xfrm>
            <a:off x="1187280" y="1995480"/>
            <a:ext cx="6985080" cy="4170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468360" y="1389600"/>
            <a:ext cx="81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lkość  dopływu ścieków do oczyszczalni w odniesieniu do stanu wody w Zatoce Pucki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848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Budowa i modernizacja kanalizacji sanitarnej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i wymiana istniejących grawitacyjnych kanałów ściekow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8 035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i przebudowa istniejących przewodów tłoczn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3 341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i wymiana istniejących przewodów kanalizacyjn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3 287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przepompowni ścieków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3 sz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Modernizacja przepompowni ścieków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2 sz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7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7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78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79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11" descr="C:\Users\JRP-01\Desktop\Przechwytywanie 2.JPG"/>
          <p:cNvPicPr/>
          <p:nvPr/>
        </p:nvPicPr>
        <p:blipFill>
          <a:blip r:embed="rId4"/>
          <a:stretch/>
        </p:blipFill>
        <p:spPr>
          <a:xfrm>
            <a:off x="1258920" y="1341360"/>
            <a:ext cx="6697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Budowa kanalizacji deszczowej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kanałów deszczowych grawitacyjn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5 603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przewodów tłocznych przepompowni deszczow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614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przepompowni z podczyszczalnią wód opadowych i zbiornikiem  retencyjnym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3 sz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przepompowni sztormowej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1 sz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8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8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87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88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89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raz 11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6912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odernizacja sieci wodociągow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przewodów wodociągowych  1 918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Wymiana istniejących wodociągów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3 0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Budowa nowych i wymiana istniejących przewodów wodociągowych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3 929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Likwidacja zbędnych odcinków sieci                       4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az 7" descr="POIiŚ-NSS"/>
          <p:cNvPicPr/>
          <p:nvPr/>
        </p:nvPicPr>
        <p:blipFill>
          <a:blip r:embed="rId1"/>
          <a:stretch/>
        </p:blipFill>
        <p:spPr>
          <a:xfrm>
            <a:off x="900000" y="404640"/>
            <a:ext cx="1940040" cy="660600"/>
          </a:xfrm>
          <a:prstGeom prst="rect">
            <a:avLst/>
          </a:prstGeom>
          <a:ln w="0">
            <a:noFill/>
          </a:ln>
        </p:spPr>
      </p:pic>
      <p:pic>
        <p:nvPicPr>
          <p:cNvPr id="93" name="Obraz 8" descr="herb helu"/>
          <p:cNvPicPr/>
          <p:nvPr/>
        </p:nvPicPr>
        <p:blipFill>
          <a:blip r:embed="rId2"/>
          <a:stretch/>
        </p:blipFill>
        <p:spPr>
          <a:xfrm>
            <a:off x="4284720" y="476280"/>
            <a:ext cx="3427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Obraz 9" descr="Flaga Unii Europejskiej (mała)"/>
          <p:cNvPicPr/>
          <p:nvPr/>
        </p:nvPicPr>
        <p:blipFill>
          <a:blip r:embed="rId3"/>
          <a:stretch/>
        </p:blipFill>
        <p:spPr>
          <a:xfrm>
            <a:off x="7236000" y="476280"/>
            <a:ext cx="728640" cy="485640"/>
          </a:xfrm>
          <a:prstGeom prst="rect">
            <a:avLst/>
          </a:prstGeom>
          <a:ln w="0">
            <a:noFill/>
          </a:ln>
        </p:spPr>
      </p:pic>
      <p:sp>
        <p:nvSpPr>
          <p:cNvPr id="95" name="Prostokąt 10"/>
          <p:cNvSpPr/>
          <p:nvPr/>
        </p:nvSpPr>
        <p:spPr>
          <a:xfrm>
            <a:off x="4859280" y="4762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NIA EUROPEJ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FUNDUSZ SPÓJNOŚ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6:45:03Z</dcterms:created>
  <dc:creator>Ciężkowski Cezary</dc:creator>
  <dc:description/>
  <dc:language>en-US</dc:language>
  <cp:lastModifiedBy>Ciężkowski Cezary</cp:lastModifiedBy>
  <dcterms:modified xsi:type="dcterms:W3CDTF">2010-09-07T16:46:38Z</dcterms:modified>
  <cp:revision>24</cp:revision>
  <dc:subject/>
  <dc:title>            </dc:title>
</cp:coreProperties>
</file>