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10080625" cy="7559675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794640" cy="99313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71">
                <a:moveTo>
                  <a:pt x="4" y="0"/>
                </a:moveTo>
                <a:arcTo wR="4" hR="4" stAng="16200000" swAng="-5400000"/>
                <a:lnTo>
                  <a:pt x="0" y="31567"/>
                </a:lnTo>
                <a:arcTo wR="4" hR="4" stAng="10800000" swAng="-5400000"/>
                <a:lnTo>
                  <a:pt x="21596" y="3157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794640" cy="99313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71">
                <a:moveTo>
                  <a:pt x="4" y="0"/>
                </a:moveTo>
                <a:arcTo wR="4" hR="4" stAng="16200000" swAng="-5400000"/>
                <a:lnTo>
                  <a:pt x="0" y="31567"/>
                </a:lnTo>
                <a:arcTo wR="4" hR="4" stAng="10800000" swAng="-5400000"/>
                <a:lnTo>
                  <a:pt x="21596" y="3157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4640" cy="99313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71">
                <a:moveTo>
                  <a:pt x="4" y="0"/>
                </a:moveTo>
                <a:arcTo wR="4" hR="4" stAng="16200000" swAng="-5400000"/>
                <a:lnTo>
                  <a:pt x="0" y="31567"/>
                </a:lnTo>
                <a:arcTo wR="4" hR="4" stAng="10800000" swAng="-5400000"/>
                <a:lnTo>
                  <a:pt x="21596" y="3157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94640" cy="99313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71">
                <a:moveTo>
                  <a:pt x="4" y="0"/>
                </a:moveTo>
                <a:arcTo wR="4" hR="4" stAng="16200000" swAng="-5400000"/>
                <a:lnTo>
                  <a:pt x="0" y="31567"/>
                </a:lnTo>
                <a:arcTo wR="4" hR="4" stAng="10800000" swAng="-5400000"/>
                <a:lnTo>
                  <a:pt x="21596" y="3157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4640" cy="99313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71">
                <a:moveTo>
                  <a:pt x="4" y="0"/>
                </a:moveTo>
                <a:arcTo wR="4" hR="4" stAng="16200000" swAng="-5400000"/>
                <a:lnTo>
                  <a:pt x="0" y="31567"/>
                </a:lnTo>
                <a:arcTo wR="4" hR="4" stAng="10800000" swAng="-5400000"/>
                <a:lnTo>
                  <a:pt x="21596" y="3157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4640" cy="99313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71">
                <a:moveTo>
                  <a:pt x="4" y="0"/>
                </a:moveTo>
                <a:arcTo wR="4" hR="4" stAng="16200000" swAng="-5400000"/>
                <a:lnTo>
                  <a:pt x="0" y="31567"/>
                </a:lnTo>
                <a:arcTo wR="4" hR="4" stAng="10800000" swAng="-5400000"/>
                <a:lnTo>
                  <a:pt x="21596" y="3157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8080" y="9536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-349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50840" y="4724280"/>
            <a:ext cx="46879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81160" y="954000"/>
            <a:ext cx="44305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81160" y="954000"/>
            <a:ext cx="44305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81160" y="954000"/>
            <a:ext cx="44305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1160" y="954000"/>
            <a:ext cx="44305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1160" y="954000"/>
            <a:ext cx="44305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81160" y="954000"/>
            <a:ext cx="443052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81160" y="954000"/>
            <a:ext cx="4429080" cy="34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81160" y="954000"/>
            <a:ext cx="4429080" cy="34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81160" y="954000"/>
            <a:ext cx="443052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81160" y="954000"/>
            <a:ext cx="443052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81160" y="954000"/>
            <a:ext cx="443052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81160" y="954000"/>
            <a:ext cx="443052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81160" y="954000"/>
            <a:ext cx="44276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81160" y="954000"/>
            <a:ext cx="442584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81160" y="954000"/>
            <a:ext cx="443232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50480" y="4724280"/>
            <a:ext cx="4689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074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620240"/>
            <a:ext cx="84074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0360" y="213840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62024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0360" y="462024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68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4800" y="2138400"/>
            <a:ext cx="27068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7360" y="2138400"/>
            <a:ext cx="27068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620240"/>
            <a:ext cx="27068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4800" y="4620240"/>
            <a:ext cx="27068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7360" y="4620240"/>
            <a:ext cx="27068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074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074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25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0360" y="2138400"/>
            <a:ext cx="41025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978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0360" y="2138400"/>
            <a:ext cx="41025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62024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25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0360" y="213840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0360" y="462024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0360" y="2138400"/>
            <a:ext cx="410256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620240"/>
            <a:ext cx="84074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074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3560" indent="-423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1200" indent="-4240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699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7200" indent="-4251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628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6280" indent="-42552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6280" indent="-42552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0360" y="11761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99284c"/>
                </a:solidFill>
                <a:latin typeface="Arial"/>
              </a:rPr>
              <a:t>Sprawozdanie </a:t>
            </a: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99284c"/>
                </a:solidFill>
                <a:latin typeface="Arial"/>
              </a:rPr>
              <a:t>z realizacji promocji zdrowia </a:t>
            </a: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99284c"/>
                </a:solidFill>
                <a:latin typeface="Arial"/>
              </a:rPr>
              <a:t>w 2008 roku.</a:t>
            </a: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433680"/>
            <a:ext cx="8607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Akcja „Bezpieczne Miasto Hel”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Wykonujący akcję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22240" y="1800000"/>
            <a:ext cx="3857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Grupa Ratownictwa Medycznego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rzy Zarządzie Rejonowym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CK w Wejherowie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11800" y="1979640"/>
            <a:ext cx="3328920" cy="2162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11800" y="4316400"/>
            <a:ext cx="332892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7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Czas trwania akcji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22240" y="1807920"/>
            <a:ext cx="385776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99284c"/>
                </a:solidFill>
                <a:latin typeface="Arial"/>
              </a:rPr>
              <a:t>Akcja 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99284c"/>
                </a:solidFill>
                <a:latin typeface="Arial"/>
              </a:rPr>
              <a:t>„</a:t>
            </a:r>
            <a:r>
              <a:rPr b="0" lang="pl-PL" sz="2600" spc="-1" strike="noStrike">
                <a:solidFill>
                  <a:srgbClr val="99284c"/>
                </a:solidFill>
                <a:latin typeface="Arial"/>
              </a:rPr>
              <a:t>Bezpieczne Miasto Hel” 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99284c"/>
                </a:solidFill>
                <a:latin typeface="Arial"/>
              </a:rPr>
              <a:t>została przeprowadzona 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99284c"/>
                </a:solidFill>
                <a:latin typeface="Arial"/>
              </a:rPr>
              <a:t>w sezonie letnim i trwała 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99284c"/>
                </a:solidFill>
                <a:latin typeface="Arial"/>
              </a:rPr>
              <a:t>od 29 czerwca 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99284c"/>
                </a:solidFill>
                <a:latin typeface="Arial"/>
              </a:rPr>
              <a:t>do 31 sierpnia 2008 roku. </a:t>
            </a:r>
            <a:endParaRPr b="0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23040" y="230976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7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rzebieg Prac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00000" y="2325600"/>
            <a:ext cx="37800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Czas pracy punktu: soboty   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i niedziele w godz. od 10.00 do 19.00</a:t>
            </a:r>
            <a:r>
              <a:rPr b="0" lang="en-US" sz="2200" spc="-1" strike="noStrike">
                <a:solidFill>
                  <a:srgbClr val="99284c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284c"/>
                </a:solidFill>
                <a:latin typeface="Arial"/>
              </a:rPr>
              <a:t>Resuscytacje krążeniowo-oddechową przećwiczyło 375 osób,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284c"/>
                </a:solidFill>
                <a:latin typeface="Arial"/>
              </a:rPr>
              <a:t>Ciśnienie zmierzono 1 816 osobom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284c"/>
                </a:solidFill>
                <a:latin typeface="Arial"/>
              </a:rPr>
              <a:t>Poziom cukru we krwi zmierzono 1 675,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80000" y="1979640"/>
            <a:ext cx="3240000" cy="2136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592600" y="4319640"/>
            <a:ext cx="322740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7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rzebieg prac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01520" y="2516040"/>
            <a:ext cx="367812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Pierwszej pomocy udzielono 8 osobom,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Resuscytację krążeniowo-oddechową ćwiczono średnio co 25 minut,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Ciśnienie mierzono średnio co 5 minut,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99284c"/>
                </a:solidFill>
                <a:latin typeface="Arial"/>
              </a:rPr>
              <a:t>Poziom cukru we krwi mierzono średnio co 5,5 minuty.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41960" y="2519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72072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Jakie środki zostały przeznaczone na akcję „Bezpieczne Miasto Hel”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2240" y="2182320"/>
            <a:ext cx="841536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Urząd Miasta Helu przeznaczył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 akcję kwotę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wysokości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99284c"/>
                </a:solidFill>
                <a:latin typeface="Arial"/>
              </a:rPr>
              <a:t>10 280,68 PLN 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olski Projekt 400 Mias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979640"/>
            <a:ext cx="4680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lski Projekt 400 Miast (w skrócie PP400M) jest jednym z największych programów profilaktyki chorób sercowo-naczyniowych w Europie.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59280" y="2189160"/>
            <a:ext cx="3122640" cy="411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olski Projekt 400 Mias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068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Ogólne cele Polskiego Projektu 400 Miast: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* podniesienie świadomości zdrowotnej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* propagowanie zachowań zdrowotnych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* zwiększenie poziomu edukacji zdrowotnej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* osiągnięcie poprawy stanu zdrowia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olski Projekt 400 Mias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068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rojekt w całości był finansowany ze środków Ministerstwa Zdrowia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ramach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rodowego Programu Profilaktyki Chorób Sercowo-Naczyniowych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LKARD 2006–2008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olski Projekt 400 Mias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88600" y="1993680"/>
            <a:ext cx="841068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Kto zajmował się projektem w mieście Hel?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W projekt zaangażowanych było bezposrednio 5 osób.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Koordynator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99284c"/>
                </a:solidFill>
                <a:latin typeface="Arial"/>
              </a:rPr>
              <a:t>Żanna Sępińska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Lekarz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99284c"/>
                </a:solidFill>
                <a:latin typeface="Arial"/>
              </a:rPr>
              <a:t>Bogusława Borowiec-Pytel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Położna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99284c"/>
                </a:solidFill>
                <a:latin typeface="Arial"/>
              </a:rPr>
              <a:t>Izabela Żeglicz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Pielęgniarka dzieci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99284c"/>
                </a:solidFill>
                <a:latin typeface="Arial"/>
              </a:rPr>
              <a:t>Izabela Łoś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Pielęgniarka dorosłych 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99284c"/>
                </a:solidFill>
                <a:latin typeface="Arial"/>
              </a:rPr>
              <a:t>Anna Zielińska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KOŁO KOBIET Z CHOROBĄ NOWOTWOROWĄ w Helu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0360" y="2340000"/>
            <a:ext cx="8418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Urząd Miasta Helu realizował wydatki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 rzecz Koła w wysokości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99284c"/>
                </a:solidFill>
                <a:latin typeface="Arial"/>
              </a:rPr>
              <a:t>2 558,49 PLN 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43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Szczepienia przeciwgrypow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2240" y="2226960"/>
            <a:ext cx="84139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d koniec ubiegłego roku została przeprowadzona akcja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bezpłatnych szczepień przeciw grypie.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Akcja skierowana została do mieszkańców Helu, którzy ukończyli 70 rok życia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Koszty szczepień zostały pokryte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 budżetu miasta Helu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Szczepienia przeciwgrypow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212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Do współpracy zaprosiliśmy dwa zakłady opieki zdrowotnej: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ZOZ w Helu, przy ul. Wiejskiej 122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115 Szpital z Przychodnią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Mieszkańcy sami decydowali,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którym zakładzie opieki zdrowotnej poddadzą się szczepieniu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000" y="539280"/>
            <a:ext cx="918036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Jakie środki zostały przeznaczone </a:t>
            </a:r>
            <a:br>
              <a:rPr sz="4000"/>
            </a:b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a akcję szczepień przeciwgrypowych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212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Całkowity koszt przeprowadzonej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akcji szczepień wyniósł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3 000,00PLN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43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rofilaktyka chorób płuc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1809360"/>
            <a:ext cx="485928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 wniosek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ani Bogusławy Borowiec-Pytel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kryliśmy koszty profilaktycznych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badań chorób płuc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9640" y="2674800"/>
            <a:ext cx="234000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rofilaktyka chorób płuc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7880" y="1812960"/>
            <a:ext cx="84121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Mieszkańcy Helu mogli bezpłatnie wykonać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badanie RTG płuc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Kolejnym krokiem była konsultacj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 lekarzem pulmunologiem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rofilaktyka chorób płuc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212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Badania RTG płuc wykonało 75 mieszkańców naszego miasta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Całkowity koszt badań RTG wyniósł 1 800,00 PLN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i w 100% został pokryty z budżetu miasta Helu.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Badania cytologicz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7880" y="1979640"/>
            <a:ext cx="84121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 wniosek Pani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Bogusławy Borowiec-Pytel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Urząd Miasta Helu pokrył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 budżetu miasta Helu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koszty badań cytologicznych przeprowadzonych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NZOZ przy ul. Wiejskiej 122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Całkowity koszt badań wyniósł 1 080,00PLN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HELP Summer Tour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22240" y="2182320"/>
            <a:ext cx="403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 raz drugi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ostała  w Helu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rzeprowadzona akcj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„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Help dla życia bez tytoniu”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9200" y="1800360"/>
            <a:ext cx="3162240" cy="21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0880" y="4140360"/>
            <a:ext cx="3128760" cy="233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HELP Summer Tour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22240" y="2182320"/>
            <a:ext cx="403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99284c"/>
                </a:solidFill>
                <a:latin typeface="Arial"/>
              </a:rPr>
              <a:t>W dniach 24-25 lipca 2008 roku zostało przeprowadzone przedsięwzięcie walki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99284c"/>
                </a:solidFill>
                <a:latin typeface="Arial"/>
              </a:rPr>
              <a:t>z nałogiem palenia papierosów przez </a:t>
            </a:r>
            <a:r>
              <a:rPr b="0" lang="de-DE" sz="2400" spc="-1" strike="noStrike">
                <a:solidFill>
                  <a:srgbClr val="99284c"/>
                </a:solidFill>
                <a:latin typeface="Arial"/>
              </a:rPr>
              <a:t> młodych ludzi, które cieszyło się dużym zainteresowaniem</a:t>
            </a:r>
            <a:r>
              <a:rPr b="0" lang="pl-PL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99284c"/>
                </a:solidFill>
                <a:latin typeface="Arial"/>
              </a:rPr>
              <a:t>i zebrało wyłącznie pozytywne opinie.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59640" y="4319640"/>
            <a:ext cx="1800000" cy="234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34040" y="2160720"/>
            <a:ext cx="178596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HELP Summer Tour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2240" y="2182320"/>
            <a:ext cx="403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dczas wakacyjnej akcji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alki z nałogiem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alenia papierosów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ostało przebadanych 438 osób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19640" y="3060720"/>
            <a:ext cx="341964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00200"/>
            <a:ext cx="88092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a co zostały przeznaczone środki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800000"/>
            <a:ext cx="8418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artykuły biurowe (papier i tusz do drukarki)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sprzęt do rehabilitacji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usługi rehabilitacyjne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kaz oraz prelekcje nt. rehabilitacji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Środki wydatkowane na </a:t>
            </a:r>
            <a:br>
              <a:rPr sz="4000"/>
            </a:b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romocję Zdrowia w 2008 roku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212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2008 roku z budżetu miasta Helu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 Promocję Zdrowi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ostała wydatkowana kwot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wysokości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43 158,53 PLN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Mammobus w Helu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64640" y="1809360"/>
            <a:ext cx="31957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ubiegłym roku (jak, co roku)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awitał w Helu Mammobus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78400" y="2160720"/>
            <a:ext cx="4162320" cy="570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Mammobus w Helu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7880" y="1979640"/>
            <a:ext cx="84121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 bezpłatnego badania mammograficznego mogą korzystać kobiety między 50 a 69 r.ż.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które w ciągu ostatnich 2 lat nie poddawały się badaniu mammograficznemu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Badania finansuje NFZ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W Helu zostało przebadanych 39 pań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1 została skierowana na kolejne badania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arodowy Fundusz Zdrow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9280" y="2354400"/>
            <a:ext cx="431964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FZ proponuje szereg profilaktycznych badań, z których możemy korzystać bezpłatnie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197964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74412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arodowy Fundusz Zdrow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67880" y="2354400"/>
            <a:ext cx="84121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Informacje nt. badań dostępne są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 stronie internetowej NFZ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oraz plakatach.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rzekazywane są także przez infolinię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720" y="3060360"/>
            <a:ext cx="8602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Plany na rok bieżąc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Budżet na Ochronę zdrow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70040" y="1979640"/>
            <a:ext cx="8410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Rada Miasta Helu zaplanowała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budżecie miasta Helu na rok 2009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dziale 851 – Ochrona Zdrowia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kwotę 264 000,00PLN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 w/w kwoty 60 000,00 PLN przeznaczone jest na profilaktykę i promocję zdrowia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Jak zamierzamy wykorzystać przyznane środki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70040" y="2174760"/>
            <a:ext cx="8410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Program Promocji Zdrowia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„</a:t>
            </a: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Fioletowa wstążka”.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99284c"/>
                </a:solidFill>
                <a:latin typeface="Arial"/>
              </a:rPr>
              <a:t>Szczepienia przeciwko rakowi szyjki macicy, rakowi pochwy, rakowi sromu oraz brodawkom płciowym wywołanym przez wirusy HPV 6,11,16,18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99284c"/>
                </a:solidFill>
                <a:latin typeface="Arial"/>
              </a:rPr>
              <a:t>Na ten cel zostanie wydatkowana kwota 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99284c"/>
                </a:solidFill>
                <a:latin typeface="Arial"/>
              </a:rPr>
              <a:t>w wysokości 43 500,00 PLN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Jak zamierzamy wykorzystać przyznane środki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0040" y="2355840"/>
            <a:ext cx="8410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Szczepienia przeciwgrypowe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dla osób po 70 r.ż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99284c"/>
                </a:solidFill>
                <a:latin typeface="Arial"/>
              </a:rPr>
              <a:t>Na ten cel zostanie wydatkowana kwota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99284c"/>
                </a:solidFill>
                <a:latin typeface="Arial"/>
              </a:rPr>
              <a:t>w wysokości 43 500,00 PLN</a:t>
            </a:r>
            <a:endParaRPr b="0" lang="en-US" sz="28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Jak zamierzamy wykorzystać przyznane środki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1068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ozostałą kwotę – </a:t>
            </a: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10 500,00 PLN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ykorzystamy m.in. na wsparcie: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szkoły rodzenia „Bociek”, koła kobiet z choroba nowotworową, kontynuację PP400M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i inne drobne działania zmierzające do poprawy zdrowia mieszkańców Helu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700200"/>
            <a:ext cx="88092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115 Szpital Wojskowy z Przychodnią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Urząd Miasta Helu zakupił usługę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od szpitala w wysokości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99284c"/>
                </a:solidFill>
                <a:latin typeface="Arial"/>
              </a:rPr>
              <a:t>19 500,00 PLN 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112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Co dalej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20360" y="2182320"/>
            <a:ext cx="8512200" cy="46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„</a:t>
            </a: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Program Promocji Zdrowi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99284c"/>
                </a:solidFill>
                <a:latin typeface="Arial"/>
              </a:rPr>
              <a:t>na lata 2009-2019”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9960" y="5580000"/>
            <a:ext cx="85996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Dziękuję za uwagę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700200"/>
            <a:ext cx="88092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a co zostały przeznaczone środki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18 000,00 PLN – na świadczenia medyczne  dot. profilaktyki zdrowotnej dzieci i młodzieży w Helu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1 500,00 PLN – na szczepienia przeciw grypie mieszkańców Helu (pow. 70 r.ż.)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Stowarzyszenie „Promyk Nadziei”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Urząd Miasta Helu sfinansował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działania Stowarzyszenia na kwotę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w wysokości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99284c"/>
                </a:solidFill>
                <a:latin typeface="Arial"/>
              </a:rPr>
              <a:t>6 022,36 PLN 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700200"/>
            <a:ext cx="88092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a co zostały przeznaczone środki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prowadzenie zajęć rehabilitacyjnych dzieci    i młodzieży niepełnosprawnej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zakup sprzętu rehabilitacyjnego dla dzieci      i młodzieży niepełnosprawnej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ZOZ w Helu przy ul. Wiejskiej 122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Urząd Miasta Helu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Sfinansował wydatki na rzecz NZOZ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na kwotę w wysokości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99284c"/>
                </a:solidFill>
                <a:latin typeface="Arial"/>
              </a:rPr>
              <a:t>2 356,00 PLN </a:t>
            </a:r>
            <a:endParaRPr b="0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700200"/>
            <a:ext cx="88092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0" indent="0" algn="ctr">
              <a:lnSpc>
                <a:spcPct val="93000"/>
              </a:lnSpc>
              <a:buNone/>
              <a:tabLst>
                <a:tab algn="l" pos="0"/>
                <a:tab algn="l" pos="349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99284c"/>
                </a:solidFill>
                <a:latin typeface="Arial"/>
              </a:rPr>
              <a:t>Na co zostały przeznaczone środki?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20360" y="720720"/>
            <a:ext cx="84186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szczepienie przeciw grypie mieszkańców Helu (pow. 70 r.ż.)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99284c"/>
                </a:solidFill>
                <a:latin typeface="Arial"/>
              </a:rPr>
              <a:t>dla NZOZ przy ul. Wiejskiej 122 zostały zakupione testy do wykonywania badań,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Żanna Sępińska</dc:creator>
  <dc:description>Ogólna prezentacja nowego produktu z uwzględnieniem życzeń klienta</dc:description>
  <dc:language>en-US</dc:language>
  <cp:lastModifiedBy>UM-ST14</cp:lastModifiedBy>
  <dcterms:modified xsi:type="dcterms:W3CDTF">2009-03-19T09:56:59Z</dcterms:modified>
  <cp:revision>3</cp:revision>
  <dc:subject/>
  <dc:title>Prezentacja nowego produktu</dc:title>
</cp:coreProperties>
</file>