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1B5A-08B9-4239-A592-DA53F8670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A52B-B2EE-4D2C-B137-B5A946FF2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7DFD-6358-4A7D-AA41-25334BD26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D99B-2D6C-4784-8536-EBF629CF0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07CDB-8CDE-4C50-9D7F-46EFEBE0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CA895-43C6-4334-8D0B-D9B64C4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E1A5B-2AC5-446C-91F5-40C9C55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E7F29-8073-4B42-98F3-D5A96FE5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EFCF9-0D92-47EB-B2FE-ABAB517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56EC6-051F-4F6A-834D-4D7B4509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CDAF6-87D2-4CBB-9F1F-D00D59C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773C-2ACE-46C4-9596-CE5CE6EEF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B0CCD-50D1-47EF-9ED1-E3C1C75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164EC-321C-4E70-82BC-6D07C69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404FA-891E-4B92-9822-40C7FC9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D192-5D16-4EBB-8EEA-AD1B2D0D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602E3-524D-476A-A593-6964E175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F3C12-6B87-4C6C-B4C8-50B19192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DE973-B328-4F42-A096-323683A4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4D54C-A3D3-4E91-AA41-97A7548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BFA38-69D7-42EF-9E61-ECAD8BF2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8F65D-C66D-4571-8802-738A086B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F941-2F49-403F-8FE9-C790BF9020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093FF-C47C-4A88-9FDC-2B0172C0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E9952-7804-4EFE-890A-13C4B89C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FECD2-0E80-4A77-9972-0F9EF6C3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FE036-929A-4899-91B1-2D37069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CF304-BBBA-4BC6-91BE-6E467E9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24262-7659-4CB9-98A0-CF4D2C69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22A82-51D0-41BA-9F1F-1F92D7FB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4BA5B-B4AB-45B6-B09E-53BA015E3A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D009E-02DA-44CA-A797-0494B50F77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9BFB7-2840-46DD-9C02-407A33CBF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5F28-F13F-4926-A2D2-378BED126E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A21AE-4096-4DEB-8429-1DA293938B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60F61-2FA7-4E47-A291-D37F4C52E6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B2EE1-4CF3-4630-BAE5-72E9255F4D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7600A-4360-46FF-95B4-21B10DCE74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33ED4-3ACC-4F6A-8432-29DA190A22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28F54-1303-4706-B8B6-69DBCBDCE6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A7FEB-6BB9-40AC-95F7-371F844B76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8A173-AA03-43D0-8FE7-E45A60363F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8986E-0CD9-4C44-BA41-E9BF718885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946B-8FDF-4C20-AC9B-B2FE24CA9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8DB1-3F2D-42E2-8202-D5F0A24476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F6C8-2139-4842-9956-CDED88D0136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A7CD-E3DF-4897-AC0D-6DAA29FA4FD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070B-D452-47C1-B398-1AA4B82D367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18EB-6021-4921-A58C-1C19C4E2A5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E188-E413-4911-B5E5-D2B4D3145D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9EB0-5D8C-4A08-A01C-807DB6C79D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D41E-DFD6-4197-BD65-8800A1499C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D77C-5190-469B-9674-ADA722092E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F1BEB-3C90-42A5-9EBE-C01C6B23A9D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DFF0-B197-4012-B63D-F0DAF3058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0972-E44B-497B-8CC1-989B71535D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3C99B-0C21-4A9F-8745-8125075CB4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9EB4E-2465-4C74-950A-6FD8742768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ED90C-C379-4B29-A442-59FBA40D998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4020F-B0E3-4DD2-BCB9-2AF2C32414F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1D091-F106-461A-8297-E048A051C2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AD49F-9784-4E5A-9A1A-FF449EF021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92843-27E7-416B-AB16-7CD04A6B8D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E9B2A-FA22-416F-A81D-98D997651C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EB964-79DF-4277-A512-3E7CADBB5C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4B02D-0DF3-4816-A89B-E98B8D49D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74D0-24E9-40FF-A9CE-84AAF8355C4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171E2-9129-419A-996E-FDED18F8F6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A9C3B-82CD-4462-907E-EDC62B1F78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82DBA-F4B8-4A64-9EEC-DBABC212B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2DE7-0A11-42E4-A633-1F81A6C84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CD73-D4DD-4FEA-884F-654F5C1E7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450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l, 29 stycznia 2009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172000" y="6436800"/>
            <a:ext cx="900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0123-4208-4C5A-A9DA-C69D3CF8B08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AE18-C7C9-4750-B5C3-3B15E80CFE2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 , 29 styczeń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10"/>
          </p:nvPr>
        </p:nvSpPr>
        <p:spPr>
          <a:xfrm>
            <a:off x="8234280" y="6436800"/>
            <a:ext cx="828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CF7B-5A4A-4DDA-A156-1B8EC0BFCC0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ftr" idx="11"/>
          </p:nvPr>
        </p:nvSpPr>
        <p:spPr>
          <a:xfrm>
            <a:off x="3124080" y="6450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l, 29 stycznia 2009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Num" idx="12"/>
          </p:nvPr>
        </p:nvSpPr>
        <p:spPr>
          <a:xfrm>
            <a:off x="8172000" y="6436800"/>
            <a:ext cx="900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ftr" idx="13"/>
          </p:nvPr>
        </p:nvSpPr>
        <p:spPr>
          <a:xfrm>
            <a:off x="3124080" y="6450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, 29 stycznia 2009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14"/>
          </p:nvPr>
        </p:nvSpPr>
        <p:spPr>
          <a:xfrm>
            <a:off x="8176680" y="6436800"/>
            <a:ext cx="900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1333-3EB0-46CE-B92C-36BAA21A2A8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ole tekstowe 3"/>
          <p:cNvSpPr/>
          <p:nvPr/>
        </p:nvSpPr>
        <p:spPr>
          <a:xfrm>
            <a:off x="714240" y="1285920"/>
            <a:ext cx="785844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  <a:effectLst>
            <a:outerShdw dist="1267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OSOBOWA MIESZKAŃCÓW HEL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rostokąt 1"/>
          <p:cNvSpPr/>
          <p:nvPr/>
        </p:nvSpPr>
        <p:spPr>
          <a:xfrm>
            <a:off x="285840" y="111240"/>
            <a:ext cx="871524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 DZIECI WEDŁUG ROKU UPRAWNIAJĄCEGO DO PRZEDSZK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Wykres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8688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rostokąt 1"/>
          <p:cNvSpPr/>
          <p:nvPr/>
        </p:nvSpPr>
        <p:spPr>
          <a:xfrm>
            <a:off x="687240" y="111240"/>
            <a:ext cx="778680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 DZIECI WEDŁUG ROKU ROZPOCZĘCIA SZKOŁ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Wykres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8688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ole tekstowe 1"/>
          <p:cNvSpPr/>
          <p:nvPr/>
        </p:nvSpPr>
        <p:spPr>
          <a:xfrm>
            <a:off x="1785960" y="2143080"/>
            <a:ext cx="5429160" cy="21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8909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ĘKUJĘ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UWAGĘ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rostokąt 3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 LUDNOŚCI MIASTA W OSTATNICH 10 LAT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Wykres 4" descr=""/>
          <p:cNvPicPr/>
          <p:nvPr/>
        </p:nvPicPr>
        <p:blipFill>
          <a:blip r:embed="rId2"/>
          <a:stretch/>
        </p:blipFill>
        <p:spPr>
          <a:xfrm>
            <a:off x="285840" y="928800"/>
            <a:ext cx="8572320" cy="5643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 LUDNOŚCI MIASTA NA DZIEŃ 31 GRUDNIA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Wykres 2"/>
          <p:cNvGraphicFramePr/>
          <p:nvPr/>
        </p:nvGraphicFramePr>
        <p:xfrm>
          <a:off x="230040" y="878040"/>
          <a:ext cx="8753760" cy="560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1" name="Wykres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040" y="878040"/>
                    <a:ext cx="8753760" cy="5600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HY LUDNOŚCI MIASTA  W 2008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Wykres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8688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STRUKTURY MIESZKAŃCÓW MIA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Wykres 2" descr=""/>
          <p:cNvPicPr/>
          <p:nvPr/>
        </p:nvPicPr>
        <p:blipFill>
          <a:blip r:embed="rId2"/>
          <a:stretch/>
        </p:blipFill>
        <p:spPr>
          <a:xfrm>
            <a:off x="214200" y="785880"/>
            <a:ext cx="8751960" cy="58579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rostokąt 1"/>
          <p:cNvSpPr/>
          <p:nvPr/>
        </p:nvSpPr>
        <p:spPr>
          <a:xfrm>
            <a:off x="228600" y="111240"/>
            <a:ext cx="868680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STRUKTURY MIESZKAŃCÓW MIAS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WEDŁUG WIE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5360" y="765000"/>
          <a:ext cx="8748720" cy="591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765000"/>
                    <a:ext cx="8748720" cy="59151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STRUKTURY MIESZKAŃCÓW MIA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Wykres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1560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rostokąt 1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STRUKTURY MIESZKAŃCÓW MIA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Wykres 3"/>
          <p:cNvGraphicFramePr/>
          <p:nvPr/>
        </p:nvGraphicFramePr>
        <p:xfrm>
          <a:off x="233280" y="878040"/>
          <a:ext cx="8677440" cy="560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" name="Wykres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878040"/>
                    <a:ext cx="8677440" cy="5600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Wykres 1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86880" cy="592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  <p:sp>
        <p:nvSpPr>
          <p:cNvPr id="255" name="Prostokąt 2"/>
          <p:cNvSpPr/>
          <p:nvPr/>
        </p:nvSpPr>
        <p:spPr>
          <a:xfrm>
            <a:off x="1303200" y="111240"/>
            <a:ext cx="6531120" cy="4284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KŁAD MIESZKAŃCÓW WEDŁUG U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20:13:56Z</dcterms:created>
  <dc:creator>Mirek</dc:creator>
  <dc:description/>
  <dc:language>en-US</dc:language>
  <cp:lastModifiedBy>UM-ST24</cp:lastModifiedBy>
  <dcterms:modified xsi:type="dcterms:W3CDTF">2009-01-26T07:12:55Z</dcterms:modified>
  <cp:revision>21</cp:revision>
  <dc:subject/>
  <dc:title>Slajd 1</dc:title>
</cp:coreProperties>
</file>