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B1E5-C306-41A6-A712-ECF094FB3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0B13-7BA1-49AA-907A-5EF7FC6BB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373C-F773-4DE5-98EC-85642B8D2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6A2B-8796-4270-9399-08868FA71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1CD10-DB75-431F-9F1A-9094C317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8A8C3-B89A-4778-B008-6E506B70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99064-9AFD-4028-8619-0E2EEC4C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83272-6644-455F-BF72-D326C205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91CC6-9E47-44FB-8F5A-16D8137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03573-DD46-4FD7-A4F0-889EE7D9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A7D72-E8B9-44AF-943A-40D15B36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801B-F411-41E6-8868-72BF26FD7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E4CE2-2484-438F-A416-EACA6DB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5C022-3BB1-42B3-89A8-7DD2184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8BACA-FF9C-4DE3-B18B-249FDB8D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0A9C4-D5AB-4558-BCC7-A6BA8F6F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EAAC5-5BFF-41A5-97C6-D790FDE9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B494C-CBFA-4405-809F-7CBBA19D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93509-8B7C-4B11-B131-608BDB6F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FDB79-31D7-4A9C-BAA5-2A1EB2CA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906C4-D684-4133-B786-A519AC3E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C2168-BA15-43F1-AA06-DAAFCD3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2954-A6B8-409B-9908-075C9A8EEE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80CDF-1ECA-49CF-B198-6E6B6DB7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AE0C5-4044-4269-B2C8-03643A0C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CC3E0-9E09-419F-B94F-CDBF552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FEC3B-DEFF-4921-AE50-E5CCD42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BE99B-0052-436C-A81A-B2579A4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C5C5D-0AD2-4785-9E53-2352C2AD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49D47-F468-43F4-A822-A938B3F6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C5E75-14B2-4719-B1F0-4448615DAA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3AC72-41DC-4A5B-8B23-F2DF88172D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AA1300-B8B6-4FE0-A02A-A0986A2BC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1658-0221-4E31-9C22-E99F75B8C7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8B36A-80AC-409F-93A1-FBFAF8E6A0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9B748-825D-4EC2-B2B8-520646CF1C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28D86-F28D-42D4-BD48-CE049EBD0D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CA10E-8AFA-46E5-84F5-DF066B4727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E103B-6258-4660-B368-128905CEDB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D68A8-92A2-44A0-92E4-F4E254FB7F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34372-F3C8-496C-A0EC-C9B8520F08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820BB-87CF-4EC6-92AC-5F53D819A8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ADA50-F984-4AC4-9B10-B12698307B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D46C1-FBE2-4D47-8AC1-AC2F1EE82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D072-7657-497C-BDCD-EC2447D398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BE565-3803-4D37-8E2A-C641B2522F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CC2AF-3372-4BE3-9E1C-EF8096CA49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5B1C-CB0D-4CDC-B8A4-E016B026E7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95CB-7757-469B-910B-AF5F0A4D82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BEE84-6D66-4959-84F9-996FC8D550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3E43-4168-4D34-9D3B-0660113491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17D3-B6F3-43A8-8117-CBE54FD659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FCD9-94DC-4BF7-853D-7B8F85FDBB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D54C-1087-4CA7-8B35-F5EBE76F84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9507A-2CA2-4E3E-8BF1-3240CFB8A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7A99-2EC2-419B-96D3-8837BAE7BBE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B4CB-E545-4C8C-A289-3E66094396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9C6A9-BAE2-4F43-A609-7C10384F62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F532B-F6C4-4D8D-8606-2157B92CB2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B5164-9D05-48EB-9C9A-73EAE5980F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975FC-DBAC-4A57-9570-12DE726BFF5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4366F-461C-43AF-8E25-B681C33BB6D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CB358-464A-4988-AFCD-F5DCFF6CDA7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40984-A246-4AA4-B44C-201500031B7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80FC4-6C3D-4ACA-9F9E-CA943C0EE02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76C18-6787-400D-BF3A-F99D5194A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8C02D-D23F-46BE-A048-A38ACB88463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2CB16-7D30-45FB-9484-66703B52DC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7BE4A-0ED1-4E00-A09F-F59C461495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A5819-14C3-4107-87C0-D1BDB676E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098F-17E2-4525-AE3D-63BF04A6D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6FB5-8DEA-48F8-8870-70B2BCEFA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450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l, 29 stycznia 2009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172000" y="6436800"/>
            <a:ext cx="900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2DFE-8A15-4472-ACA5-72CF0E1F3EB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051A-3C4E-42A3-956D-4838737205E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 , 29 styczeń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10"/>
          </p:nvPr>
        </p:nvSpPr>
        <p:spPr>
          <a:xfrm>
            <a:off x="8234280" y="6436800"/>
            <a:ext cx="828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269C-A78C-42B0-AA53-BE0EA8C1A30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ftr" idx="11"/>
          </p:nvPr>
        </p:nvSpPr>
        <p:spPr>
          <a:xfrm>
            <a:off x="3124080" y="6450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l, 29 stycznia 2009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ldNum" idx="12"/>
          </p:nvPr>
        </p:nvSpPr>
        <p:spPr>
          <a:xfrm>
            <a:off x="8172000" y="6436800"/>
            <a:ext cx="900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ftr" idx="13"/>
          </p:nvPr>
        </p:nvSpPr>
        <p:spPr>
          <a:xfrm>
            <a:off x="3124080" y="6450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, 29 stycznia 2009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14"/>
          </p:nvPr>
        </p:nvSpPr>
        <p:spPr>
          <a:xfrm>
            <a:off x="8176680" y="6436800"/>
            <a:ext cx="900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8B4A-1C31-4B8E-9573-D8C4519C5DB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ole tekstowe 3"/>
          <p:cNvSpPr/>
          <p:nvPr/>
        </p:nvSpPr>
        <p:spPr>
          <a:xfrm>
            <a:off x="714240" y="1285920"/>
            <a:ext cx="785844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  <a:effectLst>
            <a:outerShdw dist="1267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OSOBOWA MIESZKAŃCÓW HEL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rostokąt 1"/>
          <p:cNvSpPr/>
          <p:nvPr/>
        </p:nvSpPr>
        <p:spPr>
          <a:xfrm>
            <a:off x="285840" y="111240"/>
            <a:ext cx="871524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 DZIECI WEDŁUG ROKU UPRAWNIAJĄCEGO DO PRZEDSZK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Wykres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8688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rostokąt 1"/>
          <p:cNvSpPr/>
          <p:nvPr/>
        </p:nvSpPr>
        <p:spPr>
          <a:xfrm>
            <a:off x="687240" y="111240"/>
            <a:ext cx="778680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 DZIECI WEDŁUG ROKU ROZPOCZĘCIA SZKOŁ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Wykres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8688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ole tekstowe 1"/>
          <p:cNvSpPr/>
          <p:nvPr/>
        </p:nvSpPr>
        <p:spPr>
          <a:xfrm>
            <a:off x="1785960" y="2143080"/>
            <a:ext cx="5429160" cy="21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8909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ĘKUJĘ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UWAGĘ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rostokąt 3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 LUDNOŚCI MIASTA W OSTATNICH 10 LAT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Wykres 4" descr=""/>
          <p:cNvPicPr/>
          <p:nvPr/>
        </p:nvPicPr>
        <p:blipFill>
          <a:blip r:embed="rId2"/>
          <a:stretch/>
        </p:blipFill>
        <p:spPr>
          <a:xfrm>
            <a:off x="285840" y="928800"/>
            <a:ext cx="8572320" cy="5643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 LUDNOŚCI MIASTA NA DZIEŃ 31 GRUDNIA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Wykres 2"/>
          <p:cNvGraphicFramePr/>
          <p:nvPr/>
        </p:nvGraphicFramePr>
        <p:xfrm>
          <a:off x="230040" y="878040"/>
          <a:ext cx="8753760" cy="560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1" name="Wykres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040" y="878040"/>
                    <a:ext cx="8753760" cy="5600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CHY LUDNOŚCI MIASTA  W 2008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Wykres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8688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STRUKTURY MIESZKAŃCÓW MIA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Wykres 2" descr=""/>
          <p:cNvPicPr/>
          <p:nvPr/>
        </p:nvPicPr>
        <p:blipFill>
          <a:blip r:embed="rId2"/>
          <a:stretch/>
        </p:blipFill>
        <p:spPr>
          <a:xfrm>
            <a:off x="214200" y="785880"/>
            <a:ext cx="8751960" cy="58579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rostokąt 1"/>
          <p:cNvSpPr/>
          <p:nvPr/>
        </p:nvSpPr>
        <p:spPr>
          <a:xfrm>
            <a:off x="228600" y="111240"/>
            <a:ext cx="868680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STRUKTURY MIESZKAŃCÓW MIAS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WEDŁUG WIE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5360" y="765000"/>
          <a:ext cx="8748720" cy="591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765000"/>
                    <a:ext cx="8748720" cy="59151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STRUKTURY MIESZKAŃCÓW MIA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Wykres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1560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STRUKTURY MIESZKAŃCÓW MIA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Wykres 3"/>
          <p:cNvGraphicFramePr/>
          <p:nvPr/>
        </p:nvGraphicFramePr>
        <p:xfrm>
          <a:off x="233280" y="878040"/>
          <a:ext cx="8677440" cy="560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" name="Wykres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878040"/>
                    <a:ext cx="8677440" cy="5600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Wykres 1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8688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  <p:sp>
        <p:nvSpPr>
          <p:cNvPr id="255" name="Prostokąt 2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MIESZKAŃCÓW WEDŁUG U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20:13:56Z</dcterms:created>
  <dc:creator>Mirek</dc:creator>
  <dc:description/>
  <dc:language>en-US</dc:language>
  <cp:lastModifiedBy>UM-ST24</cp:lastModifiedBy>
  <dcterms:modified xsi:type="dcterms:W3CDTF">2009-01-26T07:12:55Z</dcterms:modified>
  <cp:revision>21</cp:revision>
  <dc:subject/>
  <dc:title>Slajd 1</dc:title>
</cp:coreProperties>
</file>